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05A0-F843-46AF-A30C-AC8749D1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739-1940-459F-A44F-890CABF0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A65-6266-44A7-A600-1E07A525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D3B4-B57C-46E7-B6DE-B9E70CCD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2222-A7F8-47EF-BA67-5D790540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7914-D532-4C86-9F64-4C9C75D6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886C-195C-4EFD-8BB0-6D7E4822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A005-ECE5-4BA9-9184-AAD424EE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8BFA-BDFB-47DB-BBCD-AE909252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7F1F-7F6C-4991-B4DA-2D8A2F9C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C48E-77D9-4754-BED0-975E534F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46B8-49B6-49AF-81B1-505D3F81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FC96-1296-496C-BFF3-F96595E8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FE6C-7337-4A7F-BE9E-69076929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5E78-9482-478F-9B5D-E1788748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1281-86BB-4A51-A3C0-E10C01B3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84C4-185E-49A5-B121-AC62A4CF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25D1-6020-4933-A696-5808605F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9013-6116-499E-AEBD-EA60AA34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A39-5295-4CF2-93A0-C766090C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018-F055-4DAA-8E3E-BB0BE9A4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B0C3-E751-4197-8966-0BC8589B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335D-1CA6-400D-9270-12F56E1C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339-8149-4374-AC73-6D723DC1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8D96-D066-4FD5-9982-043BA02AA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4B5E-4004-4512-8ECA-36497A176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mplex.hu/ceginfo.php" TargetMode="External"/><Relationship Id="rId2" Type="http://schemas.openxmlformats.org/officeDocument/2006/relationships/hyperlink" Target="http://www.complex.hu/ceginfo.php" TargetMode="External"/><Relationship Id="rId3" Type="http://schemas.openxmlformats.org/officeDocument/2006/relationships/hyperlink" Target="http://www.complex.hu/ceginfo.php" TargetMode="External"/><Relationship Id="rId4" Type="http://schemas.openxmlformats.org/officeDocument/2006/relationships/hyperlink" Target="http://www.complex.hu/ceginfo.php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 Black"/>
              </a:rPr>
              <a:t>A KÖZGAZDASÁGI SZAKIRODALOM FELDERÍTÉSÉRE ÉS ELÉRÉSÉRE ALKALMAS ADATBÁZISOK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8080"/>
                </a:solidFill>
                <a:latin typeface="Arial Black"/>
              </a:rPr>
              <a:t>1. ECONLIT</a:t>
            </a:r>
            <a:br>
              <a:rPr sz="3200"/>
            </a:br>
            <a:r>
              <a:rPr b="0" lang="hu-HU" sz="3200" spc="-1" strike="noStrike">
                <a:solidFill>
                  <a:srgbClr val="008080"/>
                </a:solidFill>
                <a:latin typeface="Arial Black"/>
              </a:rPr>
              <a:t>	</a:t>
            </a:r>
            <a:r>
              <a:rPr b="0" lang="hu-HU" sz="2800" spc="-1" strike="noStrike">
                <a:solidFill>
                  <a:srgbClr val="008080"/>
                </a:solidFill>
                <a:latin typeface="Arial Black"/>
              </a:rPr>
              <a:t>(Cambridge Scientific Abstracts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A világ közgazdasági szakirodalmának válogatott bibliográfiája 1969-től napjainkig, amelyet az Amerikai Közgazdasági Társaság Journal of Economic Literature (JEL) és az „Index of Economic Literature” c. kiadványaiból állítanak össze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Áttekintést nyújt több mint 400 folyóirat, valamint gyűjteményes művek, könyvek, könyvismertetések, előadások, doktori értekezések, a Cambridge University Press gazdasági témájú konferenciaanyagának alapján a nemzetközi szakirodalomról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A közgazdaságtan, üzlet, pénzügy, ipar és statisztika területén megjelent legfontosabb publikációk bibliográfiai adatai mellett teljes szövegükkel tartalmaz könyvismertetéseket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A feltárt irodalom döntő többsége angol nyelvű vagy angol nyelvű ismertetés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 Black"/>
              </a:rPr>
              <a:t>2. ABI/INFORM Global</a:t>
            </a:r>
            <a:br>
              <a:rPr sz="3200"/>
            </a:br>
            <a:r>
              <a:rPr b="0" lang="en-US" sz="3200" spc="-1" strike="noStrike">
                <a:solidFill>
                  <a:srgbClr val="008080"/>
                </a:solidFill>
                <a:latin typeface="Arial Black"/>
              </a:rPr>
              <a:t>(Pécsről nem érhető e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gol nyelvű adatbázis, mely gazdasági, pénzügyi, üzleti, marketing, management, reklám, humánpolitikai és még további témakörökben 1800 folyóirat cikkeit tartalmazza rövid ismertetésekkel és mutatókkal ellátva 1970-től napjainkig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feldolgozott források egy részének cikkei és tanulmányai teljes szövegükkel is megtekinthetők. Az adatbázis több mint 60.000 vállalattal kapcsolatban is tartalmaz információkat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eldolgozott dokumentumok: kézikönyvek, cikkek, tanulmányok, könyvismertetések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66"/>
                </a:solidFill>
                <a:latin typeface="Arial Black"/>
              </a:rPr>
              <a:t>III. RELEVÁNS MAGYAR ADATBÁZISOK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KSH – STAD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OGYK – PRESSDO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OGYK – HUNDO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OGYK – VPI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OSZK – HUMANU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ME – MATARK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CEGFURKESZ.HU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CEGNYILVANTARTO.HU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COMPLEX CÉGHÍREK - </a:t>
            </a:r>
            <a:r>
              <a:rPr b="0" lang="hu-HU" sz="28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http://</a:t>
            </a:r>
            <a:r>
              <a:rPr b="0" lang="hu-HU" sz="2800" spc="-1" strike="noStrike" u="sng">
                <a:solidFill>
                  <a:srgbClr val="ccccff"/>
                </a:solidFill>
                <a:uFillTx/>
                <a:latin typeface="Arial Black"/>
                <a:hlinkClick r:id="rId2"/>
              </a:rPr>
              <a:t>www.complex.hu</a:t>
            </a:r>
            <a:r>
              <a:rPr b="0" lang="hu-HU" sz="2800" spc="-1" strike="noStrike" u="sng">
                <a:solidFill>
                  <a:srgbClr val="ccccff"/>
                </a:solidFill>
                <a:uFillTx/>
                <a:latin typeface="Arial Black"/>
                <a:hlinkClick r:id="rId3"/>
              </a:rPr>
              <a:t>/</a:t>
            </a:r>
            <a:r>
              <a:rPr b="0" lang="hu-HU" sz="2800" spc="-1" strike="noStrike" u="sng">
                <a:solidFill>
                  <a:srgbClr val="ccccff"/>
                </a:solidFill>
                <a:uFillTx/>
                <a:latin typeface="Arial Black"/>
                <a:hlinkClick r:id="rId4"/>
              </a:rPr>
              <a:t>ceginfo.php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FELADATOK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Garamond"/>
              </a:rPr>
              <a:t>A kínai gazdaság hatásai a világgazdaságra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Garamond"/>
              </a:rPr>
              <a:t>Migrációs folyamatok Európában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Garamond"/>
              </a:rPr>
              <a:t>A kínai lakosság migrációja Európába 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Garamond"/>
              </a:rPr>
              <a:t>Magyarország a nemzetközi vándorlási folyamatokban 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Garamond"/>
              </a:rPr>
              <a:t>A gazdaság fejlesztésére irányuló EU-s támogatások hatékonysága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Garamond"/>
              </a:rPr>
              <a:t>A monetáris politika szerepe Magyarországon a pénzügyi válság kezelésében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Garamond"/>
              </a:rPr>
              <a:t>Az állam és piac kapcsolata Magyarországon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Garamond"/>
              </a:rPr>
              <a:t>Az euróövezet bővítése és euróbevezetési stratégiák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Garamond"/>
              </a:rPr>
              <a:t>A schumpeteri „teremtő rombolás" módjai az infokommunikációs iparban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Garamond"/>
              </a:rPr>
              <a:t>A globális gazdasági válság (2008-2009) hatása Kelet- és Közép-Európában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66"/>
                </a:solidFill>
                <a:latin typeface="Arial Black"/>
              </a:rPr>
              <a:t>I. ÁLTALÁNOS GYŰJTŐKÖRŰ ADATBÁZISOK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buClr>
                <a:srgbClr val="00808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 Black"/>
              </a:rPr>
              <a:t>ACADEMIC SEARCH COMPLETE</a:t>
            </a:r>
            <a:br>
              <a:rPr sz="2800"/>
            </a:br>
            <a:r>
              <a:rPr b="0" lang="en-US" sz="2800" spc="-1" strike="noStrike">
                <a:solidFill>
                  <a:srgbClr val="008080"/>
                </a:solidFill>
                <a:latin typeface="Arial Black"/>
              </a:rPr>
              <a:t>(EBSCO-HOST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legátfogóbb, tudományos igényű, multidiszciplináris teljes szövegű adatbázisa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Közel 6000 teljes szövegű periodikumot tartalmaz, több mint 5030 lektorált folyóiratot beleértve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teljes szövegeken kívül több mint 9900 folyóirat és összesen több mint 10 400 kiadvány, köztük monográfiák, beszámolók és konferencia-előadások stb. indexelését és referátumait foglalja magában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z adatbázis PDF tartalma 1887-ig nyúlik vissza, és a teljes szövegű anyagok többsége kereshető PDF formátumban van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 Black"/>
              </a:rPr>
              <a:t>2. BUSINESS SOURCE PREMIER</a:t>
            </a:r>
            <a:br>
              <a:rPr sz="3200"/>
            </a:br>
            <a:r>
              <a:rPr b="0" lang="en-US" sz="3200" spc="-1" strike="noStrike">
                <a:solidFill>
                  <a:srgbClr val="008080"/>
                </a:solidFill>
                <a:latin typeface="Arial Black"/>
              </a:rPr>
              <a:t>(EBSCO-HOST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menedzsment, a gazdaságtudományok, a pénzügy, a könyvelés, a nemzetközi vállalkozás és a marketing területeit fedi le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BSP-ben megtalálhatók az Economist Intelligence Unit (EIU), a Global Insight, az ICON Group és a CountryWatch országok szerinti gazdasági jelentései is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z adatbázis több , mint 4000 folyóirat cikkeit referálja és indexeli, ebből közel 3300 folyóirat teljes szöveggel szerepel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BSP tartalmazza a Regional Business News adatbázist is, amely átfogó, teljes szövegű válogatást nyújt 75 amerikai városi és regionális üzleti napilapból és folyóiratból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8080"/>
                </a:solidFill>
                <a:latin typeface="Arial Black"/>
              </a:rPr>
              <a:t>3. </a:t>
            </a:r>
            <a:r>
              <a:rPr b="0" lang="en-US" sz="3200" spc="-1" strike="noStrike">
                <a:solidFill>
                  <a:srgbClr val="008080"/>
                </a:solidFill>
                <a:latin typeface="Arial Black"/>
              </a:rPr>
              <a:t>CENTRAL AND EASTERN EUROPEAN ONLINE LIBRAR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Black"/>
              </a:rPr>
              <a:t>A C.E.E.O.L. egy olyan on-line arcívum, ahol 371, a bölcsészeti és társadalomtudományok területét felölelő, full text-es PDF állományú folyóirat és digitalizált dokumentum található, Kelet-, Közép- és Dél-európai témákról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Arial Black"/>
              </a:rPr>
              <a:t>4.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8080"/>
                </a:solidFill>
                <a:latin typeface="Arial Black"/>
              </a:rPr>
              <a:t>JSTOR ADATBÁZI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JStor teljes szövegű folyóirat-adatbázis, melynek két multidiszciplináris gyűjteménye az Arts and Sciences I. és III. érhető el a PTE tartományaiból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JSTOR adatbázis kibővült az Arts and Sciences II. multidiszciplináris gyűjteményével, ami további 124 retrospektív folyóirathoz enged hozzáférést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z adatbázis retrospektív jellegű, kurrens számok nincsenek, a kiadókkal történt szerződéskötés alapján, a folyóiratok teljes szövege csak 3-5 évvel a megjelenést követően kerülhet be az adatbázisba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8080"/>
                </a:solidFill>
                <a:latin typeface="Arial Black"/>
              </a:rPr>
              <a:t>5. SPRINGERLINK</a:t>
            </a:r>
            <a:br>
              <a:rPr sz="3200"/>
            </a:br>
            <a:r>
              <a:rPr b="0" lang="hu-HU" sz="3200" spc="-1" strike="noStrike">
                <a:solidFill>
                  <a:srgbClr val="008080"/>
                </a:solidFill>
                <a:latin typeface="Arial Black"/>
              </a:rPr>
              <a:t>(Springer Verlag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Black"/>
              </a:rPr>
              <a:t>Jelenleg </a:t>
            </a:r>
            <a:r>
              <a:rPr b="1" lang="hu-HU" sz="1800" spc="-1" strike="noStrike">
                <a:solidFill>
                  <a:srgbClr val="ffffff"/>
                </a:solidFill>
                <a:latin typeface="Arial Black"/>
              </a:rPr>
              <a:t>közel 2500 </a:t>
            </a:r>
            <a:r>
              <a:rPr b="0" lang="hu-HU" sz="1800" spc="-1" strike="noStrike">
                <a:solidFill>
                  <a:srgbClr val="ffffff"/>
                </a:solidFill>
                <a:latin typeface="Arial Black"/>
              </a:rPr>
              <a:t>különböző folyóiratot tartalmaz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Black"/>
              </a:rPr>
              <a:t>A tartalomjegyzékek, abstract-ok ingyenesen hozzáférhetőek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Black"/>
              </a:rPr>
              <a:t>A teljes szövegű cikkekhez csak a nyomtatott verzió előfizetői férhetnek hozzá.</a:t>
            </a: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 u="sng">
                <a:solidFill>
                  <a:srgbClr val="ffffff"/>
                </a:solidFill>
                <a:uFillTx/>
                <a:latin typeface="Arial Black"/>
              </a:rPr>
              <a:t>Felosztása</a:t>
            </a:r>
            <a:r>
              <a:rPr b="0" lang="hu-HU" sz="1900" spc="-1" strike="noStrike">
                <a:solidFill>
                  <a:srgbClr val="ffffff"/>
                </a:solidFill>
                <a:latin typeface="Arial Black"/>
              </a:rPr>
              <a:t>: </a:t>
            </a: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Online Libraries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online folyóiratok, könyvek, könyvsorozatok, Springer Expert Systems, szoftverek.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life sciences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chemical sciences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geosciences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computer science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mathematics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medicine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physics &amp; astronomy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engineering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environmental sciences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law 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 Black"/>
              </a:rPr>
              <a:t>economics</a:t>
            </a:r>
            <a:r>
              <a:rPr b="0" lang="hu-HU" sz="1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 Black"/>
              </a:rPr>
              <a:t>6. WEB OF SCIENCE</a:t>
            </a:r>
            <a:br>
              <a:rPr sz="3200"/>
            </a:br>
            <a:r>
              <a:rPr b="0" lang="en-US" sz="3200" spc="-1" strike="noStrike">
                <a:solidFill>
                  <a:srgbClr val="008080"/>
                </a:solidFill>
                <a:latin typeface="Arial Black"/>
              </a:rPr>
              <a:t>(ISI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66"/>
                </a:solidFill>
                <a:latin typeface="Arial Black"/>
              </a:rPr>
              <a:t>Arts &amp; Humanities Citation Index –</a:t>
            </a:r>
            <a:r>
              <a:rPr b="1" lang="hu-HU" sz="2400" spc="-1" strike="noStrike">
                <a:solidFill>
                  <a:srgbClr val="ffffff"/>
                </a:solidFill>
                <a:latin typeface="Arial Black"/>
              </a:rPr>
              <a:t> bölcsészettudományi és művészeti index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 25 kategóriában, 1140 teljes folyóirat anyaga + a vonatkozó cikkek 7000 társadalomtudományi és tudományos folyóiratból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66"/>
                </a:solidFill>
                <a:latin typeface="Arial Black"/>
              </a:rPr>
              <a:t>Science Citation Index Expanded &amp; SciSearch</a:t>
            </a:r>
            <a:r>
              <a:rPr b="1" lang="hu-HU" sz="2400" spc="-1" strike="noStrike">
                <a:solidFill>
                  <a:srgbClr val="ffffff"/>
                </a:solidFill>
                <a:latin typeface="Arial Black"/>
              </a:rPr>
              <a:t> – természet- és műszaki tudományos index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 160 tudományterület, 5800 akadémiai és alkalmazott műszaki tudományos dokumentum, ebből 140 könyv a többi folyóirat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66"/>
                </a:solidFill>
                <a:latin typeface="Arial Black"/>
              </a:rPr>
              <a:t>Social Sciences Citation Index &amp; Social SciSearch</a:t>
            </a:r>
            <a:r>
              <a:rPr b="1" lang="hu-HU" sz="2400" spc="-1" strike="noStrike">
                <a:solidFill>
                  <a:srgbClr val="ffffff"/>
                </a:solidFill>
                <a:latin typeface="Arial Black"/>
              </a:rPr>
              <a:t> – társadalomtudományi Index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 55 kategóriában, 1700 folyóirat teljes anyaga + 5700 vonatkozó cikk a vezető tudományos és műszaki folyóiratokból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66"/>
                </a:solidFill>
                <a:latin typeface="Arial Black"/>
              </a:rPr>
              <a:t>II. KÖZGAZDASÁGI SZAKADATBÁZISOK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pos Anna Magdolna</cp:lastModifiedBy>
  <dcterms:modified xsi:type="dcterms:W3CDTF">2011-03-29T12:16:4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