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4A94-181A-4E13-849A-B9FC26F1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D25E-10CC-4B77-A3D4-7A397168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5D3E-E0FB-4665-AC38-D9CF60C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1F6B-7837-4DD0-96F5-9608D300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656-82B0-4A9B-8FC3-74EB4702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42DE-C6E1-4E96-AAB1-8433ACF6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87A-1C49-4CBC-A836-17DC3FD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554B-7336-4C37-B092-98D3157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4170-AB59-450A-B8B9-9A5C65F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A510-93CD-4F92-8419-0D2F862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03D4-D0E6-4BD7-85D8-CA01541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2054-D3CF-45EC-B9B3-C837919E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7B49-FB0B-473E-A2E4-FE963A1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364-DE49-4C1B-AD5F-E303304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6E86-61D4-4AFA-91E2-35AA7D7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6C48-9EB7-41FB-A913-CB39BAA1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8B9-9EBA-428B-A36D-E45DC0A8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A548-4789-44EE-A7C8-E813FF87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96AE-F2CC-423F-901B-A170149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61B5-7BBE-4871-BABA-4527652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7E98-FE7E-4751-9490-E35131D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631F-6E70-4C69-ABE1-0DE1CE9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2E63-DDBC-473D-92AB-940F7F0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4923-DC39-4915-B91C-A95BD55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0177-756F-40BA-8C07-699B7F07C44E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7FD0-E173-4B21-BAE7-C96CA4752BAF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ur-lex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prelex" TargetMode="External"/><Relationship Id="rId2" Type="http://schemas.openxmlformats.org/officeDocument/2006/relationships/hyperlink" Target="http://www.europarl.eu.int/oei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uria.europa.eu/jcms/jcms/j_6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uropa.eu/documents/registers/index_en.htm" TargetMode="External"/><Relationship Id="rId2" Type="http://schemas.openxmlformats.org/officeDocument/2006/relationships/hyperlink" Target="http://europa.eu/documentation/order-publications/databases-subject/index_hu.htm" TargetMode="External"/><Relationship Id="rId3" Type="http://schemas.openxmlformats.org/officeDocument/2006/relationships/hyperlink" Target="http://europa.eu/documentation/order-publications/databases-subject/index_hu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-justice.europa.eu/home.do?action=home&amp;plang=hu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a.lu/mce.cfm" TargetMode="External"/><Relationship Id="rId2" Type="http://schemas.openxmlformats.org/officeDocument/2006/relationships/hyperlink" Target="http://aei.pitt.edu/" TargetMode="External"/><Relationship Id="rId3" Type="http://schemas.openxmlformats.org/officeDocument/2006/relationships/hyperlink" Target="http://archidok.uni-mannheim.de/en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hyperlink" Target="http://epp.eurostat.ec.europa.eu/portal/page/portal/eurostat/home/" TargetMode="External"/><Relationship Id="rId3" Type="http://schemas.openxmlformats.org/officeDocument/2006/relationships/hyperlink" Target="http://europa.eu/rapid/" TargetMode="External"/><Relationship Id="rId4" Type="http://schemas.openxmlformats.org/officeDocument/2006/relationships/hyperlink" Target="http://europa.eu/legislation_summaries/index.htm" TargetMode="External"/><Relationship Id="rId5" Type="http://schemas.openxmlformats.org/officeDocument/2006/relationships/hyperlink" Target="http://ec.europa.eu/public_opinion/index_en.htm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e5e5ff"/>
                </a:solidFill>
                <a:latin typeface="Garamond"/>
              </a:rPr>
              <a:t>Az Európai Unió joga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oliny Esz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írói joggyakorl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sá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rvénysz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zszolgálati Törvénysz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őzetes döntéshoza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rződésszegési / mulasztási / semmisség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Lisszabon (2009. december 1.) előtti jogforráso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özös kül- és biztonság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általános elvekről és iránymutatásokról szóló 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straté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üttes fellépé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állás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állásfoglalá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üttes nyilatk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üntetőjogi és igazságügyi együttműköd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özös állás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et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táro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égrehajtó intézkedé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gyez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ogforrási rendszer sajátosság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vatalos nyelvek (23 + H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erarchia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ivatkoz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Európai Unió Hivatalos Lap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= Közlöny: hiteles szöv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alamennyi hivatalos nyel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bb soroz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 - Legislat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 - Communicat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A - álláshirdetés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E – EP jegyzőkönyv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 - Közbeszerzése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ülönkiadás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Hivatalos kiadványok mé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talános jelentés az Európai Unió tevékenységeirő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letin of the European Un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s jogszabály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-LEX – az EU valamennyi jogforrása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ur-lex.europa.eu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Döntéshozatali folyamat adatbázis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RELEX – az Európai Bizottság adatbázisa a döntéshozatali folyamatról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c.europa.eu/prel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EIL – az Európai Parlament adatbázisa a döntéshozatali folyamatról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uroparl.eu.int/oe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Európai Bírósági Határozatok Tára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 Az Európai Bíróság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I Az Elsőfokú Bíróság (Törvényszék)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A A Bíróság személyzeti ügyekben hozott határozat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 Bírósá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Joggyakorlat külön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ovábbi keresési lehet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gfrissebb információk, ad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curia.europa.eu/jcms/jcms/j_6/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ntézmények adatbázis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lső, előkészítő dokumentumok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europa.eu/documents/registers/index_en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bázisok téma szerint 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europa.eu/documentation/order-publications/databases-subject/index_hu.ht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urópai Uni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közi szervez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52, 1957, 1992,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: sui generis – szupranacionali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zvetlenül alkalmazható jogszabály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sőbbség / primá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agállamoktól független intézm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Önálló bevétel a költségvetés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íróság kötelező jogható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ősített többségi döntéshoza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-jus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e-justice.europa.eu/home.do?action=home&amp;plang=hu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Az európai igazságügyi portál a tervek szerint a jövőben átfogó elektronikus ügyfélkapuként fog működni az igazságügy területé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Első lépésként a 22 nyelven olvasható portál azt a célt szolgálja, hogy EU-szerte megkönnyítse az igazságügyi rendszerekkel kapcsolatos információkeresést és az igazságszolgáltatáshoz való hozzáférést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 hivatalos adatbázi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uropean Navigator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ena.lu/mce.cf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ve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European Integratio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aei.pitt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DZ – ArchiDok</a:t>
            </a:r>
            <a:br>
              <a:rPr sz="3200"/>
            </a:br>
            <a:r>
              <a:rPr b="0" lang="hu-H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archidok.uni-mannheim.de/en/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 jogi adatbázisok, honlap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pa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uropa.eu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STAT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epp.eurostat.ec.europa.eu/portal/page/portal/eurostat/home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APID – híre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europa.eu/rapid/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CADPLUS – szabályozott területekről összefoglaló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http://europa.eu/legislation_summaries/index.htm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BAROMETER – közvéleménykutatások </a:t>
            </a:r>
            <a:r>
              <a:rPr b="0" lang="hu-H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http://ec.europa.eu/public_opinion/index_en.htm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atalógu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 Bookshop http://bookshop.europa.eu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CLAS – az Európai Bizottság könyvtárárnak katalógusa http://ec.europa.eu/eclas/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uria – a Bíróság könyvtárának katalógusa http://bib-curia.eu/client/default/rw$003d0$0026ln$003den_US$002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ópai Unió archívumai (levéltárak) http://europa.eu/documentation/archives/index_hu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opean University Institute http://biblio.eui.eu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ibliográfiá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ópai Bíróság könyvtá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al bibliography of European integration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, évente, 2001-től teljes szövege az EU Bookshop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rszággyűlési Könyvtá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álogatott bibliográfia az európajog tanulmányozásához / Ádám Anta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Pécs : PTE ÁJK,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Uniós tájékoztató hálózat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 Letéti Könyvtá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Dokumentációs Központ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vonal http://www.euvonal.hu/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 Közkönyvtári háló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ope Dir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ontact Centre 00 800 6 7 8 9 10 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nformációs irod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eam Eur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pecializált hálózatok – kiadvány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érdése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Javasolt ismétlő / ellenőrző kérdések a blog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ntézmények, szerv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izott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Parl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aná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Taná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Unió Bíró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ámvevőszé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Központi Ba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mbuds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azdasági és Szociális Bizott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égiók Bizottság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urópai Beruházási Ba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gynökség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Döntéshozat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izottság kezdeménye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arlament és Tanács együtt dö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, Bizottság (Tanács) végrehaj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ság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i bíróságok értelmez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5353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ogforrá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sődlege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zetközi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ásodlago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írói joggyakorl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isszabon (2009. december 1.) előtti jogfor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lsődleges j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lapító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ódosító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satlakozási szerződ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Íratlan elsődleges j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Általános jogelv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mberi jog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emzetközi szerződ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 köt szerződéseket harmadik államokkal, más nemzetközi szervezet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 egymással kötött szerződés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den tagállam benne v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em minden tagáll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államok harmadik államokkal, más nemzetközi szervezetekkel kötött szerződés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ásodlagos j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ende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rányel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táro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jánl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élemé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Felhatalmazáson alapul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Végrehaj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ui generis határo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Állásfoglal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zlemé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6:23:44Z</dcterms:created>
  <dc:creator>karoliny</dc:creator>
  <dc:description/>
  <dc:language>en-US</dc:language>
  <cp:lastModifiedBy>Karoliny</cp:lastModifiedBy>
  <dcterms:modified xsi:type="dcterms:W3CDTF">2013-03-08T14:49:32Z</dcterms:modified>
  <cp:revision>49</cp:revision>
  <dc:subject/>
  <dc:title>1. dia</dc:title>
</cp:coreProperties>
</file>