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45A-6A35-4547-80D4-9608E8F8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A3B-5DCB-47F0-BE54-2E3FC5F9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A60-6DC5-49C9-8F7E-0CE17F9A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DE7-5159-49E2-AEC8-9E58CA46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DBC2-C1C4-42CB-ACD7-2BEBCFA5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2986-4D5F-4622-BA17-5EE34DEF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E9D9-3551-4508-B582-B19D6226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2256-7513-4D5C-838A-345B7824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B616-D9B0-4061-9557-651EF360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B8B9-766D-4DE5-973D-0C4A0165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2CEF-A138-4D32-93A4-6EF0A74B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CCE-AE38-4A10-881A-CF746A0F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08BF-C112-4D3D-8263-CB4A143A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D03E-D259-4F55-AE20-E77FBD9A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5F09-E6EF-40AC-A0DB-73AFEBD7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0ECD-808F-4B2C-9C62-35DE883F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40DC-B732-4FAB-A167-ECE55DBD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588-8047-477E-A639-B6CBE89E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2FE-B881-488C-B6C5-55BD9635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543-46F2-41AF-9959-5D9D8EC6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7EF-37B8-4D76-8B40-EB8CCF9D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6AD-FDF9-4A94-9727-B8728EC1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CA1B-8F47-4157-A3CC-D86EC456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8C4-BB4E-44C9-BDB0-E2AD74DA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186C-91A7-4C77-B2B9-1A8369F3EF0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73D5-B9D9-4CCB-9163-B51C9EE44B6F}" type="slidenum">
              <a:rPr b="0" lang="hu-H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jogtajekoztatas.livejournal.com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000000"/>
                </a:solidFill>
                <a:latin typeface="Arial"/>
              </a:rPr>
              <a:t>Jogi szaktájékoztatá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aroliny Esz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arolinyEszter@aol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, jogtudomány rendszer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rendszer – jogágakra boml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Állam- és jogtudomány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ltalá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lam és jog rendszere mint egé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gaz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lam és jog részterüle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Általános állam- és jogtudományo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- és állambölcse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Állam- és jogtörté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Összehasonlító 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ágak, jogterületek – ágazati jogtudományo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85560" y="1904760"/>
            <a:ext cx="7248600" cy="45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ág: jogszabályok csoportja (nemze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tudomány-ág: nézetek, fogalmak rendszere (nemzetköz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ágak megkülönbözteté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abályozás tárg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agánj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özj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abályozás módsz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nyagi j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laki jog (eljárásjo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Közjo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Állam, közérdekű ügy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Nemzetközi köz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U köz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lkotmány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özigazgatási 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Büntető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Büntető eljárás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Magánjo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agántulajdon és erre alapuló jogviszony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olgári j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emélyek joga, dologi jog, kötelmi jog, öröklési jog, szellemi alkotások joga, társasági j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olgári eljárásj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emzetközi magánj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Családj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unkaj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azdasági j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Új jogágak, jogterülete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-257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Új társadalmi – technikai jelenségekhez kapcsolódna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Verseny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örnyezetvédelmi 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Orvosi 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édia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nfokommunikációs 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nergia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grár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8000" y="26028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ágakon belü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Általános rés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ülönös rés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Kapcsolódó tudományok, segédtudományo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13920" y="1714680"/>
            <a:ext cx="764388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alkotástan, jogtechn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riminológ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riminaliszt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gazságügyi statiszt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gazságügyi orvos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szociológ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i informat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i retor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Kapcsolódó tudományo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213920" y="1714680"/>
            <a:ext cx="764388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Pszichológ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t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Vallástudomány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örténettudomá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Politikatudomány, politológ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iplom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ociológ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Gazdaságtudomány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forráso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ogyan keletkezik a jo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okás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Bírói 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örvényi, rendeleti jogalkot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Arial"/>
              </a:rPr>
              <a:t>Közgazdasági és jogtudományi szaktájékoztatá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aktárgyi bevezető előadás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lmé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Gyakorl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i kultúrák, jogcsaládo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tudomány rendsz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alkotás / jogalkalmaz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i oktatás, jogászi szakmá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Kontinentális (római-germán) jogcsalá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Római jogi alap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odifikáció – általános jogszabály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Bíró csak értelme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Common law jogcsalá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Bírói jog - precedensj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quity (~méltányossá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Írott jog erősödő szerepe, de felülírható lehet bírói jog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Más jogcsaládo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ocialista jogcsalá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Vallási jogcsalá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radicionális jogcsalá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KÉRDÉS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71400" y="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i kutatási módszerek 1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28480" y="1142640"/>
            <a:ext cx="74293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it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nem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incs kísérlet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incs innováció, feltalá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itka a felfedezé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héz „újat” mond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talában nincs közvetlen ráhatás a jogalkotóra / ritka a jogalkalmazó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kább hosszú, mint rövid távú következ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it lehe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Valamikor, valahol)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létező (vagy hiányzó) jogi jelen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ek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ársadalmi következményei vagy ok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jogelméle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reakciói, magyaráz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Újszerű látásmód, elem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áltozáso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öve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i kutatási módszerek 2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28440" y="1643040"/>
            <a:ext cx="760572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ágak, új jogterületek fejlődé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"sportjog" művelésének helyzete és aktuális kérdés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történet, egyes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jogintézmények történ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dalékok a nemi erkölcs elleni bűncselekmények Csemegi-kódex előtti történetéh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írósági / közigazgatási gyakorlat (és kritiká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pénzügyi lízingszerződés a bírói gyakorlat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Tudósítás az Európai Bíróság előtti Cartesio ügyrő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i kutatási módszerek 3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391520" cy="47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i jelenségek elemzése (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rendszerben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nemzetközi jog használata az Alkotmány értelmezéséné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z országos népszavazás egyes tiltott tárgyköreirő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alkotási javaslat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jogalkotási törvény felülvizsgálatáró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közigazgatási bírságolás eredménytelenségérő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jog válaszai egyes új társadalmi, technológiai jelenségek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biotechnológia fejlődésének aktuális kérdései a szellemi alkotások joga szám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i kutatási módszerek 4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8840" y="1904760"/>
            <a:ext cx="7105680" cy="45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ülföldi jog bemutatása,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jogösszehasonlít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választott bíró megválasztása és kizárása az angol jogb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Tárgyalás-előkészítő eljárások skandináv modelljei polgári ügyek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közvetlen demokrácia Magyarországon és Németországba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elmélet, jogfilozóf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halálbüntetés filozófiája és kortárs jogelméleti kérdés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ihilizmus és formalizmus a jogi modernitás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i kutatási módszerek 5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ászu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De lege 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De lege fer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Számonkéré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özgazdasággal együt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tudományi „szakirodalom” sajátossága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i szaknyelv – precizit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lentős különbség a szakirodalom és a mindennapi, jogi témákat feldolgozó újságírás köz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emzeti meghatározottsá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i kultúra befoly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yelvi, fordítási problém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dőbeli  meghatározottság, változékonyság – gyors avul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itelessé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agy mennyisé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i műfajo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6840" y="1642680"/>
            <a:ext cx="717732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anköny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gyzetek, tansegédletek, szakvizsga felkészítő köny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éziköny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i szótára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ommentá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ratmintatá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mlékkönyvek (Festschrif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i karok, tanszékek periodiká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Laikusoknak magyarázat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atáreset: bűncselekmények leírása, visszaemlékezés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i műfajok 2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57160" y="1785600"/>
            <a:ext cx="767736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szabályok közlé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zlö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tályos Jogszabályok Gyűjtemén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örvények és Rendeletek Hivatalos Gyűjtemén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es jogszabál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áltozásmutat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írósági határozatok közlé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öntvénytá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lyóir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aw report, Law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Könyv-, folyóiratkiadá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28840" y="1714320"/>
            <a:ext cx="7105680" cy="430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ktív, régóta jelentős mennyiség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onos könyv számos kiadást érhet me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etemek kiadási tevékenysége jelentő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es jogi karokon más-más tankönyvek azonos témábó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elentős része csak a magyarországi piacra készü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Könyv-, folyóiratkiadá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28840" y="1714320"/>
            <a:ext cx="7105680" cy="430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Complex (volt KJ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vgora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kadémiai Kiadó, M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Osiris Kiad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Dialóg Camp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Novotni Alapítvá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Pólay Elemér Alapítvá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i kar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Könyv-, folyóiratkiadá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28840" y="1714320"/>
            <a:ext cx="7105680" cy="430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i karok, egyetemi kiad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x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am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out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uropa Law Publ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o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ashö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Szaktájékoztatá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5560" y="1500120"/>
            <a:ext cx="724860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g)hallgatók, diák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gi dokumentumok, szakirodal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ász (vagy nem jogász) kutat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es jelenségek szabály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földi jog, jogese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bázisok használata, szakirodal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akorló jogász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krét jogi problémára vonatkozó jogforrások – azonn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i problémával küzdő állampolgá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oldás ügyes-bajos dolgaik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Friss kutatási eredmények, szakmai vitá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Új jogszabály, módosítás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lkotmánybíróság döntés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Új jelenségek jogi szabályoz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-demok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erzői jogok, Internet, letöl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ológiai és orvostudományi, -technikai fejlőd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rnyezetvéd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roriz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ó szabályozás, dereguláci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KÉRDÉS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Tematik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evezetés. Jogtudom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i kutatás. A jogi szaktájékozta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ézmények, információforr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gyar jog. Jogforrási rends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szabályok keres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akirodalom, bibliográfiák, adatbázi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gyar jog. Történeti jog, bírósági gyakor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Tematik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ás államok jog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zetközi jog, nemzetközi szerveze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zetközi joganyagok keres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akirodalom, bibliográfiák, adatbázi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urópai Unió. Jogforrási rends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niós dokumentumok keres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akirodalom bibliográfiák, adatbázi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Kérdések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aroliny Esz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arolinyEszter@aol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jogtajekoztatas.livejournal.com/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Ajánlott irodalom - jo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3000" y="157140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Szabadon választott Jogi alaptan v. jogi ismeretek köny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 magyar jogi információszolgáltatás forrásai és eszköze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 külföldi jogi információszolgáltatás forrásai és eszköze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 magyar jogrendszer szerkeze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Útmutató az európai uniós dokumentum-nyilvántartások használatáho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Útmutató az Európai Unió hivatalos dokumentumaiho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ffective legal resear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Legal research : how to find &amp; understand the la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inführung in die juristische Arbeitstechnik : Klausuren, Haus- und Seminararbeiten, Dissert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Méthodologie de la recherche en droit : master et doctor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Mai alkalommal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, jogtudom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ogal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endsz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pcsolódó és segédtudomán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források, jogi kultúr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i kuta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i szakirodal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aktájékozta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 aktuális kérdés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Arial"/>
              </a:rPr>
              <a:t>Jog, jogtudomány fogal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85560" y="1905120"/>
            <a:ext cx="7248600" cy="459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ársadalmi normák, magatartási szabályok összessé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lyen még: szokás, erkölcs, vallási szabályok, illem, technikai előí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eletkezése állami szervekhez kötőd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dott társadalomban kötelez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rvényesülését az állam kényszerrel biztosít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...e normákat vizsgáló tudományá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lanyi jog – tárgyi j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30:23Z</dcterms:created>
  <dc:creator>karoliny</dc:creator>
  <dc:description/>
  <dc:language>en-US</dc:language>
  <cp:lastModifiedBy>Karoliny</cp:lastModifiedBy>
  <dcterms:modified xsi:type="dcterms:W3CDTF">2013-03-07T12:56:58Z</dcterms:modified>
  <cp:revision>94</cp:revision>
  <dc:subject/>
  <dc:title>Jogi szaktájékoztatás</dc:title>
</cp:coreProperties>
</file>