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DCDC-F8C8-4F2B-99A9-6AE27CE0D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5A0D-8E92-4848-BAB2-4818C889B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33F7-FD9E-4B93-B0FF-3EDC08B5A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38FC-5647-4078-9A82-EECC3A41E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483F-41F8-4BEE-9A78-F9F6FAC76D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3BB69-B782-49D6-9DE1-80966346A2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1F4CA-E113-4FA7-9356-0FCF761FF8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1B52-F6E7-4967-B630-A52F110871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6093-45D0-462D-B8C0-4D45277CB5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816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6B94-883A-4CA4-AF96-D10DBBF3C0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11B89-18B5-4990-AC13-4D56D70DDE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0E39-1275-4DC5-A9E6-E13245365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C1EBA-21F4-4917-8B27-2E0854C304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0741-DF8B-4DD2-96A2-F62AB1DB8C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12E0-719E-40AA-B941-43F74B429D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EB356-87F7-4A7B-8F1E-2A34824553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9F81D-CCC7-4F3B-87AD-8E9D162D3D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4E3-7942-477F-8018-190AA57B17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040-A098-497B-9729-0CD6C2F477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6CF-0695-47C6-8154-AB65C23399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DE7-F012-477E-A32C-264F375843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F4D-8376-4218-AAFF-DC11B36A8B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8B7E-4D62-49F6-810B-E64EE81974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816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7B2-A15E-4EC8-B113-2D0A9EE941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31A-B395-477C-8772-517D47015D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B47-2765-4FB5-AE42-397CB7711E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6E2-22CB-4210-A365-735601E92C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7B9-2198-4962-A221-622F0F1426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82D-69D7-4FFB-9D2A-B9D113F61B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35D-FEAF-44B6-A32F-1BCDC5641E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D1BE5-4BAD-4F8B-95D3-F93F4E8621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40ACA-3DBA-47C5-AF04-3D1FEFD50D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B9EE1-47E9-440C-9874-8A47180E0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DA8B-CF79-460D-A66B-9F8C5A4402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4972D-8F32-4689-9C7E-1E8A146EE3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B841B-3CF0-48A3-91A5-DF584AF20C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816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E64FE-70A6-40E6-876C-2CF1F24BCE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49230-BF47-46DE-A58E-AEDB67C63F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A5066-EFEF-479F-BDF7-E110031E51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1DFE7-CF7B-43A7-8F4B-8100DAB457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1B30B-E2B8-41B4-AAF6-F1A0118345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94447-DAFA-40C4-9547-2DBC5CC9CF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CDE82-998C-4AB1-BFA9-A9966D20E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2AF2-ED1A-403D-BB11-F59E7E0A0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816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FF5C-C181-4663-9BA4-8BD56EE8F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AB94-E654-4F21-9071-C7E55553E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35FE-F117-47F2-B291-293151A8E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9CA9-8ABE-4D1B-9B53-30095BC79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zabadkézi sokszög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Szabadkézi sokszög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Szabadkézi sokszög 5"/>
          <p:cNvSpPr/>
          <p:nvPr/>
        </p:nvSpPr>
        <p:spPr>
          <a:xfrm>
            <a:off x="457200" y="6356520"/>
            <a:ext cx="213372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Szabadkézi sokszög 6"/>
          <p:cNvSpPr/>
          <p:nvPr/>
        </p:nvSpPr>
        <p:spPr>
          <a:xfrm>
            <a:off x="2666880" y="6356520"/>
            <a:ext cx="335304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  <a:defRPr b="0" lang="hu-HU" sz="2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193DF68-9220-45E0-ABDD-4BE9C0BB7F6B}" type="slidenum">
              <a:rPr b="0" lang="hu-HU" sz="2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Csoportba foglalás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Csoportba foglalás 9"/>
            <p:cNvGrpSpPr/>
            <p:nvPr/>
          </p:nvGrpSpPr>
          <p:grpSpPr>
            <a:xfrm>
              <a:off x="-18720" y="203040"/>
              <a:ext cx="9161640" cy="648000"/>
              <a:chOff x="-18720" y="203040"/>
              <a:chExt cx="9161640" cy="648000"/>
            </a:xfrm>
          </p:grpSpPr>
          <p:pic>
            <p:nvPicPr>
              <p:cNvPr id="9" name="Kép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Szabadkézi sokszög 11"/>
              <p:cNvSpPr/>
              <p:nvPr/>
            </p:nvSpPr>
            <p:spPr>
              <a:xfrm rot="180000">
                <a:off x="-18720" y="479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Csoportba foglalás 12"/>
            <p:cNvGrpSpPr/>
            <p:nvPr/>
          </p:nvGrpSpPr>
          <p:grpSpPr>
            <a:xfrm>
              <a:off x="-19080" y="247680"/>
              <a:ext cx="9181080" cy="565200"/>
              <a:chOff x="-19080" y="247680"/>
              <a:chExt cx="9181080" cy="565200"/>
            </a:xfrm>
          </p:grpSpPr>
          <p:pic>
            <p:nvPicPr>
              <p:cNvPr id="12" name="Kép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Szabadkézi sokszög 14"/>
              <p:cNvSpPr/>
              <p:nvPr/>
            </p:nvSpPr>
            <p:spPr>
              <a:xfrm rot="180000">
                <a:off x="-19080" y="523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zabadkézi sokszög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zabadkézi sokszög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Csoportba foglalás 3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Csoportba foglalás 4"/>
            <p:cNvGrpSpPr/>
            <p:nvPr/>
          </p:nvGrpSpPr>
          <p:grpSpPr>
            <a:xfrm>
              <a:off x="-18720" y="203040"/>
              <a:ext cx="9161640" cy="648000"/>
              <a:chOff x="-18720" y="203040"/>
              <a:chExt cx="9161640" cy="648000"/>
            </a:xfrm>
          </p:grpSpPr>
          <p:pic>
            <p:nvPicPr>
              <p:cNvPr id="54" name="Kép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Szabadkézi sokszög 6"/>
              <p:cNvSpPr/>
              <p:nvPr/>
            </p:nvSpPr>
            <p:spPr>
              <a:xfrm rot="180000">
                <a:off x="-18720" y="479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Csoportba foglalás 7"/>
            <p:cNvGrpSpPr/>
            <p:nvPr/>
          </p:nvGrpSpPr>
          <p:grpSpPr>
            <a:xfrm>
              <a:off x="-19080" y="247680"/>
              <a:ext cx="9181080" cy="565200"/>
              <a:chOff x="-19080" y="247680"/>
              <a:chExt cx="9181080" cy="565200"/>
            </a:xfrm>
          </p:grpSpPr>
          <p:pic>
            <p:nvPicPr>
              <p:cNvPr id="57" name="Kép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Szabadkézi sokszög 9"/>
              <p:cNvSpPr/>
              <p:nvPr/>
            </p:nvSpPr>
            <p:spPr>
              <a:xfrm rot="180000">
                <a:off x="-19080" y="523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Szabadkézi sokszög 12"/>
          <p:cNvSpPr/>
          <p:nvPr/>
        </p:nvSpPr>
        <p:spPr>
          <a:xfrm>
            <a:off x="457200" y="6356520"/>
            <a:ext cx="213372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zabadkézi sokszög 13"/>
          <p:cNvSpPr/>
          <p:nvPr/>
        </p:nvSpPr>
        <p:spPr>
          <a:xfrm>
            <a:off x="2666880" y="6356520"/>
            <a:ext cx="335304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13CD-E506-43DB-AA5B-DF5553B69628}" type="slidenum">
              <a:rPr b="0" lang="hu-H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abadkézi sokszög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zabadkézi sokszög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Csoportba foglalás 3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Csoportba foglalás 4"/>
            <p:cNvGrpSpPr/>
            <p:nvPr/>
          </p:nvGrpSpPr>
          <p:grpSpPr>
            <a:xfrm>
              <a:off x="-18720" y="203040"/>
              <a:ext cx="9161640" cy="648000"/>
              <a:chOff x="-18720" y="203040"/>
              <a:chExt cx="9161640" cy="648000"/>
            </a:xfrm>
          </p:grpSpPr>
          <p:pic>
            <p:nvPicPr>
              <p:cNvPr id="104" name="Kép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Szabadkézi sokszög 6"/>
              <p:cNvSpPr/>
              <p:nvPr/>
            </p:nvSpPr>
            <p:spPr>
              <a:xfrm rot="180000">
                <a:off x="-18720" y="479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Csoportba foglalás 7"/>
            <p:cNvGrpSpPr/>
            <p:nvPr/>
          </p:nvGrpSpPr>
          <p:grpSpPr>
            <a:xfrm>
              <a:off x="-19080" y="247680"/>
              <a:ext cx="9181080" cy="565200"/>
              <a:chOff x="-19080" y="247680"/>
              <a:chExt cx="9181080" cy="565200"/>
            </a:xfrm>
          </p:grpSpPr>
          <p:pic>
            <p:nvPicPr>
              <p:cNvPr id="107" name="Kép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Szabadkézi sokszög 9"/>
              <p:cNvSpPr/>
              <p:nvPr/>
            </p:nvSpPr>
            <p:spPr>
              <a:xfrm rot="180000">
                <a:off x="-19080" y="523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Szabadkézi sokszög 12"/>
          <p:cNvSpPr/>
          <p:nvPr/>
        </p:nvSpPr>
        <p:spPr>
          <a:xfrm>
            <a:off x="457200" y="6356520"/>
            <a:ext cx="213372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zabadkézi sokszög 13"/>
          <p:cNvSpPr/>
          <p:nvPr/>
        </p:nvSpPr>
        <p:spPr>
          <a:xfrm>
            <a:off x="2666880" y="6356520"/>
            <a:ext cx="335304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F4F1-6942-4CFE-B732-F87E370F51F4}" type="slidenum">
              <a:rPr b="0" lang="hu-H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zabadkézi sokszög 1"/>
          <p:cNvSpPr/>
          <p:nvPr/>
        </p:nvSpPr>
        <p:spPr>
          <a:xfrm flipV="1" rot="21180000">
            <a:off x="3164040" y="110592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zabadkézi sokszög 2"/>
          <p:cNvSpPr/>
          <p:nvPr/>
        </p:nvSpPr>
        <p:spPr>
          <a:xfrm flipV="1" rot="21180000">
            <a:off x="8002080" y="5358960"/>
            <a:ext cx="155880" cy="155520"/>
          </a:xfrm>
          <a:custGeom>
            <a:avLst/>
            <a:gdLst>
              <a:gd name="textAreaLeft" fmla="*/ 13680 w 155880"/>
              <a:gd name="textAreaRight" fmla="*/ 91800 w 155880"/>
              <a:gd name="textAreaTop" fmla="*/ 91440 h 155520"/>
              <a:gd name="textAreaBottom" fmla="*/ 1418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zabadkézi sokszög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zabadkézi sokszög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Szabadkézi sokszög 7"/>
          <p:cNvSpPr/>
          <p:nvPr/>
        </p:nvSpPr>
        <p:spPr>
          <a:xfrm>
            <a:off x="457200" y="6356520"/>
            <a:ext cx="213372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zabadkézi sokszög 8"/>
          <p:cNvSpPr/>
          <p:nvPr/>
        </p:nvSpPr>
        <p:spPr>
          <a:xfrm>
            <a:off x="2666880" y="6356520"/>
            <a:ext cx="335304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E5D1-6B1B-4B36-8F01-7E28526F9324}" type="slidenum">
              <a:rPr b="0" lang="hu-H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kereses.magyarorszag.hu/jogszabalykereso" TargetMode="External"/><Relationship Id="rId2" Type="http://schemas.openxmlformats.org/officeDocument/2006/relationships/hyperlink" Target="http://www.njt.hu/njt.php?kereses" TargetMode="External"/><Relationship Id="rId3" Type="http://schemas.openxmlformats.org/officeDocument/2006/relationships/hyperlink" Target="http://kozlony.magyarorszag.hu/" TargetMode="External"/><Relationship Id="rId4" Type="http://schemas.openxmlformats.org/officeDocument/2006/relationships/hyperlink" Target="http://www.kozlonyok.hu/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arlament.hu/internet/plsql/internet_irom" TargetMode="External"/><Relationship Id="rId2" Type="http://schemas.openxmlformats.org/officeDocument/2006/relationships/hyperlink" Target="http://www.parlament.hu/internet/plsql/internet_irom" TargetMode="External"/><Relationship Id="rId3" Type="http://schemas.openxmlformats.org/officeDocument/2006/relationships/hyperlink" Target="http://www.parlament.hu/internet/plsql/internet_naplo" TargetMode="External"/><Relationship Id="rId4" Type="http://schemas.openxmlformats.org/officeDocument/2006/relationships/hyperlink" Target="http://www.parlament.hu/internet/plsql/internet_naplo" TargetMode="External"/><Relationship Id="rId5" Type="http://schemas.openxmlformats.org/officeDocument/2006/relationships/hyperlink" Target="http://mpgy.ogyk.hu/" TargetMode="Externa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Csoportba foglalás 1"/>
          <p:cNvGrpSpPr/>
          <p:nvPr/>
        </p:nvGrpSpPr>
        <p:grpSpPr>
          <a:xfrm>
            <a:off x="530280" y="1365120"/>
            <a:ext cx="8308800" cy="1901880"/>
            <a:chOff x="530280" y="1365120"/>
            <a:chExt cx="8308800" cy="1901880"/>
          </a:xfrm>
        </p:grpSpPr>
        <p:pic>
          <p:nvPicPr>
            <p:cNvPr id="196" name="Kép 2" descr=""/>
            <p:cNvPicPr/>
            <p:nvPr/>
          </p:nvPicPr>
          <p:blipFill>
            <a:blip r:embed="rId1"/>
            <a:stretch/>
          </p:blipFill>
          <p:spPr>
            <a:xfrm>
              <a:off x="530280" y="1365120"/>
              <a:ext cx="830880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Szabadkézi sokszög 3"/>
            <p:cNvSpPr/>
            <p:nvPr/>
          </p:nvSpPr>
          <p:spPr>
            <a:xfrm>
              <a:off x="530280" y="1365120"/>
              <a:ext cx="8308800" cy="19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Szabadkézi sokszög 4"/>
          <p:cNvSpPr/>
          <p:nvPr/>
        </p:nvSpPr>
        <p:spPr>
          <a:xfrm>
            <a:off x="533520" y="3228840"/>
            <a:ext cx="7854840" cy="1752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ogforrások, jogi dokumentumok keresése, szakirodal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Karoliny Esz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Jogszabályok jelölés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örvé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a kihirdetés évével és római sorszámm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1990. évi LXV. tv. a helyi önkormányzatokró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ormányrendel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folyó arab sorszám, a kihirdetés éve, zárójelben a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kihirdetés dátuma, ezután a Korm. r. rövidíté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147/1994. (XI. 17.) Korm. r. a belügyminiszter feladat és hatáskörérő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iniszteri rendel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a kormányrendelethez hasonlóan, azzal, hogy a minisztérium hivatalos rövidítésére utalni kell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11/2004. (III. 30.) IM r. a jogi segítő díjazásáró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Ha több miniszter közösen ad ki rendeletet első helyen a kiadásért fő felelőst, utána a többi abc-be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nstantia"/>
                <a:ea typeface="SimSun"/>
              </a:rPr>
              <a:t>9/2003. (V. 6.) IM-BM-PM er. a személyes költségmentesség alkalmazásáról a büntetőeljárásba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Jogszabályok „működése”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„</a:t>
            </a:r>
            <a:r>
              <a:rPr b="1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lap” jogszabá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1959. évi IV. törvény a Polgári Törvénykönyvrő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Közlönyállapo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ódosító jogszabály(o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1989. évi X. törvény a Polgári Törvénykönyvről szóló 1959. évi IV. törvény módosításáró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1990. évi I. törvény a Polgári Törvénykönyv egyes rendelkezéseinek módosításáró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2000. évi LXXXVIII. törvény a Polgári Törvénykönyv módosításáró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öbbször módosított […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Új jogszabá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2009. évi CXX. törvény a Polgári Törvénykönyvrő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2010. évi LXXIII. Törvény a Polgári Törvénykönyvről szóló 2009. évi CXX. törvény hatályba nem lépéséről, valamint az ezzel összefüggő törvénymódosításokró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2013. évi V. törvény a Polgári Törvénykönyvrő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Jogszabályok „működése”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„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lap” jogszabá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1987. évi XI. törvény a jogalkotásró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Közlönyálla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ódosító jogszabály(o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1991. évi LIX. törvény a jogalkotásról szóló 1987. évi XI. törvény kiegészítésérő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egsemmisíte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  <a:ea typeface="SimSun"/>
              </a:rPr>
              <a:t>121/2009. (XII. 17.) AB határo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Új jogszabá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2010. évi CXXX. törvény a jogalkotásró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Jogszabályok belülrő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zámozott paragrafusok (cikkek) 2.§., 3/A.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Számozott bekezdések (1) b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Constantia"/>
                <a:ea typeface="SimSun"/>
              </a:rPr>
              <a:t>a. , b., c., felsoroláso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reambul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Általános rendelkezések (definíció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Záró rendelkezések (hatályba lépés, más jogszabályokat módosító rendelkezése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elléklet(e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ivatalos forrás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omtat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ktronik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em hivatalos és kereskedelmi kiadvány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omtat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ktronik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2010. évi CXXX. törvény a jogalkotásró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2005. évi XC. törvény az elektronikus információszabadságról (már nem hatályo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4617b"/>
                </a:solidFill>
                <a:latin typeface="Calibri"/>
                <a:ea typeface="Arial Unicode MS"/>
              </a:rPr>
              <a:t>Jogszabályok közzététele – hozzáférés a jogszabályokhoz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Magyar Közlön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önkormányzati rendeletek kivételével a jogszabál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Alkotmánybíróság azon határozatai és végzései, amelyeknek a Magyar Közlönyben való közzétételét jogszabály vagy az Alkotmánybíróság elrendel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jogegységi határoz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Országos Választási Bizottság állásfoglalá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Országgyűlés, a köztársasági elnök, a Kormány, a miniszterelnök és az Országos Választási Bizottság határoz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miniszterek azon határozatai, amelyeknek hivatalos lapban való közzétételét jogszabály elrendeli vagy a miniszter kezdeménye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Nyomtatott hivatalos kiadvány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özlöny.inf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ivatalos Értesítő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67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sto MT"/>
              </a:rPr>
              <a:t>utasítások és jogi iránymutatás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67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sto MT"/>
              </a:rPr>
              <a:t>egyes közlemény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Tárcaközlönyö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lkotmánybíróság Határozata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Önkormányzatok hivatalos lapja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Régebben: Határozatok Tára, st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sto MT"/>
              </a:rPr>
              <a:t>Hatályos Magyar Törvények és Rendelete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67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sto MT"/>
              </a:rPr>
              <a:t>2010-től, a legfontosabb jogszabályok egységes szerkezetb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Nyomtatott hivatalos kiadványok 2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Törvények és Rendeletek Hivatalos Gyűjtemény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év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Hatályos Jogszabályok Gyűjtemény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ötévente, később cserélhető la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Az Alkotmánybírság Határozata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év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„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Retrospektív” nyomtatott hivatalos kiadvány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9640" y="1916280"/>
            <a:ext cx="822816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tályos Jogszabályok Elektronikus Gyűjteménye és Nemzeti Jogszabálytá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ff"/>
                </a:solidFill>
                <a:uFillTx/>
                <a:latin typeface="Constantia"/>
                <a:hlinkClick r:id="rId1"/>
              </a:rPr>
              <a:t>https://kereses.magyarorszag.hu/jogszabalykereso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ff"/>
                </a:solidFill>
                <a:uFillTx/>
                <a:latin typeface="Constantia"/>
                <a:hlinkClick r:id="rId2"/>
              </a:rPr>
              <a:t>http://www.njt.hu/njt.php?kerese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özlönyök elektronikus publikáció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ff"/>
                </a:solidFill>
                <a:uFillTx/>
                <a:latin typeface="Constantia"/>
                <a:hlinkClick r:id="rId3"/>
              </a:rPr>
              <a:t>http://kozlony.magyarorszag.hu/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ff"/>
                </a:solidFill>
                <a:uFillTx/>
                <a:latin typeface="Constantia"/>
                <a:hlinkClick r:id="rId4"/>
              </a:rPr>
              <a:t>http://www.kozlonyok.hu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ivatalos Jogszabálytár CD / DV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4440" indent="-33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ivatalos adatbázis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ódexp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gyes jogszabályokat tartalmazó kiadvány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ommentár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Gyűjteménye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Kereskedelmi nyomtatott kiadvány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Részletek: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agyar jogforrási rendsz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Jogszabályokat tartalmazó nyomtatott kiadványo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datbázisok, honlapo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eresé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agyar jogi szakirodal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Bibliográfiák, adatbázisok, keresé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Országgyűlés honlapj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6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Irományok </a:t>
            </a:r>
            <a:r>
              <a:rPr b="0" lang="hu-HU" sz="2400" spc="-1" strike="noStrike" u="sng">
                <a:solidFill>
                  <a:srgbClr val="0000ff"/>
                </a:solidFill>
                <a:uFillTx/>
                <a:latin typeface="Calisto MT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0000ff"/>
                </a:solidFill>
                <a:uFillTx/>
                <a:latin typeface="Calisto MT"/>
                <a:hlinkClick r:id="rId2"/>
              </a:rPr>
              <a:t>www.parlament.hu/internet/plsql/internet_irom</a:t>
            </a: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6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Napló </a:t>
            </a:r>
            <a:r>
              <a:rPr b="0" lang="hu-HU" sz="2400" spc="-1" strike="noStrike" u="sng">
                <a:solidFill>
                  <a:srgbClr val="0000ff"/>
                </a:solidFill>
                <a:uFillTx/>
                <a:latin typeface="Calisto MT"/>
                <a:hlinkClick r:id="rId3"/>
              </a:rPr>
              <a:t>http://</a:t>
            </a:r>
            <a:r>
              <a:rPr b="0" lang="hu-HU" sz="2400" spc="-1" strike="noStrike" u="sng">
                <a:solidFill>
                  <a:srgbClr val="0000ff"/>
                </a:solidFill>
                <a:uFillTx/>
                <a:latin typeface="Calisto MT"/>
                <a:hlinkClick r:id="rId4"/>
              </a:rPr>
              <a:t>www.parlament.hu/internet/plsql/internet_na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6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Történeti irományok és naplók </a:t>
            </a:r>
            <a:r>
              <a:rPr b="0" lang="hu-HU" sz="2400" spc="-1" strike="noStrike" u="sng">
                <a:solidFill>
                  <a:srgbClr val="0000ff"/>
                </a:solidFill>
                <a:uFillTx/>
                <a:latin typeface="Calisto MT"/>
                <a:hlinkClick r:id="rId5"/>
              </a:rPr>
              <a:t>http://mpgy.ogyk.hu</a:t>
            </a:r>
            <a:r>
              <a:rPr b="0" lang="hu-HU" sz="2400" spc="-1" strike="noStrike">
                <a:solidFill>
                  <a:srgbClr val="000000"/>
                </a:solidFill>
                <a:latin typeface="Calisto MT"/>
              </a:rPr>
              <a:t>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Jogszabályok gyűjteménye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Közlönyállapotok http://www.complex.hu/external.php?url=3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Complex DVD Jogtár és Webjogtá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Optijus http://www.optijus.hu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FigyelőNet http://www.fn.hu/torvenytar/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Nem hivatalos és kereskedelmi adatbázis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yomtatott kiadvány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omplex DVD Jogtár Iratmintatá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Letölthető iratmintá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Iratmintá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agyar jogi lexikon hat kötetben / szerk. Márkus Budapest : Pallas Irodalmi és Nyomdai Részvénytársaság, 1898-190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Jogi lexikon / főszerk. Lamm Vanda. – Budapest : CompLex, 200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Jogi fogalomtár / Hargitai József. – Budapest : Magyar Hivatalos Közlönykiadó, 200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akirodalo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Állam- és jogtudományi bibliográfia = Bibliographia juridica Hungarica / összeáll. Nagy Lajos. – Bp. : Közgazd. és Jogi K., 1957-7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magyar állam- és jogtudományi irodalom bibliográfiája. – Budapest : Országgyűlési Könyvtár, 1980-199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agyar Jogi Adatbázis (OGY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ülföldi Jogi Adatbázis (OGY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omplex DVD Jogtár Magyar Jogi Bibliográfia és Európai Jogi Bibliográf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Bibliográfiá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ibliography of Hungarian legal literature, 1945-1965 / edited by Lajos Nagy. – Budapest : Akadémiai Kiadó, 196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ibliography of Hungarian legal literature, 1945-1980 / ed. by Lajos Nagy. – Budapest : Akad. K., 198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etven év magánjogi irodalma : A magyar magánjog bibliográfiája 1861-1930 / szerk. Ujlaki Miklós. – Budapest : Grill Károly Könyvkiadóvállalata, 193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Öt év magánjogi irodalma : A magyar magánjog bibliográfiája 1930-1934 / összeáll. Ujlaki Miklós. – Budapest : Grill, 193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Retrospektív bibliográfiá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ibliográfia az Országgyűlés működéséről http://www.parlament.hu/fotitkar/bibliogr_mukodes.ht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OGYK által készített egyéb bibliográfiá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Jogi Karok oktatói bibliográfiá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önyvtári katalógus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www.ogyk.h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Repertórium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Jogtudományi Közlöny, Belügyi Szemle st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akbibliográfiák, egyes jogterület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ATAR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UMAN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OSZ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ODR, könyvtári katalógus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kadémiai Journals Collection (EIS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Általános adatbázis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artalom helye 3" descr=""/>
          <p:cNvPicPr/>
          <p:nvPr/>
        </p:nvPicPr>
        <p:blipFill>
          <a:blip r:embed="rId1"/>
          <a:stretch/>
        </p:blipFill>
        <p:spPr>
          <a:xfrm>
            <a:off x="2093760" y="2919240"/>
            <a:ext cx="4962600" cy="29624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agyar bírósági rendsz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úria / Legfelsőbb Bíróság irányelve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Jogegységi határozatok (büntető, közigazgatási, munkaügyi, polgári stb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lvi Döntések (BED, PE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ollégiumi állásfoglalások (BK, MK, PK, KK, G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lvi határozat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írósági határozatok (BH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gyedi bírósági ügye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4617b"/>
                </a:solidFill>
                <a:latin typeface="Calibri"/>
              </a:rPr>
              <a:t>Joggyakorlat – dokumentumtípuso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üntetőjogi Döntvénytár, Polgári Jogi Döntvénytár, Munkajogi Döntvénytár, Gazdasági Perek Döntvénytá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üntető Elvi Határozatok, Polgári Elvi Határozatok, Munkaügyi Elvi Határozatok, Elvi Határozatok Gazdasági Perekb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írósági Határozat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írósági Döntések Tá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Ítélőtáblai Határozat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4617b"/>
                </a:solidFill>
                <a:latin typeface="Calibri"/>
              </a:rPr>
              <a:t>Joggyakorlat – nyomtatott kiadványo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Magyar jog - terminológi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Jogi dokumentum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Jogforrások (ill. esetleges jogforrások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9144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Jogszabá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9144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Állami irányítás egyéb jogi eszköze (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közjogi szervezetszabályozó eszkö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9144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Nemzetközi jo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9144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Európai Unió egyes jogi aktusa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9144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Bírói jo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9144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Szokásjo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9144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Alkotmánybíróság határozata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9144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Szerződése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nstantia"/>
                <a:ea typeface="SimSun"/>
              </a:rPr>
              <a:t>Iratmintá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nstantia"/>
                <a:ea typeface="SimSun"/>
              </a:rPr>
              <a:t>Kommentár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nstantia"/>
                <a:ea typeface="SimSun"/>
              </a:rPr>
              <a:t>Okirat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nstantia"/>
                <a:ea typeface="SimSu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úria (Legfelsőbb Bíróság) honlap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//www.lb.hu/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írósági Határozatok elektronikus gyűjtemény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//www.birosag.hu/engine.aspx?page=anonim%20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omplex DVD / Webjogtá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Joggyakorlat - adatbázis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lkotmánybíróság határozatai:  az Alkotmánybíróság hivatalos lap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lkotmánybíróság határozatai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tározatkereső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ww.mkab.h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lkotmánybírósá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orpus juris hungarici (Magyar Törvénytá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Werbőczy: Tripartitu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agyarországi rendeletek tára (1867-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orpus Juris DV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//www.1000ev.hu/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T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Történeti jo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omplex jogtár időgé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yomtatott kiadvány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özlönyállapotok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www.parlament.h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www.1000ev.hu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Nem hatályos jo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934640"/>
            <a:ext cx="822816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//www.ogyk.hu/dtt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OGYK gyűjteményéből digitalizálv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Jogszabálygyűjteménye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öntvénytára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dattára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önyve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Folyóirat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+ ezek leírása, története, életrajzok, könyvleírások, linkek más gyűjteményekhez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igitalizált Törvényhozási Tudástá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Tartalom helye 1"/>
          <p:cNvSpPr/>
          <p:nvPr/>
        </p:nvSpPr>
        <p:spPr>
          <a:xfrm>
            <a:off x="0" y="1484280"/>
            <a:ext cx="8228160" cy="48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SimSun"/>
              </a:rPr>
              <a:t>http://www.ogyk.hu/dtt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SimSun"/>
              </a:rPr>
              <a:t>OGYK gyűjteményéből digitalizálv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SimSun"/>
              </a:rPr>
              <a:t>Jogszabálygyűjtemény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SimSun"/>
              </a:rPr>
              <a:t>Döntvénytár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SimSun"/>
              </a:rPr>
              <a:t>Adattár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SimSun"/>
              </a:rPr>
              <a:t>Könyv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SimSun"/>
              </a:rPr>
              <a:t>Folyóirato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SimSun"/>
              </a:rPr>
              <a:t>+ ezek leírása, története, életrajzok, könyvleírások, linkek más gyűjteményekhez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Jogforrások csoportosítás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Belső – külső jogforrá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Rendes – rendkívül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Jogalkotói (írott) – jogalkalmazói (íratla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Nemzeti – nemzetközi – 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zövetségi – tartomány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zabadkézi sokszög 1"/>
          <p:cNvSpPr/>
          <p:nvPr/>
        </p:nvSpPr>
        <p:spPr>
          <a:xfrm>
            <a:off x="457200" y="428760"/>
            <a:ext cx="8229600" cy="1419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  <a:ea typeface="Arial Unicode MS"/>
              </a:rPr>
              <a:t>Jogforrási hierarchia (Magyarország)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lá-fölé rendeltségi viszo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SimSun"/>
              </a:rPr>
              <a:t>Felsőbb szintűvel nem lehet ellenté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SimSun"/>
              </a:rPr>
              <a:t>Alsóbb szintűt módosíth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lkotmá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örvé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ormányrendelet, kormányhatároz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ormány tagjainak ren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Önkormányzati rendelet, állami irányítás egyéb jogi eszkö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x specialis derogat legi general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x posterior derogat legi prior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Hatály - érvényesség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Érvényessé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SimSun"/>
              </a:rPr>
              <a:t>Megalkotására feljogosított szervtől származi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SimSun"/>
              </a:rPr>
              <a:t>Eljárási szabályoknak megfelelően alkották me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SimSun"/>
              </a:rPr>
              <a:t>Jogforrási hierarchiának megfel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SimSun"/>
              </a:rPr>
              <a:t>Megfelelő módon ki van hirdet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Hatályoss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SimSun"/>
              </a:rPr>
              <a:t>Területi hatá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SimSun"/>
              </a:rPr>
              <a:t>Személyi hatá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SimSun"/>
              </a:rPr>
              <a:t>Időbeli hatá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4572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Ex tunc - visszaható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4572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Ex nunc - elfogadástó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45720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nstantia"/>
                <a:ea typeface="SimSun"/>
              </a:rPr>
              <a:t>Pro futuro - jövőben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  <a:ea typeface="SimSun"/>
              </a:rPr>
              <a:t>Kogens – diszpozitív normá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zabadkézi sokszög 3"/>
          <p:cNvSpPr/>
          <p:nvPr/>
        </p:nvSpPr>
        <p:spPr>
          <a:xfrm>
            <a:off x="4643280" y="4076640"/>
            <a:ext cx="3745080" cy="228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Miért fonto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A cselekményeket, eseményeket általában a megtörténtükkor hatályos jog szerint kell megítél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zabadkézi sokszög 4"/>
          <p:cNvSpPr/>
          <p:nvPr/>
        </p:nvSpPr>
        <p:spPr>
          <a:xfrm>
            <a:off x="5940360" y="3068640"/>
            <a:ext cx="3203640" cy="2654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Miért fonto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Bárhol (nyomtatottan, elektronikusan) talált jogszabályszöveg esetén kérdés, hogy hatályos-e még, úgy hatályos-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zabadkézi sokszög 1"/>
          <p:cNvSpPr/>
          <p:nvPr/>
        </p:nvSpPr>
        <p:spPr>
          <a:xfrm>
            <a:off x="457200" y="428760"/>
            <a:ext cx="8229600" cy="1419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  <a:ea typeface="Arial Unicode MS"/>
              </a:rPr>
              <a:t>Jogszabályok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zabadkézi sokszög 2"/>
          <p:cNvSpPr/>
          <p:nvPr/>
        </p:nvSpPr>
        <p:spPr>
          <a:xfrm>
            <a:off x="457200" y="1935000"/>
            <a:ext cx="8229600" cy="4734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lkotmá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SimSun"/>
              </a:rPr>
              <a:t>Magyarország Alaptörvény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örvé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SimSun"/>
              </a:rPr>
              <a:t>Jelenlevő 2/3 – sarkalat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SimSun"/>
              </a:rPr>
              <a:t>Törvénykönyvek, kódex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örvényerejű rende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ormányrende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iniszterelnöki vagy miniszteri rende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agyar Nemzeti Bank elnökének rendel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Önálló szabályozó szerv vezetőjének rendel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Államtitkári rendelkez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Önkormányzati rende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zabadkézi sokszög 1"/>
          <p:cNvSpPr/>
          <p:nvPr/>
        </p:nvSpPr>
        <p:spPr>
          <a:xfrm>
            <a:off x="457200" y="704880"/>
            <a:ext cx="82296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  <a:ea typeface="Arial Unicode MS"/>
              </a:rPr>
              <a:t>Közjogi szervezetszabályozó eszköz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Normatív határo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Normatív utasít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Régi neve: Állami irányítás egyéb jogi eszköz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Határoz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Utasítá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atisztikai közlemén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Jogi iránymutatáso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Irányel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Tájékoz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zabadkézi sokszög 1"/>
          <p:cNvSpPr/>
          <p:nvPr/>
        </p:nvSpPr>
        <p:spPr>
          <a:xfrm>
            <a:off x="457200" y="428760"/>
            <a:ext cx="8229600" cy="1419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  <a:ea typeface="Arial Unicode MS"/>
              </a:rPr>
              <a:t>Rendkívüli jogforrások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zabadkézi sokszög 2"/>
          <p:cNvSpPr/>
          <p:nvPr/>
        </p:nvSpPr>
        <p:spPr>
          <a:xfrm>
            <a:off x="457200" y="1935000"/>
            <a:ext cx="8229600" cy="438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Rendkívüli állapotb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Honvédelmi Tanács rende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zükségállapotb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  <a:ea typeface="SimSun"/>
              </a:rPr>
              <a:t>Köztársasági elnök rende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12:45Z</dcterms:created>
  <dc:creator>karoliny</dc:creator>
  <dc:description/>
  <dc:language>en-US</dc:language>
  <cp:lastModifiedBy>Karoliny</cp:lastModifiedBy>
  <dcterms:modified xsi:type="dcterms:W3CDTF">2013-03-07T15:18:43Z</dcterms:modified>
  <cp:revision>119</cp:revision>
  <dc:subject/>
  <dc:title>Magyar jog</dc:title>
</cp:coreProperties>
</file>