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60E-D86E-470B-9351-AF41CA30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A07-FFEA-4C9A-A396-42C87D93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AA1-3761-4DD3-A76D-4CCDC215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4FF-AB8C-45FC-AD04-C0B8D751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E076-003D-484B-B7B2-275404FB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D5E5-1C8A-4781-88F2-72AFFA0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6B64-28D8-48D6-B322-E9763B7E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BE5-6332-482F-A6D7-9FFC416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4972-72A3-4322-8BB0-3457913A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7544-F55D-4B4E-9C4B-FA2C9175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4DCD-92FE-42E8-A695-A50E6C1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809-A06C-419D-806D-A77230D9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D544-E9C8-47E2-B512-660DE7A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C86-C09B-4F4F-9E0F-9D41C68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0841-C4AF-46A0-8F6A-4A7E44DD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109-881F-4F76-BABD-96CE7135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477E-9E74-4EBA-8D5E-AD8CBC07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5D5-E940-41EB-AABB-8081395F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6D1-CD1E-463E-BF42-A8DF389C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7D0-D210-4755-8E5D-F28275B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290-B60D-4B30-9C8E-E87932B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77A-65C6-4AF9-B213-26AE517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F7E-1424-43C7-BA43-D653EDCB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547-E65D-482A-9DD9-5B03647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0BDB-31D5-4F5C-9B28-F06183FD286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B34-9210-4221-80A2-9587ADAD1D73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ulugyminiszterium.hu/szerzodes/main.aspx" TargetMode="External"/><Relationship Id="rId2" Type="http://schemas.openxmlformats.org/officeDocument/2006/relationships/hyperlink" Target="http://njt.hu/njt.php?nemzetkozi_szerzodesek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reaties.un.org/Pages/LONOnline.aspx" TargetMode="External"/><Relationship Id="rId2" Type="http://schemas.openxmlformats.org/officeDocument/2006/relationships/hyperlink" Target="http://treaties.un.org/Pages/DB.aspx?path=DB/MTDSG/page1_en.xml&amp;menu=MTDSG" TargetMode="External"/><Relationship Id="rId3" Type="http://schemas.openxmlformats.org/officeDocument/2006/relationships/hyperlink" Target="http://treaties.un.org/Pages/UNTSOnline.aspx?id=1" TargetMode="External"/><Relationship Id="rId4" Type="http://schemas.openxmlformats.org/officeDocument/2006/relationships/hyperlink" Target="http://treaties.un.org/Pages/Home.aspx?lang=en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cronymfinder.com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n.or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.org/en/documents/" TargetMode="External"/><Relationship Id="rId2" Type="http://schemas.openxmlformats.org/officeDocument/2006/relationships/hyperlink" Target="http://documents.un.org/welcome.asp?language=E" TargetMode="External"/><Relationship Id="rId3" Type="http://schemas.openxmlformats.org/officeDocument/2006/relationships/hyperlink" Target="http://www.un.org/depts/dhl/resguide/index.html" TargetMode="External"/><Relationship Id="rId4" Type="http://schemas.openxmlformats.org/officeDocument/2006/relationships/hyperlink" Target="http://www.dagdok.org/index.php?id=&amp;L=1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cj-cij.org/" TargetMode="External"/><Relationship Id="rId2" Type="http://schemas.openxmlformats.org/officeDocument/2006/relationships/hyperlink" Target="http://www.icc-cpi.int/" TargetMode="External"/><Relationship Id="rId3" Type="http://schemas.openxmlformats.org/officeDocument/2006/relationships/hyperlink" Target="http://www.ictr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ur-lex.europa.eu/n-lex/pays.html?lang=hu" TargetMode="External"/><Relationship Id="rId2" Type="http://schemas.openxmlformats.org/officeDocument/2006/relationships/hyperlink" Target="http://circa.europa.eu/irc/opoce/ojf/info/data/prod/html/gaz.htm" TargetMode="External"/><Relationship Id="rId3" Type="http://schemas.openxmlformats.org/officeDocument/2006/relationships/hyperlink" Target="http://www.loc.gov/law/help/guide.php" TargetMode="External"/><Relationship Id="rId4" Type="http://schemas.openxmlformats.org/officeDocument/2006/relationships/hyperlink" Target="http://www.glin.gov/search.action" TargetMode="External"/><Relationship Id="rId5" Type="http://schemas.openxmlformats.org/officeDocument/2006/relationships/hyperlink" Target="http://www.ilo.org/dyn/natlex/natlex_browse.home" TargetMode="External"/><Relationship Id="rId6" Type="http://schemas.openxmlformats.org/officeDocument/2006/relationships/hyperlink" Target="http://www.justis.com/about/titles.aspx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nfinder.richmond.edu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gyk.hu/" TargetMode="External"/><Relationship Id="rId2" Type="http://schemas.openxmlformats.org/officeDocument/2006/relationships/hyperlink" Target="http://www.ovid.com/site/catalog/DataBase/104.jsp?top=2&amp;mid=3&amp;bottom=7&amp;subsection=10" TargetMode="External"/><Relationship Id="rId3" Type="http://schemas.openxmlformats.org/officeDocument/2006/relationships/hyperlink" Target="http://www.ovid.com/site/catalog/DataBase/185.jsp" TargetMode="External"/><Relationship Id="rId4" Type="http://schemas.openxmlformats.org/officeDocument/2006/relationships/hyperlink" Target="http://www.westlaw.co.uk/" TargetMode="External"/><Relationship Id="rId5" Type="http://schemas.openxmlformats.org/officeDocument/2006/relationships/hyperlink" Target="http://www.lexisnexis.co.uk/" TargetMode="External"/><Relationship Id="rId6" Type="http://schemas.openxmlformats.org/officeDocument/2006/relationships/hyperlink" Target="http://heinonline.org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Más államok joga</a:t>
            </a:r>
            <a:br>
              <a:rPr sz="5400"/>
            </a:b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Nemzetközi jo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aroliny Esz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jog és belső j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on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lső jog az els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jog az els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ua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ik sem érvényesül tisztá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ződ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agyar részvétell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talában lefordítva magyarra, magyar törvényben, törvényerejű rendeletben, kormányrendeletben kihirdet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. évi L. törvén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emzetközi szerződésekkel kapcsolatos eljárásró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ülügyminisztérium: Szerződéstá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kulugyminiszterium.hu/szerzodes/main.as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i jogszabálytár: nk szerző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njt.hu/njt.php?nemzetkozi_szerzodese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ződ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gue of Nations Treaty Series (5 July 1920 - 3 October 194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treaties.un.org/Pages/LONOnline.asp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lateral Treaties Deposited with the Secretary-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treaties.un.org/Pages/DB.aspx?path=DB/MTDSG/page1_en.xml&amp;menu=MTDSG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ited Nations Treaty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treaties.un.org/Pages/UNTSOnline.aspx?id=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ited Nations Treaty Coll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treaties.un.org/Pages/Home.aspx?lang=e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vez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rténe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amok egymás melle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ngresszu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815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ajna Bizott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863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öröskeres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llítás, kommunik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pszövetség / Nemzetek Szövet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világháború ut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zdasági együttműködé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retton-Woo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/ W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emzetközi Valutaal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szervez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g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GO / 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yílt / zá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vékeny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verzális / specializá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öldraj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verzális / regionális / szubregioná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llegális / legá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upranacionális / kormánykö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Acronym Fin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cronymfinder.com/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Arial"/>
              </a:rPr>
              <a:t>ENSZ, Egyesült Nemzetek Szerveze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amok közti együttműkö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945-ben a Népszövetség utódjaként alapított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gországok száma 1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gyűl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ztonsági Taná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zdasági és Szociális Taná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zetközi Bírósá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itkársá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akosított szer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 hivatalos nyelv: angol, arab, francia, orosz, kínai, span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un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NSZ dokumentum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tal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un.org/en/documents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fficial documents of the United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documents.un.org/welcome.asp?language=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 Documentation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 Gui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un.org/depts/dhl/resguide/index.htm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agDok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g Hammarskjöld Libr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www.dagdok.org/index.php?id=&amp;L=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bíróság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Bíró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icj-cij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Büntetőbíró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icc-cpi.int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tional Criminal Tribunal of Rwanda (ICT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ictr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ernational Criminal Tribunal for Yugoslavia (ICT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://www.icty.org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urópa Taná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9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7 tagál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v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iszterek Bizottság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arlamenti Közgyűl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ngresszus (Európai Helyi és Regionális Önkormányzatok Kongresszus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mberi Jogok Európai Bíróság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mberi jogok biztosa (ombudsma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://www.coe.int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ációs Közpo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OGYK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Más államok jo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Nyelvi problém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Jogrendszer isme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Hivatalos adatbáz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nstantia"/>
                <a:ea typeface="SimSun"/>
              </a:rPr>
              <a:t>Országgyűlési Könyvt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urópa Taná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ezmény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conventions.coe.int/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iszterek Tanácsa határozatok, ajánl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coe.int/t/cm/adoptedTexts_en.as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arlamenti Közgyű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assembly.coe.int/ASP/Doc/ATListing_E.as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mberi Jogok Európai Bíró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íróság (Strasbour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://www.echr.coe.int/echr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UDOC (ítélet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ttp://cmiskp.echr.coe.int/tkp197/search.asp?skin=hudoc-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gyar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T Miniszteri Bizottság ajánlásai, egyes jogese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ttp://www.lb.h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yezmény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iniszteri Bizottság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rlamenti Közgyűlés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tározati, ajánlásai - OGY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Országgyűlési Könyvtá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urópa Tanács dokumentuma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SZ letéti gyűjtemé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ECD-gyűjtemé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eace Palace 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ága – Nemzetközi Bíróság mellett működő könyvtá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ttp://www.peacepalacelibrary.nl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Referensz irodal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emzetközi szervezetek kislexikona / Horváth Zoltán, Tar Gábor Budapest : HVG-ORAC Lap- és Könyvkiadó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mzetközi jog a gyakorlatban / Hargitai József Budapest : Magyar Lap- és Közlönykiadó, 200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search Gu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law.duke.edu/lib/research_guid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Más államok jo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N-l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1"/>
              </a:rPr>
              <a:t>http://eur-lex.europa.eu/n-lex/pays.html?lang=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Legal Gazettes in Euro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2"/>
              </a:rPr>
              <a:t>http://circa.europa.eu/irc/opoce/ojf/info/data/prod/html/gaz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Guide to Law Online 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-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Library of Congr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3"/>
              </a:rPr>
              <a:t>http://www.loc.gov/law/help/guid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Global Legal Information Network (GL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4"/>
              </a:rPr>
              <a:t>http://www.glin.gov/search.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Natl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5"/>
              </a:rPr>
              <a:t>http://www.ilo.org/dyn/natlex/natlex_browse.home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Jus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6"/>
              </a:rPr>
              <a:t>http://www.justis.com/about/titles.aspx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16080"/>
            <a:ext cx="8153280" cy="1432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Más államok joga - alkotmány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Constitution fi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1"/>
              </a:rPr>
              <a:t>http://confinder.richmond.edu/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Nyomtatott kiadvány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Nemzeti alkotmányok az Európai Unióban szerk. Trócsányi László, Badó Attila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. -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Budapest, KJK-Kerszöv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Új államok alkotmányai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. -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 Budapest : Magyar Tudományos Akadémia Állam- és Jogtudományi Intézete, 1964-19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Nyugat-Európa alkotmányai / szerk. Kovács István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. -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Bp. : Közgazd. és Jogi Kvk.,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Az európai népi demokráciák alkotmányai / [szerk., bev. tanulm. Kovács István]. - Budapest : Közgazd. és Jogi Kvk., 19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Kelet-Európa új alkotmányai / szerk. Tóth Károly. - Budapest : Sík Kiadó, 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Külföldi jogi irodal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Fuchs, Wilhelm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: J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uristische bücherkunde Linz a. d. Donau : F. Winkler ; New York : The H.W. Wilson company, 192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Szladits, Charles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: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Guide to foreign legal material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s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-  2nd rev. ed. - Dobbs Ferry, N.Y. : Published for the Parker School of Foreign and Comparative Law, Columbia University in the City of New York by Oceana Publications, c19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A bibliography on foreign and comparative law: Books and articles in English 1978-1983 / compil., annot. by Charles Szladits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. - </a:t>
            </a: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New York : Oceana Publ. Inc., 19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  <a:ea typeface="SimSun"/>
              </a:rPr>
              <a:t>Külföldi jogi irodal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Külföldi jogi adatbáz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1"/>
              </a:rPr>
              <a:t>http://www.ogyk.h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Index to Foreign Legal Periodicals (IFLP</a:t>
            </a: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2"/>
              </a:rPr>
              <a:t>http://www.ovid.com/site/catalog/DataBase/104.jsp?top=2&amp;mid=3&amp;bottom=7&amp;subsection=1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nstantia"/>
                <a:ea typeface="SimSun"/>
              </a:rPr>
              <a:t>Wilson Index to Legal Periodicals &amp; Boo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3"/>
              </a:rPr>
              <a:t>http://www.ovid.com/site/catalog/DataBase/185.jsp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Westla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4"/>
              </a:rPr>
              <a:t>http://www.westlaw.co.u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LexisNex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5"/>
              </a:rPr>
              <a:t>http://www.lexisnexis.co.uk/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onstantia"/>
                <a:ea typeface="SimSun"/>
              </a:rPr>
              <a:t>Heinonl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99ff99"/>
                </a:solidFill>
                <a:uFillTx/>
                <a:latin typeface="Constantia"/>
                <a:ea typeface="SimSun"/>
                <a:hlinkClick r:id="rId6"/>
              </a:rPr>
              <a:t>http://heinonline.org/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  <a:ea typeface="SimSun"/>
              </a:rPr>
              <a:t>Általános adatbázisok</a:t>
            </a:r>
            <a:r>
              <a:rPr b="0" lang="hu-HU" sz="2000" spc="-1" strike="noStrike">
                <a:solidFill>
                  <a:srgbClr val="0068ae"/>
                </a:solidFill>
                <a:latin typeface="Arial"/>
                <a:ea typeface="SimSun"/>
              </a:rPr>
              <a:t>: EBSCO, ScienceDirect, st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j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közi j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ogforr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i jog és nemzetközi jog viszo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közi szervezet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Nemzetközi j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zetközi közösség tagjai – különösen az államok – közötti kapcsolatokat szabályozó norm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mközi jo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Jogforrás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szerződ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laterá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ltilaterá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okásj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jog általánosan elismert elv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írói dönt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ogtud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zetközi szervezetek döntés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jánl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telező határozat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oldalú aktu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0:07:00Z</dcterms:created>
  <dc:creator>karoliny</dc:creator>
  <dc:description/>
  <dc:language>en-US</dc:language>
  <cp:lastModifiedBy>Karoliny</cp:lastModifiedBy>
  <dcterms:modified xsi:type="dcterms:W3CDTF">2013-03-09T06:57:18Z</dcterms:modified>
  <cp:revision>41</cp:revision>
  <dc:subject/>
  <dc:title>Nemzetközi jog</dc:title>
</cp:coreProperties>
</file>