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0DF-F497-42A2-A1D7-72BC2539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0C6-614F-431F-927A-6E6D140A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D46-5933-4C5B-BC32-CC073D15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305-D545-4C73-B65F-C7484136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F2AC-0F5E-42C5-96CD-8ED02D6D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C4B6-52FC-45E4-9234-81DE6675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6EE3-D39D-4F1C-96D5-84ACD0F2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4654-DF2E-416C-92D4-E557C70F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0C25-0A80-4BAC-A594-3BF8D91F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B1B2-1E9C-4983-B70A-DC55F61C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8CD6-F68A-4491-8472-06E59F5C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6CE-F06B-4D91-B11D-057B8722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38B3-88D8-462E-B914-FA8934EB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81B6-1C53-4B93-A2AC-11846424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1B4A-D799-435E-A6B4-48B76653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3A33-9FDF-4EFF-A9CA-FD48629C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62B9-B44C-42FA-B690-1D9206AD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D4D-3CD0-4E97-A73F-43B30825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5A7-7A9E-4E7E-971D-4712E2C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3F9-0610-47B1-9239-2A2C5927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E9E-F701-4DF3-A480-7A45041E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588-2B42-433B-895E-71B31181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C90-E227-4BF7-ACF2-907E7B3A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8C9-5817-4A25-AA3E-A6870991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A185-21A1-4832-B89C-64C6BA528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87A8-617E-4898-A02C-D1F456462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plex.hu/ceginfo.php" TargetMode="External"/><Relationship Id="rId2" Type="http://schemas.openxmlformats.org/officeDocument/2006/relationships/hyperlink" Target="http://www.complex.hu/ceginfo.php" TargetMode="External"/><Relationship Id="rId3" Type="http://schemas.openxmlformats.org/officeDocument/2006/relationships/hyperlink" Target="http://www.complex.hu/ceginfo.php" TargetMode="External"/><Relationship Id="rId4" Type="http://schemas.openxmlformats.org/officeDocument/2006/relationships/hyperlink" Target="http://www.complex.hu/ceginfo.php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Black"/>
              </a:rPr>
              <a:t>A KÖZGAZDASÁGI SZAKIRODALOM FELDERÍTÉSÉRE ÉS ELÉRÉSÉRE ALKALMAS ADATBÁZISO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8080"/>
                </a:solidFill>
                <a:latin typeface="Arial Black"/>
              </a:rPr>
              <a:t>1. ECONLIT</a:t>
            </a:r>
            <a:br>
              <a:rPr sz="3200"/>
            </a:br>
            <a:r>
              <a:rPr b="0" lang="hu-HU" sz="3200" spc="-1" strike="noStrike">
                <a:solidFill>
                  <a:srgbClr val="00808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008080"/>
                </a:solidFill>
                <a:latin typeface="Arial Black"/>
              </a:rPr>
              <a:t>(Cambridge Scientific Abstract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világ közgazdasági szakirodalmának válogatott bibliográfiája 1969-től napjainkig, amelyet az Amerikai Közgazdasági Társaság Journal of Economic Literature (JEL) és az „Index of Economic Literature” c. kiadványaiból állítanak össze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Áttekintést nyújt több mint 400 folyóirat, valamint gyűjteményes művek, könyvek, könyvismertetések, előadások, doktori értekezések, a Cambridge University Press gazdasági témájú konferenciaanyagának alapján a nemzetközi szakirodalomról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közgazdaságtan, üzlet, pénzügy, ipar és statisztika területén megjelent legfontosabb publikációk bibliográfiai adatai mellett teljes szövegükkel tartalmaz könyvismertetéseket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feltárt irodalom döntő többsége angol nyelvű vagy angol nyelvű ismertetés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2. ABI/INFORM Global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(Pécsről nem érhető e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gol nyelvű adatbázis, mely gazdasági, pénzügyi, üzleti, marketing, management, reklám, humánpolitikai és még további témakörökben 1800 folyóirat cikkeit tartalmazza rövid ismertetésekkel és mutatókkal ellátva 1970-től napjainkig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feldolgozott források egy részének cikkei és tanulmányai teljes szövegükkel is megtekinthetők. Az adatbázis több mint 60.000 vállalattal kapcsolatban is tartalmaz információkat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eldolgozott dokumentumok: kézikönyvek, cikkek, tanulmányok, könyvismertetés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 Black"/>
              </a:rPr>
              <a:t>III. RELEVÁNS MAGYAR ADATBÁZISOK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KSH – STAD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OGYK – PRESSDO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OGYK – HUNDO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OGYK – VP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OSZK – HUMANU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ME – MATARK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CEGFURKESZ.HU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CEGNYILVANTARTO.HU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COMPLEX CÉGHÍREK - </a:t>
            </a:r>
            <a:r>
              <a:rPr b="0" lang="hu-HU" sz="28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http://</a:t>
            </a:r>
            <a:r>
              <a:rPr b="0" lang="hu-HU" sz="2800" spc="-1" strike="noStrike" u="sng">
                <a:solidFill>
                  <a:srgbClr val="ccccff"/>
                </a:solidFill>
                <a:uFillTx/>
                <a:latin typeface="Arial Black"/>
                <a:hlinkClick r:id="rId2"/>
              </a:rPr>
              <a:t>www.complex.hu</a:t>
            </a:r>
            <a:r>
              <a:rPr b="0" lang="hu-HU" sz="2800" spc="-1" strike="noStrike" u="sng">
                <a:solidFill>
                  <a:srgbClr val="ccccff"/>
                </a:solidFill>
                <a:uFillTx/>
                <a:latin typeface="Arial Black"/>
                <a:hlinkClick r:id="rId3"/>
              </a:rPr>
              <a:t>/</a:t>
            </a:r>
            <a:r>
              <a:rPr b="0" lang="hu-HU" sz="2800" spc="-1" strike="noStrike" u="sng">
                <a:solidFill>
                  <a:srgbClr val="ccccff"/>
                </a:solidFill>
                <a:uFillTx/>
                <a:latin typeface="Arial Black"/>
                <a:hlinkClick r:id="rId4"/>
              </a:rPr>
              <a:t>ceginfo.ph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FELADATO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kínai gazdaság hatásai a világgazdaságr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Migrációs folyamatok Európába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kínai lakosság migrációja Európába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Magyarország a nemzetközi vándorlási folyamatokban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gazdaság fejlesztésére irányuló EU-s támogatások hatékonyság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monetáris politika szerepe Magyarországon a pénzügyi válság kezelésébe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z állam és piac kapcsolata Magyarországo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z euróövezet bővítése és euróbevezetési stratégiák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schumpeteri „teremtő rombolás" módjai az infokommunikációs iparba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globális gazdasági válság (2008-2009) hatása Kelet- és Közép-Európába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 Black"/>
              </a:rPr>
              <a:t>I. ÁLTALÁNOS GYŰJTŐKÖRŰ ADATBÁZISOK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buClr>
                <a:srgbClr val="00808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 Black"/>
              </a:rPr>
              <a:t>ACADEMIC SEARCH COMPLETE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 Black"/>
              </a:rPr>
              <a:t>(EBSCO-HOST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legátfogóbb, tudományos igényű, multidiszciplináris teljes szövegű adatbázisa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özel 6000 teljes szövegű periodikumot tartalmaz, több mint 5030 lektorált folyóiratot beleértve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teljes szövegeken kívül több mint 9900 folyóirat és összesen több mint 10 400 kiadvány, köztük monográfiák, beszámolók és konferencia-előadások stb. indexelését és referátumait foglalja magában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adatbázis PDF tartalma 1887-ig nyúlik vissza, és a teljes szövegű anyagok többsége kereshető PDF formátumban van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2. BUSINESS SOURCE PREMIER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(EBSCO-HOST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menedzsment, a gazdaságtudományok, a pénzügy, a könyvelés, a nemzetközi vállalkozás és a marketing területeit fedi le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BSP-ben megtalálhatók az Economist Intelligence Unit (EIU), a Global Insight, az ICON Group és a CountryWatch országok szerinti gazdasági jelentései is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adatbázis több , mint 4000 folyóirat cikkeit referálja és indexeli, ebből közel 3300 folyóirat teljes szöveggel szerepel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BSP tartalmazza a Regional Business News adatbázist is, amely átfogó, teljes szövegű válogatást nyújt 75 amerikai városi és regionális üzleti napilapból és folyóiratból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8080"/>
                </a:solidFill>
                <a:latin typeface="Arial Black"/>
              </a:rPr>
              <a:t>3. </a:t>
            </a: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CENTRAL AND EASTERN EUROPEAN ONLINE LIBRAR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C.E.E.O.L. egy olyan on-line arcívum, ahol 371, a bölcsészeti és társadalomtudományok területét felölelő, full text-es PDF állományú folyóirat és digitalizált dokumentum található, Kelet-, Közép- és Dél-európai témákról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 Black"/>
              </a:rPr>
              <a:t>4.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8080"/>
                </a:solidFill>
                <a:latin typeface="Arial Black"/>
              </a:rPr>
              <a:t>JSTOR ADATBÁZI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JStor teljes szövegű folyóirat-adatbázis, melynek két multidiszciplináris gyűjteménye az Arts and Sciences I. és III. érhető el a PTE tartományaiból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JSTOR adatbázis kibővült az Arts and Sciences II. multidiszciplináris gyűjteményével, ami további 124 retrospektív folyóirathoz enged hozzáférést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adatbázis retrospektív jellegű, kurrens számok nincsenek, a kiadókkal történt szerződéskötés alapján, a folyóiratok teljes szövege csak 3-5 évvel a megjelenést követően kerülhet be az adatbázisba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8080"/>
                </a:solidFill>
                <a:latin typeface="Arial Black"/>
              </a:rPr>
              <a:t>5. SPRINGERLINK</a:t>
            </a:r>
            <a:br>
              <a:rPr sz="3200"/>
            </a:br>
            <a:r>
              <a:rPr b="0" lang="hu-HU" sz="3200" spc="-1" strike="noStrike">
                <a:solidFill>
                  <a:srgbClr val="008080"/>
                </a:solidFill>
                <a:latin typeface="Arial Black"/>
              </a:rPr>
              <a:t>(Springer Verlag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Jelenleg </a:t>
            </a:r>
            <a:r>
              <a:rPr b="1" lang="hu-HU" sz="1800" spc="-1" strike="noStrike">
                <a:solidFill>
                  <a:srgbClr val="ffffff"/>
                </a:solidFill>
                <a:latin typeface="Arial Black"/>
              </a:rPr>
              <a:t>közel 2500 </a:t>
            </a: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különböző folyóiratot tartalmaz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A tartalomjegyzékek, abstract-ok ingyenesen hozzáférhetőek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A teljes szövegű cikkekhez csak a nyomtatott verzió előfizetői férhetnek hozzá.</a:t>
            </a: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 u="sng">
                <a:solidFill>
                  <a:srgbClr val="ffffff"/>
                </a:solidFill>
                <a:uFillTx/>
                <a:latin typeface="Arial Black"/>
              </a:rPr>
              <a:t>Felosztása</a:t>
            </a:r>
            <a:r>
              <a:rPr b="0" lang="hu-HU" sz="1900" spc="-1" strike="noStrike">
                <a:solidFill>
                  <a:srgbClr val="ffffff"/>
                </a:solidFill>
                <a:latin typeface="Arial Black"/>
              </a:rPr>
              <a:t>: 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Online Librarie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online folyóiratok, könyvek, könyvsorozatok, Springer Expert Systems, szoftverek.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life science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chemical science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geoscience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computer science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mathematic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medicine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physics &amp; astronomy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engineering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environmental science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law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economics</a:t>
            </a:r>
            <a:r>
              <a:rPr b="0" lang="hu-H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6. WEB OF SCIENCE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(ISI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 Black"/>
              </a:rPr>
              <a:t>Arts &amp; Humanities Citation Index –</a:t>
            </a:r>
            <a:r>
              <a:rPr b="1" lang="hu-HU" sz="2400" spc="-1" strike="noStrike">
                <a:solidFill>
                  <a:srgbClr val="ffffff"/>
                </a:solidFill>
                <a:latin typeface="Arial Black"/>
              </a:rPr>
              <a:t> bölcsészettudományi és művészeti index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25 kategóriában, 1140 teljes folyóirat anyaga + a vonatkozó cikkek 7000 társadalomtudományi és tudományos folyóiratból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 Black"/>
              </a:rPr>
              <a:t>Science Citation Index Expanded &amp; SciSearch</a:t>
            </a:r>
            <a:r>
              <a:rPr b="1" lang="hu-HU" sz="2400" spc="-1" strike="noStrike">
                <a:solidFill>
                  <a:srgbClr val="ffffff"/>
                </a:solidFill>
                <a:latin typeface="Arial Black"/>
              </a:rPr>
              <a:t> – természet- és műszaki tudományos index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160 tudományterület, 5800 akadémiai és alkalmazott műszaki tudományos dokumentum, ebből 140 könyv a többi folyóirat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 Black"/>
              </a:rPr>
              <a:t>Social Sciences Citation Index &amp; Social SciSearch</a:t>
            </a:r>
            <a:r>
              <a:rPr b="1" lang="hu-HU" sz="2400" spc="-1" strike="noStrike">
                <a:solidFill>
                  <a:srgbClr val="ffffff"/>
                </a:solidFill>
                <a:latin typeface="Arial Black"/>
              </a:rPr>
              <a:t> – társadalomtudományi Index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55 kategóriában, 1700 folyóirat teljes anyaga + 5700 vonatkozó cikk a vezető tudományos és műszaki folyóiratokból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 Black"/>
              </a:rPr>
              <a:t>II. KÖZGAZDASÁGI SZAKADATBÁZISOK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pos Anna Magdolna</cp:lastModifiedBy>
  <dcterms:modified xsi:type="dcterms:W3CDTF">2011-03-29T12:16:4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