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3B05-2603-4723-BB5A-B27968ED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9D42-0446-46F7-8F9D-F3CFE805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3370-EF25-41AD-87B9-8C02E36B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5667-01BD-4C10-8392-869A63CD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BAA-9580-4306-B882-A0DBA1A7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659E-22E7-4A36-8E93-3A50C89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6839-EE5A-4BA2-BFC0-D141AF36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DB36-E73A-48F5-B7C2-3B48764B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2058-B039-4558-ACB8-73EFC38E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B29-B4C8-4F10-941A-C519A89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8C73-8813-4D70-BFE7-31F643A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2AD8-63FD-43FA-A137-52DEB99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9FDF-5E67-4A6D-AA2D-E6DDBE36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5847-594A-48F8-A406-9371CA1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B08-7A7A-4212-BA09-4BE7DAC7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B0E7-4D38-4D88-8EA5-07DA7527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EC6-5E31-4022-BD22-68C9C4BF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6A0E-36CC-4D14-A60D-9B11AAE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9E91-F8B8-4635-8733-7C6B7260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4056-7F2A-4FDD-8E0D-6031B30F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D9D6-2A80-444F-AB55-65C86C1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D141-93CC-4127-89A7-8495D12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014F-07D3-44D7-A40A-1989B75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AA45-1609-4A73-82FD-95897784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F10-D65F-4904-BCF7-923C5DA9B611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015-0AE2-4CEB-928B-9D22EA8EEC96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ur-lex.europa.e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prelex" TargetMode="External"/><Relationship Id="rId2" Type="http://schemas.openxmlformats.org/officeDocument/2006/relationships/hyperlink" Target="http://www.europarl.eu.int/oei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uria.europa.eu/jcms/jcms/j_6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uropa.eu/documents/registers/index_en.htm" TargetMode="External"/><Relationship Id="rId2" Type="http://schemas.openxmlformats.org/officeDocument/2006/relationships/hyperlink" Target="http://europa.eu/documentation/order-publications/databases-subject/index_hu.htm" TargetMode="External"/><Relationship Id="rId3" Type="http://schemas.openxmlformats.org/officeDocument/2006/relationships/hyperlink" Target="http://europa.eu/documentation/order-publications/databases-subject/index_hu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-justice.europa.eu/home.do?action=home&amp;plang=hu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na.lu/mce.cfm" TargetMode="External"/><Relationship Id="rId2" Type="http://schemas.openxmlformats.org/officeDocument/2006/relationships/hyperlink" Target="http://aei.pitt.edu/" TargetMode="External"/><Relationship Id="rId3" Type="http://schemas.openxmlformats.org/officeDocument/2006/relationships/hyperlink" Target="http://archidok.uni-mannheim.de/en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hyperlink" Target="http://epp.eurostat.ec.europa.eu/portal/page/portal/eurostat/home/" TargetMode="External"/><Relationship Id="rId3" Type="http://schemas.openxmlformats.org/officeDocument/2006/relationships/hyperlink" Target="http://europa.eu/rapid/" TargetMode="External"/><Relationship Id="rId4" Type="http://schemas.openxmlformats.org/officeDocument/2006/relationships/hyperlink" Target="http://europa.eu/legislation_summaries/index.htm" TargetMode="External"/><Relationship Id="rId5" Type="http://schemas.openxmlformats.org/officeDocument/2006/relationships/hyperlink" Target="http://ec.europa.eu/public_opinion/index_en.htm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e5e5ff"/>
                </a:solidFill>
                <a:latin typeface="Garamond"/>
              </a:rPr>
              <a:t>Az Európai Unió joga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roliny Esz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írói joggyakorl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írósá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örvénysz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zszolgálati Törvénysz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őzetes döntéshoza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rződésszegési / mulasztási / semmisségi eljá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5e5ff"/>
                </a:solidFill>
                <a:latin typeface="Garamond"/>
              </a:rPr>
              <a:t>Lisszabon (2009. december 1.) előtti jogforráso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özös kül- és biztonságpoli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általános elvekről és iránymutatásokról szóló határ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özös straté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gyüttes fellépé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özös állás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állásfoglalá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gyüttes nyilatk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üntetőjogi és igazságügyi együttműköd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özös állás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erethatár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tár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végrehajtó intézkedé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gyez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Jogforrási rendszer sajátosság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ivatalos nyelvek (23 + H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ierarchia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ivatkoz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Európai Unió Hivatalos Lap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= Közlöny: hiteles szöv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alamennyi hivatalos nyel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öbb soroz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 - Legislat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 - Communicat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A - álláshirdetés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E – EP jegyzőkönyv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 - Közbeszerzése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ülönkiadás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Hivatalos kiadványok mé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ltalános jelentés az Európai Unió tevékenységeirő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letin of the European Un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urópai Uniós jogszabály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-LEX – az EU valamennyi jogforrása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ur-lex.europa.eu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Döntéshozatali folyamat adatbázis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RELEX – az Európai Bizottság adatbázisa a döntéshozatali folyamatról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c.europa.eu/prel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EIL – az Európai Parlament adatbázisa a döntéshozatali folyamatról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europarl.eu.int/oe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Európai Bírósági Határozatok Tára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 Az Európai Bíróság határozat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I Az Elsőfokú Bíróság (Törvényszék) határozat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A A Bíróság személyzeti ügyekben hozott határozat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urópai Unió Bíróság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Joggyakorlat külön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ovábbi keresési lehet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gfrissebb információk, ada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curia.europa.eu/jcms/jcms/j_6/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Intézmények adatbázis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lső, előkészítő dokumentumok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europa.eu/documents/registers/index_en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datbázisok téma szerint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europa.eu/documentation/order-publications/databases-subject/index_hu.ht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urópai Uni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zetközi szervez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52, 1957, 1992,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: sui generis – szupranacionali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özvetlenül alkalmazható jogszabály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sőbbség / primá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agállamoktól független intézmény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Önálló bevétel a költségvetés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Bíróság kötelező joghatóság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nősített többségi döntéshoza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-jus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e-justice.europa.eu/home.do?action=home&amp;plang=hu</a:t>
            </a: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Az európai igazságügyi portál a tervek szerint a jövőben átfogó elektronikus ügyfélkapuként fog működni az igazságügy területé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Első lépésként a 22 nyelven olvasható portál azt a célt szolgálja, hogy EU-szerte megkönnyítse az igazságügyi rendszerekkel kapcsolatos információkeresést és az igazságszolgáltatáshoz való hozzáférést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em hivatalos adatbázi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uropean Navigator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ena.lu/mce.cf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ve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European Integratio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aei.pitt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DZ – ArchiDok</a:t>
            </a:r>
            <a:br>
              <a:rPr sz="3200"/>
            </a:b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archidok.uni-mannheim.de/en/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em jogi adatbázisok, honlap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pa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uropa.eu/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STAT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epp.eurostat.ec.europa.eu/portal/page/portal/eurostat/home/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APID – hírek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europa.eu/rapid/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CADPLUS – szabályozott területekről összefoglalók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http://europa.eu/legislation_summaries/index.htm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BAROMETER – közvéleménykutatások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http://ec.europa.eu/public_opinion/index_en.htm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atalógu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 Bookshop http://bookshop.europa.eu/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CLAS – az Európai Bizottság könyvtárárnak katalógusa http://ec.europa.eu/eclas/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uria – a Bíróság könyvtárának katalógusa http://bib-curia.eu/client/default/rw$003d0$0026ln$003den_US$002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ópai Unió archívumai (levéltárak) http://europa.eu/documentation/archives/index_hu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opean University Institute http://biblio.eui.eu/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ibliográfiá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ópai Bíróság könyvtá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al bibliography of European integration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, évente, 2001-től teljes szövege az EU Bookshop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rszággyűlési Könyvtá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álogatott bibliográfia az európajog tanulmányozásához / Ádám Anta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Pécs : PTE ÁJK,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Uniós tájékoztató hálózat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 Letéti Könyvtá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Dokumentációs Központ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vonal http://www.euvonal.hu/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 Közkönyvtári háló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pe Dir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ontact Centre 00 800 6 7 8 9 10 1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nformációs irod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eam Eur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pecializált hálózatok – kiadvány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érdése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Javasolt ismétlő / ellenőrző kérdések a blog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Intézmények, szerv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Bizottsá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Parl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aná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Taná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Unió Bíróság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ámvevőszé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Központi Ba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mbuds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Gazdasági és Szociális Bizottsá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égiók Bizottság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Beruházási Ba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Ügynökség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Döntéshozat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izottság kezdeménye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arlament és Tanács együtt dö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államok, Bizottság (Tanács) végrehaj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íróság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zeti bíróságok értelmez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5353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Jogforrá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sődleges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zetközi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ásodlagos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írói joggyakorl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isszabon (2009. december 1.) előtti jogfor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lsődleges j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lapító szerződ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ódosító szerződ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satlakozási szerződ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Íratlan elsődleges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Általános jogelv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mberi jog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emzetközi szerződ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 köt szerződéseket harmadik államokkal, más nemzetközi szervezet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államok egymással kötött szerződés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nden tagállam benne v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em minden tagáll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államok harmadik államokkal, más nemzetközi szervezetekkel kötött szerződés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ásodlagos j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endel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rányel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táro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jánl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élemé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Felhatalmazáson alapul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Végrehajtá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ui generis határo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Állásfoglal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özlemé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6:23:44Z</dcterms:created>
  <dc:creator>karoliny</dc:creator>
  <dc:description/>
  <dc:language>en-US</dc:language>
  <cp:lastModifiedBy>Karoliny</cp:lastModifiedBy>
  <dcterms:modified xsi:type="dcterms:W3CDTF">2013-03-08T14:49:32Z</dcterms:modified>
  <cp:revision>49</cp:revision>
  <dc:subject/>
  <dc:title>1. dia</dc:title>
</cp:coreProperties>
</file>