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C47-74F5-491E-B3E8-B94B6F86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327-B77A-4C56-9E21-B4A8108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558-0264-4E4C-93DB-17DCE099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A42-9E2A-426E-953A-E1851B6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3226-CA4B-47A6-8628-C516D755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268-7A66-4267-A361-E64934A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4EC3-25E1-4D9F-AB9A-650BD1E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E44F-72FF-4D5A-B514-FAEA5E70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2B21-C938-40E0-A51F-81A038D7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0C2-C432-4E31-85BF-FB2CD24D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B6BC-C6DC-497C-B9A3-006EF21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AD5-017A-4F66-8829-A5F6FD34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1C1-7381-49AC-8951-C5CF2B77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788E-ACF3-4487-8DFA-8F9C060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D34B-B6A2-42CD-8BC0-16EA5CEA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8A04-063F-4FDF-B279-5B0E423C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30C-E8A8-47E2-96D0-5E1E43BA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83F-6BCE-4A91-868E-134C7F6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C15-7CFB-4E50-B274-2802756D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C76-F7DE-49D9-8395-658E7C5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DB8-AEC4-4703-9239-6A98B5AE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0F4-6035-4855-BEEA-DA2E943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CB4-5F7E-4B75-8570-30D2D25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BEC-5AFF-417F-91C3-CB720BE0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BED-71B1-49BD-9645-EA44B36884B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FCF5-30BF-4D8F-B7BE-3D285C2EEE89}" type="slidenum">
              <a:rPr b="0" lang="hu-H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ogtajekoztatas.livejournal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Jogi szaktájékoztat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 Esz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Eszter@ao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, jogtudomány rendsz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rendszer – jogágakra boml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- és jog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 és jog rendszere mint egé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gaz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 és jog részterü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Általános állam- és jog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- és állambölcse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- és jogtörté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Összehasonlító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ágak, jogterületek – ágazati jog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85560" y="1904760"/>
            <a:ext cx="7248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g: jogszabályok csoportja (nemze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tudomány-ág: nézetek, fogalmak rendszere (nemzetkö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gak megkülönbözteté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ályozás tárg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gán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öz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ályozás mó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nyagi 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aki jog (eljárásj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z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, közérdekű ügy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emzetközi köz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U köz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lkotmány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igazgatás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üntető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üntető eljárá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agán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agántulajdon és erre alapuló jogviszony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olgár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élyek joga, dologi jog, kötelmi jog, öröklési jog, szellemi alkotások joga, társaság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olgári eljárás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zetközi magán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alád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unka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azdaság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Új jogágak, jogterülete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Új társadalmi – technikai jelenségekhez kapcsolódn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erseny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rnyezetvédelm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rvos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édia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kommunikációs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ergia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grár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ágakon belü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talános ré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ülönös ré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apcsolódó tudományok, segéd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3920" y="171468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alkotástan, jogtech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rimin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riminalisz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gazságügyi statisz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gazságügyi orvo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szoci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informa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reto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apcsolódó 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13920" y="171468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szich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allás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rténettudom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olitikatudomány, polit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plom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ci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azdaság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forrás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an keletkezik a j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ká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rvényi, rendeleti jogalko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"/>
              </a:rPr>
              <a:t>Közgazdasági és jogtudományi szaktájékoztatá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aktárgyi bevezető előad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mé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akorl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ltúrák, jogcsalád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tudomány rendsz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alkotás / jogalkalmaz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oktatás, jogászi szakmá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ontinentális (római-germán) jogcsalá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ómai jogi alap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odifikáció – általános jogszabál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 csak értelm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Common law jogcsalá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i jog - preceden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quity (~méltányossá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Írott jog erősödő szerepe, de felülírható lehet bírói jog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ás jogcsalád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cialista jogcsalá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allási jogcsalá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radicionális jogcsalá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1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429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kísérl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innováció, feltal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tka a felfedezé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héz „újat” mond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nincs közvetlen ráhatás a jogalkotóra / ritka a jogalkalmazó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kább hosszú, mint rövid távú következ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t lehe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Valamikor, valahol)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étező (vagy hiányzó) jogi jelen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rsadalmi következményei vagy o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ogelmél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reakciói, magyaráz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szerű látásmód, 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toz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v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2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440" y="1643040"/>
            <a:ext cx="760572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ágak, új jogterületek fejlőd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"sportjog" művelésének helyzete és aktuális kérdés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történet, egyes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jogintézmények történ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dalékok a nemi erkölcs elleni bűncselekmények Csemegi-kódex előtti történet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írósági / közigazgatási gyakorlat (és kritiká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pénzügyi lízingszerződés a bírói gyakorlat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udósítás az Európai Bíróság előtti Cartesio ügy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3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915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jelenségek elemzése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endszerbe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nemzetközi jog használata az Alkotmány értelmezésén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z országos népszavazás egyes tiltott tárgykörei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alkotási javasl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jogalkotási törvény felülvizsgálat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közigazgatási bírságolás eredménytelenség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jog válaszai egyes új társadalmi, technológiai jelenségek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biotechnológia fejlődésének aktuális kérdései a szellemi alkotások joga szám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4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8840" y="1904760"/>
            <a:ext cx="710568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ülföldi jog bemutatása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jogösszehasonl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választott bíró megválasztása és kizárása az angol jogb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árgyalás-előkészítő eljárások skandináv modelljei polgári ügyek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közvetlen demokrácia Magyarországon és Németországb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elmélet, jogfilozóf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halálbüntetés filozófiája és kortárs jogelméleti kérdés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ihilizmus és formalizmus a jogi modernit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5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ászu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e lege 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e lege fer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Számonkéré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gazdasággal együ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tudományi „szakirodalom” sajátosság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szaknyelv – precizi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 különbség a szakirodalom és a mindennapi, jogi témákat feldolgozó újságírás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zeti meghatározotts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kultúra befoly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elvi, fordítási problé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dőbeli  meghatározottság, változékonyság – gyors avu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itele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agy mennyi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műfaj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6840" y="1642680"/>
            <a:ext cx="71773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anköny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gyzetek, tansegédletek, szakvizsga felkészítő köny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ziköny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szótár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mmen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ratminta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mlékkönyvek (Festschri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karok, tanszékek periodiká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aikusoknak magyaráz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táreset: bűncselekmények leírása, visszaemlékez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műfajok 2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7160" y="1785600"/>
            <a:ext cx="76773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szabályok köz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lö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lyos Jogszabályok Gyűjte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rvények és Rendeletek Hivatalos Gyűjte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s jog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tozásmut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írósági határozatok köz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vénytá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óir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aw report, Law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ktív, régóta jelentős mennyiség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onos könyv számos kiadást érhet me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temek kiadási tevékenysége jelentő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jogi karokon más-más tankönyvek azonos témábó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entős része csak a magyarországi piacra készü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omplex (volt KJ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vgor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kadémiai Kiadó, M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siris Kiad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ialóg Camp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ovotni Alapítv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ólay Elemér Alapítv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kar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arok, egyetemi kia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uropa Law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ashö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Szaktájékoztat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500120"/>
            <a:ext cx="72486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g)hallgatók, diá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i dokumentumok, szakirod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sz (vagy nem jogász) ku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s jelenségek szabály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földi jog, joges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 használata, szakirod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ó jogá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krét jogi problémára vonatkozó jogforrások – azon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problémával küzdő állampolgá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oldás ügyes-bajos dolgaik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Friss kutatási eredmények, szakmai vitá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 jogszabály, módosí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otmánybíróság döntés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 jelenségek jogi szabályoz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demok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zői jogok, Internet, letöl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ológiai és orvostudományi, -technikai fej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ro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ó szabályozás, deregul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Temat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vezetés. Jogtud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utatás. A jogi szaktájék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ézmények, információ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yar jog. Jogforrá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szabály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,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yar jog. Történeti jog, bírósági gyakor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Temat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államok jo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zetközi jog, nemzetközi szerv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zetközi joganyag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,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urópai Unió. Jogforrá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ós dokumentum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 Esz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Eszter@ao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jogtajekoztatas.livejournal.com/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Ajánlott irodalom - 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zabadon választott Jogi alaptan v. jogi ismeretek köny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magyar jogi információszolgáltatás forrásai és eszköz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külföldi jogi információszolgáltatás forrásai és eszköz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magyar jogrendszer szerkez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Útmutató az európai uniós dokumentum-nyilvántartások használatáho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Útmutató az Európai Unió hivatalos dokumentumaiho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ffective legal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gal research : how to find &amp; understand the la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inführung in die juristische Arbeitstechnik : Klausuren, Haus- und Seminararbeiten, Disser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éthodologie de la recherche en droit : master et doctor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ai alkalomma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, jogtud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oga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ódó és segédtudom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források, jogi kultúr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u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szakirod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tájék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 aktuális kérd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, jogtudomány fogal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5560" y="1905120"/>
            <a:ext cx="7248600" cy="45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rsadalmi normák, magatartási szabályok összessé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lyen még: szokás, erkölcs, vallási szabályok, illem, technikai elő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eletkezése állami szervekhez kötő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ott társadalomban kötele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vényesülését az állam kényszerrel biztosít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..e normákat vizsgáló tudomány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nyi jog – tárgy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0:23Z</dcterms:created>
  <dc:creator>karoliny</dc:creator>
  <dc:description/>
  <dc:language>en-US</dc:language>
  <cp:lastModifiedBy>Karoliny</cp:lastModifiedBy>
  <dcterms:modified xsi:type="dcterms:W3CDTF">2013-03-07T12:56:58Z</dcterms:modified>
  <cp:revision>94</cp:revision>
  <dc:subject/>
  <dc:title>Jogi szaktájékoztatás</dc:title>
</cp:coreProperties>
</file>