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B025-CE13-446E-BFA3-89A82586A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0AC4-328F-46A2-9D66-51F06563E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389A-4BD2-4035-8E5B-DADB2790E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9034-D7DA-49C2-801A-BB0985210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93C3-A3CC-4747-97C5-A5E95859D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714F-1D5C-47AB-AA51-2E36BDD859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254E-49DB-4F89-8CD8-860BD69E75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CA0C-CD00-4349-A98E-4779AB7288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4A60-9AA1-49D5-ABEC-7459922012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84F5-A3C2-4A69-9CD4-9AF7DE7E7F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4062-61AC-454E-B443-0A5740BC7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003F-8AAC-4CEC-B7AD-E0B0C858E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A9F9-4857-48E4-805B-6268C8DC3B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C21F-10DD-4B1D-863A-39F5DE6E90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62E0-055E-45E1-91A0-525274BC66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8E61-1E53-43BF-88E0-824D6AFFDC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6CFF-E674-4867-A7D9-1AB4A03D29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493-3E80-464C-AF85-0A0BCD60A2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F41-D498-44DD-A81B-8FBF60876B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282-6CAD-42AA-A942-92C8C7165D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D17-9F00-49EB-AA6B-730FBB5BE9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190-87F4-442C-A397-4D1FD33C0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9E81-758A-45E4-BE40-DBA7AD1A08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A25-E4B6-4CCC-A124-9753965D27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390-139B-4242-AB1D-2806CAC01A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D85-6115-4430-914C-12C77D34B6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0C7-9791-4E00-BCF1-54B46F83BF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53F-AABF-4FD8-8797-1678AAF229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9CD-AC4B-4AAF-B9B0-9277EA36F4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C80-F9A8-44A9-9C8C-1078F8017A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31B58-3B30-44AE-9759-4C2EE0719D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4AB7-D5BC-4E6E-9948-2488AF3C92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BB434-4FEB-49F8-8A17-88CC4F0D3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CAF9-ECD3-4E03-A623-0BDF1B5704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5A723-8158-4505-9B38-F3EFB4829B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F85C7-1BCA-4D7A-A928-4BEDAECD5A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30365-C63B-45F0-AB9E-E71354201D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7C11C-929B-4927-AD87-FF663263A5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CA3DC-6DB0-4542-9D81-BBE99763E9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3E322-CD06-4109-A7B2-9087766E55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6BDD1-60B4-4424-9DD0-E800CDD2F3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6763E-2029-4A49-A451-6532FD9C09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722BD-97B3-4472-AA52-2558C68AD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4987-9353-4F78-A930-DB71707DD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E089-70D6-4E50-AED7-913022639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F79B-D6B6-48F3-84A0-650EDABF6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F9D3-7A3F-4768-918A-CF8C1DB3A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2DE8-F678-4C20-B66F-1173C40F9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Szabadkézi sokszög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Szabadkézi sokszög 5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Szabadkézi sokszög 6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F9136D1-53D2-4FC1-A60C-FC174BAE1D2C}" type="slidenum">
              <a:rPr b="0" lang="hu-HU" sz="2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Csoportba foglalás 9"/>
            <p:cNvGrpSpPr/>
            <p:nvPr/>
          </p:nvGrpSpPr>
          <p:grpSpPr>
            <a:xfrm>
              <a:off x="-18720" y="203040"/>
              <a:ext cx="9161640" cy="648000"/>
              <a:chOff x="-18720" y="203040"/>
              <a:chExt cx="9161640" cy="648000"/>
            </a:xfrm>
          </p:grpSpPr>
          <p:pic>
            <p:nvPicPr>
              <p:cNvPr id="9" name="Kép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Szabadkézi sokszög 11"/>
              <p:cNvSpPr/>
              <p:nvPr/>
            </p:nvSpPr>
            <p:spPr>
              <a:xfrm rot="180000">
                <a:off x="-18720" y="47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Csoportba foglalás 12"/>
            <p:cNvGrpSpPr/>
            <p:nvPr/>
          </p:nvGrpSpPr>
          <p:grpSpPr>
            <a:xfrm>
              <a:off x="-19080" y="247680"/>
              <a:ext cx="9181080" cy="565200"/>
              <a:chOff x="-19080" y="247680"/>
              <a:chExt cx="9181080" cy="565200"/>
            </a:xfrm>
          </p:grpSpPr>
          <p:pic>
            <p:nvPicPr>
              <p:cNvPr id="12" name="Kép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Szabadkézi sokszög 14"/>
              <p:cNvSpPr/>
              <p:nvPr/>
            </p:nvSpPr>
            <p:spPr>
              <a:xfrm rot="180000">
                <a:off x="-19080" y="52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zabadkézi sokszög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Csoportba foglalás 3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Csoportba foglalás 4"/>
            <p:cNvGrpSpPr/>
            <p:nvPr/>
          </p:nvGrpSpPr>
          <p:grpSpPr>
            <a:xfrm>
              <a:off x="-18720" y="203040"/>
              <a:ext cx="9161640" cy="648000"/>
              <a:chOff x="-18720" y="203040"/>
              <a:chExt cx="9161640" cy="648000"/>
            </a:xfrm>
          </p:grpSpPr>
          <p:pic>
            <p:nvPicPr>
              <p:cNvPr id="54" name="Kép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Szabadkézi sokszög 6"/>
              <p:cNvSpPr/>
              <p:nvPr/>
            </p:nvSpPr>
            <p:spPr>
              <a:xfrm rot="180000">
                <a:off x="-18720" y="47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Csoportba foglalás 7"/>
            <p:cNvGrpSpPr/>
            <p:nvPr/>
          </p:nvGrpSpPr>
          <p:grpSpPr>
            <a:xfrm>
              <a:off x="-19080" y="247680"/>
              <a:ext cx="9181080" cy="565200"/>
              <a:chOff x="-19080" y="247680"/>
              <a:chExt cx="9181080" cy="565200"/>
            </a:xfrm>
          </p:grpSpPr>
          <p:pic>
            <p:nvPicPr>
              <p:cNvPr id="57" name="Kép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Szabadkézi sokszög 9"/>
              <p:cNvSpPr/>
              <p:nvPr/>
            </p:nvSpPr>
            <p:spPr>
              <a:xfrm rot="180000">
                <a:off x="-19080" y="52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Szabadkézi sokszög 12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zabadkézi sokszög 13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2686-1F8C-4E8F-803B-B148DB7D4101}" type="slidenum">
              <a: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zabadkézi sokszög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Csoportba foglalás 3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Csoportba foglalás 4"/>
            <p:cNvGrpSpPr/>
            <p:nvPr/>
          </p:nvGrpSpPr>
          <p:grpSpPr>
            <a:xfrm>
              <a:off x="-18720" y="203040"/>
              <a:ext cx="9161640" cy="648000"/>
              <a:chOff x="-18720" y="203040"/>
              <a:chExt cx="9161640" cy="648000"/>
            </a:xfrm>
          </p:grpSpPr>
          <p:pic>
            <p:nvPicPr>
              <p:cNvPr id="104" name="Kép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Szabadkézi sokszög 6"/>
              <p:cNvSpPr/>
              <p:nvPr/>
            </p:nvSpPr>
            <p:spPr>
              <a:xfrm rot="180000">
                <a:off x="-18720" y="47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Csoportba foglalás 7"/>
            <p:cNvGrpSpPr/>
            <p:nvPr/>
          </p:nvGrpSpPr>
          <p:grpSpPr>
            <a:xfrm>
              <a:off x="-19080" y="247680"/>
              <a:ext cx="9181080" cy="565200"/>
              <a:chOff x="-19080" y="247680"/>
              <a:chExt cx="9181080" cy="565200"/>
            </a:xfrm>
          </p:grpSpPr>
          <p:pic>
            <p:nvPicPr>
              <p:cNvPr id="107" name="Kép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Szabadkézi sokszög 9"/>
              <p:cNvSpPr/>
              <p:nvPr/>
            </p:nvSpPr>
            <p:spPr>
              <a:xfrm rot="180000">
                <a:off x="-19080" y="52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Szabadkézi sokszög 12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zabadkézi sokszög 13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5CC3-45FD-4B9D-B344-60395A4E3FBF}" type="slidenum">
              <a: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zabadkézi sokszög 1"/>
          <p:cNvSpPr/>
          <p:nvPr/>
        </p:nvSpPr>
        <p:spPr>
          <a:xfrm flipV="1" rot="21180000">
            <a:off x="3164040" y="110592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zabadkézi sokszög 2"/>
          <p:cNvSpPr/>
          <p:nvPr/>
        </p:nvSpPr>
        <p:spPr>
          <a:xfrm flipV="1" rot="21180000">
            <a:off x="8002080" y="5358960"/>
            <a:ext cx="155880" cy="155520"/>
          </a:xfrm>
          <a:custGeom>
            <a:avLst/>
            <a:gdLst>
              <a:gd name="textAreaLeft" fmla="*/ 13680 w 155880"/>
              <a:gd name="textAreaRight" fmla="*/ 91800 w 155880"/>
              <a:gd name="textAreaTop" fmla="*/ 91440 h 155520"/>
              <a:gd name="textAreaBottom" fmla="*/ 1418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abadkézi sokszög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zabadkézi sokszög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Szabadkézi sokszög 7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zabadkézi sokszög 8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6365-2CA9-47E3-A51D-73AE7B27C930}" type="slidenum">
              <a:rPr b="0" lang="hu-H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kereses.magyarorszag.hu/jogszabalykereso" TargetMode="External"/><Relationship Id="rId2" Type="http://schemas.openxmlformats.org/officeDocument/2006/relationships/hyperlink" Target="http://www.njt.hu/njt.php?kereses" TargetMode="External"/><Relationship Id="rId3" Type="http://schemas.openxmlformats.org/officeDocument/2006/relationships/hyperlink" Target="http://kozlony.magyarorszag.hu/" TargetMode="External"/><Relationship Id="rId4" Type="http://schemas.openxmlformats.org/officeDocument/2006/relationships/hyperlink" Target="http://www.kozlonyok.hu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arlament.hu/internet/plsql/internet_irom" TargetMode="External"/><Relationship Id="rId2" Type="http://schemas.openxmlformats.org/officeDocument/2006/relationships/hyperlink" Target="http://www.parlament.hu/internet/plsql/internet_irom" TargetMode="External"/><Relationship Id="rId3" Type="http://schemas.openxmlformats.org/officeDocument/2006/relationships/hyperlink" Target="http://www.parlament.hu/internet/plsql/internet_naplo" TargetMode="External"/><Relationship Id="rId4" Type="http://schemas.openxmlformats.org/officeDocument/2006/relationships/hyperlink" Target="http://www.parlament.hu/internet/plsql/internet_naplo" TargetMode="External"/><Relationship Id="rId5" Type="http://schemas.openxmlformats.org/officeDocument/2006/relationships/hyperlink" Target="http://mpgy.ogyk.hu/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Csoportba foglalás 1"/>
          <p:cNvGrpSpPr/>
          <p:nvPr/>
        </p:nvGrpSpPr>
        <p:grpSpPr>
          <a:xfrm>
            <a:off x="530280" y="1365120"/>
            <a:ext cx="8308800" cy="1901880"/>
            <a:chOff x="530280" y="1365120"/>
            <a:chExt cx="8308800" cy="1901880"/>
          </a:xfrm>
        </p:grpSpPr>
        <p:pic>
          <p:nvPicPr>
            <p:cNvPr id="196" name="Kép 2" descr=""/>
            <p:cNvPicPr/>
            <p:nvPr/>
          </p:nvPicPr>
          <p:blipFill>
            <a:blip r:embed="rId1"/>
            <a:stretch/>
          </p:blipFill>
          <p:spPr>
            <a:xfrm>
              <a:off x="530280" y="1365120"/>
              <a:ext cx="8308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Szabadkézi sokszög 3"/>
            <p:cNvSpPr/>
            <p:nvPr/>
          </p:nvSpPr>
          <p:spPr>
            <a:xfrm>
              <a:off x="530280" y="1365120"/>
              <a:ext cx="8308800" cy="19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Szabadkézi sokszög 4"/>
          <p:cNvSpPr/>
          <p:nvPr/>
        </p:nvSpPr>
        <p:spPr>
          <a:xfrm>
            <a:off x="533520" y="3228840"/>
            <a:ext cx="7854840" cy="175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gforrások, jogi dokumentumok keresése, szakirodal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aroliny Esz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jelölés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a kihirdetés évével és római sorszámm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1990. évi LXV. tv. a helyi önkormányzatokró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rende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folyó arab sorszám, a kihirdetés éve, zárójelben a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kihirdetés dátuma, ezután a Korm. r. rövidíté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147/1994. (XI. 17.) Korm. r. a belügyminiszter feladat és hatáskörérő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iniszteri rende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a kormányrendelethez hasonlóan, azzal, hogy a minisztérium hivatalos rövidítésére utalni kel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11/2004. (III. 30.) IM r. a jogi segítő díjazásáró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Ha több miniszter közösen ad ki rendeletet első helyen a kiadásért fő felelőst, utána a többi abc-b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9/2003. (V. 6.) IM-BM-PM er. a személyes költségmentesség alkalmazásáról a büntetőeljárásb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„működése”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„</a:t>
            </a: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ap” jogszab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1959. évi IV. törvény a Polgári Törvénykönyvrő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Közlönyállapo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ódosító jogszabály(o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1989. évi X. törvény a Polgári Törvénykönyvről szóló 1959. évi IV. törvény módosításá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1990. évi I. törvény a Polgári Törvénykönyv egyes rendelkezéseinek módosításá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00. évi LXXXVIII. törvény a Polgári Törvénykönyv módosításá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bbször módosított […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Új jogszab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09. évi CXX. törvény a Polgári Törvénykönyvrő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10. évi LXXIII. Törvény a Polgári Törvénykönyvről szóló 2009. évi CXX. törvény hatályba nem lépéséről, valamint az ezzel összefüggő törvénymódosítások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13. évi V. törvény a Polgári Törvénykönyvrő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„működése”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„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ap” jogszab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1987. évi XI. törvény a jogalkotásró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Közlönyálla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ódosító jogszabály(o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1991. évi LIX. törvény a jogalkotásról szóló 1987. évi XI. törvény kiegészítésérő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gsemmisíte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  <a:ea typeface="SimSun"/>
              </a:rPr>
              <a:t>121/2009. (XII. 17.) AB határo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Új jogszab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2010. évi CXXX. törvény a jogalkotásró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belülrő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zámozott paragrafusok (cikkek) 2.§., 3/A.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Számozott bekezdések (1) b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Constantia"/>
                <a:ea typeface="SimSun"/>
              </a:rPr>
              <a:t>a. , b., c., felsoroláso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reambul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Általános rendelkezések (definíció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Záró rendelkezések (hatályba lépés, más jogszabályokat módosító rendelkezése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lléklet(e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ivatalos forrás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em hivatalos és kereskedelmi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10. évi CXXX. törvény a jogalkotásró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05. évi XC. törvény az elektronikus információszabadságról (már nem hatály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közzététele – hozzáférés a jogszabályokhoz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Magyar Közlö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önkormányzati rendeletek kivételével a jog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Alkotmánybíróság azon határozatai és végzései, amelyeknek a Magyar Közlönyben való közzétételét jogszabály vagy az Alkotmánybíróság elrende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jogegységi határoz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Országos Választási Bizottság állásfoglal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Országgyűlés, a köztársasági elnök, a Kormány, a miniszterelnök és az Országos Választási Bizottság határoz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miniszterek azon határozatai, amelyeknek hivatalos lapban való közzétételét jogszabály elrendeli vagy a miniszter kezdeménye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yomtatott hivatalos kiadvány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zlöny.inf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ivatalos Értesít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utasítások és jogi iránymutatá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egyes közlemény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árcaközlönyö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lkotmánybíróság Határozata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Önkormányzatok hivatalos lapja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égebben: Határozatok Tára, st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Hatályos Magyar Törvények és Rendelete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2010-től, a legfontosabb jogszabályok egységes szerkezet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yomtatott hivatalos kiadványok 2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Törvények és Rendeletek Hivatalos Gyűjtemén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é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Hatályos Jogszabályok Gyűjtemén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ötévente, később cserélhető la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Az Alkotmánybírság Határozat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é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„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Retrospektív” nyomtatott hivatalos kiadvány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9640" y="1916280"/>
            <a:ext cx="82281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tályos Jogszabályok Elektronikus Gyűjteménye és Nemzeti Jogszabálytá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https://kereses.magyarorszag.hu/jogszabalykereso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http://www.njt.hu/njt.php?kerese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zlönyök elektronikus publikáció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http://kozlony.magyarorszag.hu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http://www.kozlonyok.hu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ivatalos Jogszabálytár CD / DV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ivatalos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exp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es jogszabályokat tartalmazó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ommentár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űjtemény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kedelmi nyomtatott kiadvány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Részletek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agyar jogforrási rendsz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szabályokat tartalmazó nyomtatott kiadvány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datbázisok, honlap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eresé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agyar jogi szakirodal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Bibliográfiák, adatbázisok, keresé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Országgyűlés honlapj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Irományok 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2"/>
              </a:rPr>
              <a:t>www.parlament.hu/internet/plsql/internet_irom</a:t>
            </a: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Napló 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3"/>
              </a:rPr>
              <a:t>http://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4"/>
              </a:rPr>
              <a:t>www.parlament.hu/internet/plsql/internet_na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Történeti irományok és naplók 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5"/>
              </a:rPr>
              <a:t>http://mpgy.ogyk.hu</a:t>
            </a: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Jogszabályok gyűjteménye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Közlönyállapotok http://www.complex.hu/external.php?url=3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Complex DVD Jogtár és Webjogtá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Optijus http://www.optijus.hu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FigyelőNet http://www.fn.hu/torvenytar/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em hivatalos és kereskedelmi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omtatott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DVD Jogtár Iratmintatá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tölthető iratmintá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ratmintá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 jogi lexikon hat kötetben / szerk. Márkus Budapest : Pallas Irodalmi és Nyomdai Részvénytársaság, 1898-19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i lexikon / főszerk. Lamm Vanda. – Budapest : CompLex, 200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i fogalomtár / Hargitai József. – Budapest : Magyar Hivatalos Közlönykiadó, 200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kirodal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llam- és jogtudományi bibliográfia = Bibliographia juridica Hungarica / összeáll. Nagy Lajos. – Bp. : Közgazd. és Jogi K., 1957-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magyar állam- és jogtudományi irodalom bibliográfiája. – Budapest : Országgyűlési Könyvtár, 1980-199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 Jogi Adatbázis (OGY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ülföldi Jogi Adatbázis (OGY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DVD Jogtár Magyar Jogi Bibliográfia és Európai Jogi Bibliográf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Bibliográfiá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ibliography of Hungarian legal literature, 1945-1965 / edited by Lajos Nagy. – Budapest : Akadémiai Kiadó, 196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ibliography of Hungarian legal literature, 1945-1980 / ed. by Lajos Nagy. – Budapest : Akad. K., 19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etven év magánjogi irodalma : A magyar magánjog bibliográfiája 1861-1930 / szerk. Ujlaki Miklós. – Budapest : Grill Károly Könyvkiadóvállalata, 19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Öt év magánjogi irodalma : A magyar magánjog bibliográfiája 1930-1934 / összeáll. Ujlaki Miklós. – Budapest : Grill, 19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Retrospektív bibliográfiá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ibliográfia az Országgyűlés működéséről http://www.parlament.hu/fotitkar/bibliogr_mukodes.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GYK által készített egyéb bibliográfiá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i Karok oktatói bibliográfiá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nyvtári katalógus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ww.ogyk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epertórium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tudományi Közlöny, Belügyi Szemle st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kbibliográfiák, egyes jogterület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TAR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UMAN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SZ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DR, könyvtári katalógus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kadémiai Journals Collection (EIS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Általános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artalom helye 3" descr=""/>
          <p:cNvPicPr/>
          <p:nvPr/>
        </p:nvPicPr>
        <p:blipFill>
          <a:blip r:embed="rId1"/>
          <a:stretch/>
        </p:blipFill>
        <p:spPr>
          <a:xfrm>
            <a:off x="2093760" y="2919240"/>
            <a:ext cx="4962600" cy="2962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gyar bírósági rendsz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úria / Legfelsőbb Bíróság irányelve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egységi határozatok (büntető, közigazgatási, munkaügyi, polgári stb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lvi Döntések (BED, P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ollégiumi állásfoglalások (BK, MK, PK, KK, G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lvi határoz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határozatok (B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edi bírósági ügy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4617b"/>
                </a:solidFill>
                <a:latin typeface="Calibri"/>
              </a:rPr>
              <a:t>Joggyakorlat – dokumentumtípuso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üntetőjogi Döntvénytár, Polgári Jogi Döntvénytár, Munkajogi Döntvénytár, Gazdasági Perek Döntvénytá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üntető Elvi Határozatok, Polgári Elvi Határozatok, Munkaügyi Elvi Határozatok, Elvi Határozatok Gazdasági Perekb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Határoz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Döntések Tá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Ítélőtáblai Határoz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4617b"/>
                </a:solidFill>
                <a:latin typeface="Calibri"/>
              </a:rPr>
              <a:t>Joggyakorlat – nyomtatott kiadványo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Magyar jog - terminológ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i dokumentum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Jogforrások (ill. esetleges jogforrások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Jogszabá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Állami irányítás egyéb jogi eszköze (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közjogi szervezetszabályozó eszkö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Nemzetközi j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Európai Unió egyes jogi aktus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Bírói j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Szokásj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Alkotmánybíróság határozat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Szerződése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Iratmintá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Kommentár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Okir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úria (Legfelsőbb Bíróság) honlap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lb.hu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Határozatok elektronikus gyűjtemény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birosag.hu/engine.aspx?page=anonim%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DVD / Webjogtá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Joggyakorlat -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kotmánybíróság határozatai:  az Alkotmánybíróság hivatalos lap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kotmánybíróság határozatai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tározatkeres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ww.mkab.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kotmánybírósá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rpus juris hungarici (Magyar Törvénytá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erbőczy: Tripartit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országi rendeletek tára (1867-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rpus Juris DV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1000ev.hu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T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örténeti j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jogtár időgé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omtatott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zlönyállapoto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ww.parlament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ww.1000ev.hu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em hatályos j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934640"/>
            <a:ext cx="82281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ogyk.hu/dtt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GYK gyűjteményéből digitalizálv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szabálygyűjtemény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öntvénytár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dattár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nyv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olyóir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+ ezek leírása, története, életrajzok, könyvleírások, linkek más gyűjteményekhez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igitalizált Törvényhozási Tudástá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Tartalom helye 1"/>
          <p:cNvSpPr/>
          <p:nvPr/>
        </p:nvSpPr>
        <p:spPr>
          <a:xfrm>
            <a:off x="0" y="1484280"/>
            <a:ext cx="822816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http://www.ogyk.hu/dtt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OGYK gyűjteményéből digitalizálv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Jogszabálygyűjtemény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Döntvénytár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Adattár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Könyv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Folyóirat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+ ezek leírása, története, életrajzok, könyvleírások, linkek más gyűjteményekhez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források csoportosítás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Belső – külső jogforrá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ndes – rendkívül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alkotói (írott) – jogalkalmazói (íratla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Nemzeti – nemzetközi – 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zövetségi – tartomány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zabadkézi sokszög 1"/>
          <p:cNvSpPr/>
          <p:nvPr/>
        </p:nvSpPr>
        <p:spPr>
          <a:xfrm>
            <a:off x="457200" y="428760"/>
            <a:ext cx="8229600" cy="14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forrási hierarchia (Magyarország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á-fölé rendeltségi viszo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Felsőbb szintűvel nem lehet ellenté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Alsóbb szintűt módosít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kotm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rendelet, kormányhatároz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 tagjainak ren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Önkormányzati rendelet, állami irányítás egyéb jogi eszkö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x specialis derogat legi general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x posterior derogat legi prior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Hatály - érvényessé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Érvényessé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Megalkotására feljogosított szervtől származ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Eljárási szabályoknak megfelelően alkották me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Jogforrási hierarchiának megfe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Megfelelő módon ki van hirdet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Hatályoss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Területi hatá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Személyi hatá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Időbeli hatá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4572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Ex tunc - visszaható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72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Ex nunc - elfogadást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72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Pro futuro - jövőben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Kogens – diszpozitív normá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zabadkézi sokszög 3"/>
          <p:cNvSpPr/>
          <p:nvPr/>
        </p:nvSpPr>
        <p:spPr>
          <a:xfrm>
            <a:off x="4643280" y="4076640"/>
            <a:ext cx="3745080" cy="228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Miért font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 cselekményeket, eseményeket általában a megtörténtükkor hatályos jog szerint kell megíté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zabadkézi sokszög 4"/>
          <p:cNvSpPr/>
          <p:nvPr/>
        </p:nvSpPr>
        <p:spPr>
          <a:xfrm>
            <a:off x="5940360" y="3068640"/>
            <a:ext cx="3203640" cy="265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Miért font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árhol (nyomtatottan, elektronikusan) talált jogszabályszöveg esetén kérdés, hogy hatályos-e még, úgy hatályos-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zabadkézi sokszög 1"/>
          <p:cNvSpPr/>
          <p:nvPr/>
        </p:nvSpPr>
        <p:spPr>
          <a:xfrm>
            <a:off x="457200" y="428760"/>
            <a:ext cx="8229600" cy="14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zabadkézi sokszög 2"/>
          <p:cNvSpPr/>
          <p:nvPr/>
        </p:nvSpPr>
        <p:spPr>
          <a:xfrm>
            <a:off x="457200" y="1935000"/>
            <a:ext cx="8229600" cy="4734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kotmá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Magyarország Alaptörvén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Jelenlevő 2/3 – sarkala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Törvénykönyvek, kódex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erejű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iniszterelnöki vagy miniszteri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agyar Nemzeti Bank elnökének rendel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Önálló szabályozó szerv vezetőjének rende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Államtitkári rendelkez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Önkormányzati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Közjogi szervezetszabályozó eszköz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Normatív határo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Normatív utasít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Régi neve: Állami irányítás egyéb jogi eszköz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Határoz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tasítá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atisztikai közlemén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i iránymutatás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Iránye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Tájékoz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zabadkézi sokszög 1"/>
          <p:cNvSpPr/>
          <p:nvPr/>
        </p:nvSpPr>
        <p:spPr>
          <a:xfrm>
            <a:off x="457200" y="428760"/>
            <a:ext cx="8229600" cy="14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Rendkívüli jogforrások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ndkívüli állapotb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Honvédelmi Tanács rende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zükségállapotb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Köztársasági elnök rende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12:45Z</dcterms:created>
  <dc:creator>karoliny</dc:creator>
  <dc:description/>
  <dc:language>en-US</dc:language>
  <cp:lastModifiedBy>Karoliny</cp:lastModifiedBy>
  <dcterms:modified xsi:type="dcterms:W3CDTF">2013-03-07T15:18:43Z</dcterms:modified>
  <cp:revision>119</cp:revision>
  <dc:subject/>
  <dc:title>Magyar jog</dc:title>
</cp:coreProperties>
</file>