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891-D098-415E-A568-ADC01D7E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072-EEE1-40F6-9155-01C10575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01E-B9C2-4E62-BF58-1B3CAF5B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E57-C0AC-475C-9F10-1C18EBAE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B4EE-0786-4B0D-B03B-2D871743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23AD-7AD8-42D9-9599-0CBD6CB7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603E-9191-4028-9799-179F1190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15A8-D554-478E-9163-374D1000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577B-D79A-4214-985B-E2C31036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18D0-7B29-461F-8E22-A1E57644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60E7-F2E9-47A6-86AF-E6037268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E28-BD13-40A7-AC15-DF50AB39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1476-3792-40F0-8EBE-93D8697B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3692-C554-41E0-94FD-CBF1485D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6F7A-0442-441D-8FB5-A8C8DA31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7195-87D3-498F-8F58-DD807FF4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EDFF-EA75-4323-A305-02CCBCAF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619-5003-4E53-AC15-7B9F5072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B5F-F4A3-467E-8182-91D0D764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157A-FE79-4C8A-9A39-ED90FC2D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57B-FE7B-40A5-B967-2DE76827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AB1-E3AA-4E6D-92EC-48403D23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B6B-25BD-4495-A757-9D77C6AA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922-1C43-4585-A81F-BA1035FE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77C2-0105-465C-A405-07667E6C18E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7A3D-C760-4EAA-A8F9-FBD8CB05E1D6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ulugyminiszterium.hu/szerzodes/main.aspx" TargetMode="External"/><Relationship Id="rId2" Type="http://schemas.openxmlformats.org/officeDocument/2006/relationships/hyperlink" Target="http://njt.hu/njt.php?nemzetkozi_szerzodesek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reaties.un.org/Pages/LONOnline.aspx" TargetMode="External"/><Relationship Id="rId2" Type="http://schemas.openxmlformats.org/officeDocument/2006/relationships/hyperlink" Target="http://treaties.un.org/Pages/DB.aspx?path=DB/MTDSG/page1_en.xml&amp;menu=MTDSG" TargetMode="External"/><Relationship Id="rId3" Type="http://schemas.openxmlformats.org/officeDocument/2006/relationships/hyperlink" Target="http://treaties.un.org/Pages/UNTSOnline.aspx?id=1" TargetMode="External"/><Relationship Id="rId4" Type="http://schemas.openxmlformats.org/officeDocument/2006/relationships/hyperlink" Target="http://treaties.un.org/Pages/Home.aspx?lang=en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cronymfinder.com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n.org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n.org/en/documents/" TargetMode="External"/><Relationship Id="rId2" Type="http://schemas.openxmlformats.org/officeDocument/2006/relationships/hyperlink" Target="http://documents.un.org/welcome.asp?language=E" TargetMode="External"/><Relationship Id="rId3" Type="http://schemas.openxmlformats.org/officeDocument/2006/relationships/hyperlink" Target="http://www.un.org/depts/dhl/resguide/index.html" TargetMode="External"/><Relationship Id="rId4" Type="http://schemas.openxmlformats.org/officeDocument/2006/relationships/hyperlink" Target="http://www.dagdok.org/index.php?id=&amp;L=1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cj-cij.org/" TargetMode="External"/><Relationship Id="rId2" Type="http://schemas.openxmlformats.org/officeDocument/2006/relationships/hyperlink" Target="http://www.icc-cpi.int/" TargetMode="External"/><Relationship Id="rId3" Type="http://schemas.openxmlformats.org/officeDocument/2006/relationships/hyperlink" Target="http://www.ictr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ur-lex.europa.eu/n-lex/pays.html?lang=hu" TargetMode="External"/><Relationship Id="rId2" Type="http://schemas.openxmlformats.org/officeDocument/2006/relationships/hyperlink" Target="http://circa.europa.eu/irc/opoce/ojf/info/data/prod/html/gaz.htm" TargetMode="External"/><Relationship Id="rId3" Type="http://schemas.openxmlformats.org/officeDocument/2006/relationships/hyperlink" Target="http://www.loc.gov/law/help/guide.php" TargetMode="External"/><Relationship Id="rId4" Type="http://schemas.openxmlformats.org/officeDocument/2006/relationships/hyperlink" Target="http://www.glin.gov/search.action" TargetMode="External"/><Relationship Id="rId5" Type="http://schemas.openxmlformats.org/officeDocument/2006/relationships/hyperlink" Target="http://www.ilo.org/dyn/natlex/natlex_browse.home" TargetMode="External"/><Relationship Id="rId6" Type="http://schemas.openxmlformats.org/officeDocument/2006/relationships/hyperlink" Target="http://www.justis.com/about/titles.aspx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nfinder.richmond.edu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gyk.hu/" TargetMode="External"/><Relationship Id="rId2" Type="http://schemas.openxmlformats.org/officeDocument/2006/relationships/hyperlink" Target="http://www.ovid.com/site/catalog/DataBase/104.jsp?top=2&amp;mid=3&amp;bottom=7&amp;subsection=10" TargetMode="External"/><Relationship Id="rId3" Type="http://schemas.openxmlformats.org/officeDocument/2006/relationships/hyperlink" Target="http://www.ovid.com/site/catalog/DataBase/185.jsp" TargetMode="External"/><Relationship Id="rId4" Type="http://schemas.openxmlformats.org/officeDocument/2006/relationships/hyperlink" Target="http://www.westlaw.co.uk/" TargetMode="External"/><Relationship Id="rId5" Type="http://schemas.openxmlformats.org/officeDocument/2006/relationships/hyperlink" Target="http://www.lexisnexis.co.uk/" TargetMode="External"/><Relationship Id="rId6" Type="http://schemas.openxmlformats.org/officeDocument/2006/relationships/hyperlink" Target="http://heinonline.org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Más államok joga</a:t>
            </a:r>
            <a:br>
              <a:rPr sz="5400"/>
            </a:b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Nemzetközi jo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aroliny Esz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Nemzetközi jog és belső j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on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első jog az els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zetközi jog az els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ual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ik sem érvényesül tisztá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Nemzetközi szerződés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agyar részvétell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ltalában lefordítva magyarra, magyar törvényben, törvényerejű rendeletben, kormányrendeletben kihirdet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. évi L. törvény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nemzetközi szerződésekkel kapcsolatos eljárásró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ülügyminisztérium: Szerződéstá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kulugyminiszterium.hu/szerzodes/main.asp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mzeti jogszabálytár: nk szerződés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njt.hu/njt.php?nemzetkozi_szerzodesek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Nemzetközi szerződés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ague of Nations Treaty Series (5 July 1920 - 3 October 194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treaties.un.org/Pages/LONOnline.asp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lateral Treaties Deposited with the Secretary-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treaties.un.org/Pages/DB.aspx?path=DB/MTDSG/page1_en.xml&amp;menu=MTDSG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nited Nations Treaty S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://treaties.un.org/Pages/UNTSOnline.aspx?id=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nited Nations Treaty Colle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http://treaties.un.org/Pages/Home.aspx?lang=e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Nemzetközi szervezet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örténe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llamok egymás melle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ongresszu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815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ajna Bizotts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863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öröskeresz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állítás, kommunik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919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pszövetség / Nemzetek Szövet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2. világháború ut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N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Gazdasági együttműködé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Bretton-Woo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/ W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emzetközi Valutaal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Nemzetközi szervezet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ag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GO / N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yílt / zá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vékeny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Univerzális / specializá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öldrajz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Univerzális / regionális / szubregioná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llegális / legá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upranacionális / kormányköz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Acronym Fin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acronymfinder.com/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ecff"/>
                </a:solidFill>
                <a:latin typeface="Arial"/>
              </a:rPr>
              <a:t>ENSZ, Egyesült Nemzetek Szerveze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llamok közti együttműköd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945-ben a Népszövetség utódjaként alapított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gországok száma 1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zgyűlé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iztonsági Taná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Gazdasági és Szociális Taná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emzetközi Bírósá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itkársá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akosított szerv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6 hivatalos nyelv: angol, arab, francia, orosz, kínai, spany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un.org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ENSZ dokumentum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ltalá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un.org/en/documents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fficial documents of the United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documents.un.org/welcome.asp?language=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N Documentation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earch Gui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://www.un.org/depts/dhl/resguide/index.htm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agDok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g Hammarskjöld Libra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http://www.dagdok.org/index.php?id=&amp;L=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Nemzetközi bíróság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zetközi Bíró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icj-cij.org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zetközi Büntetőbíró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www.icc-cpi.int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ational Criminal Tribunal of Rwanda (ICT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://www.ictr.org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ternational Criminal Tribunal for Yugoslavia (ICTY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ttp://www.icty.org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Európa Taná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9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47 tagáll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rv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niszterek Bizottság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arlamenti Közgyűlé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ongresszus (Európai Helyi és Regionális Önkormányzatok Kongresszus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mberi Jogok Európai Bíróság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mberi jogok biztosa (ombudsma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ttp://www.coe.int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ormációs Közpo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(OGYK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  <a:ea typeface="SimSun"/>
              </a:rPr>
              <a:t>Más államok jo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nstantia"/>
                <a:ea typeface="SimSun"/>
              </a:rPr>
              <a:t>Nyelvi problém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nstantia"/>
                <a:ea typeface="SimSun"/>
              </a:rPr>
              <a:t>Jogrendszer isme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nstantia"/>
                <a:ea typeface="SimSun"/>
              </a:rPr>
              <a:t>Hivatalos adatbáz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nstantia"/>
                <a:ea typeface="SimSun"/>
              </a:rPr>
              <a:t>Országgyűlési Könyvtá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Európa Taná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ezménye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conventions.coe.int/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niszterek Tanácsa határozatok, ajánl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coe.int/t/cm/adoptedTexts_en.as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arlamenti Közgyűl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assembly.coe.int/ASP/Doc/ATListing_E.as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Emberi Jogok Európai Bírósá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íróság (Strasbour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ttp://www.echr.coe.int/echr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UDOC (ítélet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ttp://cmiskp.echr.coe.int/tkp197/search.asp?skin=hudoc-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agyaru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T Miniszteri Bizottság ajánlásai, egyes jogese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ttp://www.lb.h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yezménye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iniszteri Bizottság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arlamenti Közgyűlés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tározati, ajánlásai - OGY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Országgyűlési Könyvtá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urópa Tanács dokumentumai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SZ letéti gyűjtemé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ECD-gyűjtemé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Peace Palace Libr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ága – Nemzetközi Bíróság mellett működő könyvtá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ttp://www.peacepalacelibrary.nl/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Referensz irodal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nemzetközi szervezetek kislexikona / Horváth Zoltán, Tar Gábor Budapest : HVG-ORAC Lap- és Könyvkiadó,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mzetközi jog a gyakorlatban / Hargitai József Budapest : Magyar Lap- és Közlönykiadó, 200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search Gu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law.duke.edu/lib/research_guid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  <a:ea typeface="SimSun"/>
              </a:rPr>
              <a:t>Más államok jo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N-le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1"/>
              </a:rPr>
              <a:t>http://eur-lex.europa.eu/n-lex/pays.html?lang=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Legal Gazettes in Euro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2"/>
              </a:rPr>
              <a:t>http://circa.europa.eu/irc/opoce/ojf/info/data/prod/html/gaz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Guide to Law Online </a:t>
            </a: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- </a:t>
            </a: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Library of Congr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3"/>
              </a:rPr>
              <a:t>http://www.loc.gov/law/help/guide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Global Legal Information Network (GL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4"/>
              </a:rPr>
              <a:t>http://www.glin.gov/search.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Natle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5"/>
              </a:rPr>
              <a:t>http://www.ilo.org/dyn/natlex/natlex_browse.home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Just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6"/>
              </a:rPr>
              <a:t>http://www.justis.com/about/titles.aspx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16080"/>
            <a:ext cx="8153280" cy="1432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  <a:ea typeface="SimSun"/>
              </a:rPr>
              <a:t>Más államok joga - alkotmány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Constitution fin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1"/>
              </a:rPr>
              <a:t>http://confinder.richmond.edu/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Nyomtatott kiadványo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nstantia"/>
                <a:ea typeface="SimSun"/>
              </a:rPr>
              <a:t>Nemzeti alkotmányok az Európai Unióban szerk. Trócsányi László, Badó Attila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. - </a:t>
            </a:r>
            <a:r>
              <a:rPr b="0" lang="en-GB" sz="2000" spc="-1" strike="noStrike">
                <a:solidFill>
                  <a:srgbClr val="ffffff"/>
                </a:solidFill>
                <a:latin typeface="Constantia"/>
                <a:ea typeface="SimSun"/>
              </a:rPr>
              <a:t>Budapest, KJK-Kerszöv,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nstantia"/>
                <a:ea typeface="SimSun"/>
              </a:rPr>
              <a:t>Új államok alkotmányai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. -</a:t>
            </a:r>
            <a:r>
              <a:rPr b="0" lang="en-GB" sz="2000" spc="-1" strike="noStrike">
                <a:solidFill>
                  <a:srgbClr val="ffffff"/>
                </a:solidFill>
                <a:latin typeface="Constantia"/>
                <a:ea typeface="SimSun"/>
              </a:rPr>
              <a:t> Budapest : Magyar Tudományos Akadémia Állam- és Jogtudományi Intézete, 1964-19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nstantia"/>
                <a:ea typeface="SimSun"/>
              </a:rPr>
              <a:t>Nyugat-Európa alkotmányai / szerk. Kovács István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. - </a:t>
            </a:r>
            <a:r>
              <a:rPr b="0" lang="en-GB" sz="2000" spc="-1" strike="noStrike">
                <a:solidFill>
                  <a:srgbClr val="ffffff"/>
                </a:solidFill>
                <a:latin typeface="Constantia"/>
                <a:ea typeface="SimSun"/>
              </a:rPr>
              <a:t>Bp. : Közgazd. és Jogi Kvk.,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Az európai népi demokráciák alkotmányai / [szerk., bev. tanulm. Kovács István]. - Budapest : Közgazd. és Jogi Kvk., 19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Kelet-Európa új alkotmányai / szerk. Tóth Károly. - Budapest : Sík Kiadó, 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  <a:ea typeface="SimSun"/>
              </a:rPr>
              <a:t>Külföldi jogi irodal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Fuchs, Wilhelm</a:t>
            </a: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: J</a:t>
            </a: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uristische bücherkunde Linz a. d. Donau : F. Winkler ; New York : The H.W. Wilson company, 192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Szladits, Charles</a:t>
            </a: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: </a:t>
            </a: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Guide to foreign legal material</a:t>
            </a: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s </a:t>
            </a: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-  2nd rev. ed. - Dobbs Ferry, N.Y. : Published for the Parker School of Foreign and Comparative Law, Columbia University in the City of New York by Oceana Publications, c198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A bibliography on foreign and comparative law: Books and articles in English 1978-1983 / compil., annot. by Charles Szladits</a:t>
            </a: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. - </a:t>
            </a: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New York : Oceana Publ. Inc., 19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  <a:ea typeface="SimSun"/>
              </a:rPr>
              <a:t>Külföldi jogi irodal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Külföldi jogi adatbáz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1"/>
              </a:rPr>
              <a:t>http://www.ogyk.h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Index to Foreign Legal Periodicals (IFLP</a:t>
            </a: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2"/>
              </a:rPr>
              <a:t>http://www.ovid.com/site/catalog/DataBase/104.jsp?top=2&amp;mid=3&amp;bottom=7&amp;subsection=1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Wilson Index to Legal Periodicals &amp; Boo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3"/>
              </a:rPr>
              <a:t>http://www.ovid.com/site/catalog/DataBase/185.jsp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nstantia"/>
                <a:ea typeface="SimSu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Westla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4"/>
              </a:rPr>
              <a:t>http://www.westlaw.co.u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LexisNex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5"/>
              </a:rPr>
              <a:t>http://www.lexisnexis.co.uk/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Heinonl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6"/>
              </a:rPr>
              <a:t>http://heinonline.org/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Általános adatbázisok</a:t>
            </a:r>
            <a:r>
              <a:rPr b="0" lang="hu-HU" sz="2000" spc="-1" strike="noStrike">
                <a:solidFill>
                  <a:srgbClr val="0068ae"/>
                </a:solidFill>
                <a:latin typeface="Arial"/>
                <a:ea typeface="SimSun"/>
              </a:rPr>
              <a:t>: EBSCO, ScienceDirect, st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Nemzetközi j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mzetközi j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Jogforr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mzeti jog és nemzetközi jog viszo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mzetközi szervezet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Nemzetközi j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mzetközi közösség tagjai – különösen az államok – közötti kapcsolatokat szabályozó norm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llamközi jo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Jogforrás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zetközi szerződ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ilaterá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ultilaterá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okásj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zetközi jog általánosan elismert elv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írói dönt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ogtudom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zetközi szervezetek döntés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jánl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telező határozat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oldalú aktu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0:07:00Z</dcterms:created>
  <dc:creator>karoliny</dc:creator>
  <dc:description/>
  <dc:language>en-US</dc:language>
  <cp:lastModifiedBy>Karoliny</cp:lastModifiedBy>
  <dcterms:modified xsi:type="dcterms:W3CDTF">2013-03-09T06:57:18Z</dcterms:modified>
  <cp:revision>41</cp:revision>
  <dc:subject/>
  <dc:title>Nemzetközi jog</dc:title>
</cp:coreProperties>
</file>