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221-23D4-44D1-B7A2-44D67F4C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EC0-95A3-4284-83C8-3D025A5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7D6-56CF-4535-9C72-51AAAC65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CDD-8FC5-4E55-B03A-C0AB0926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899-E9ED-420C-900F-8050B27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5A0-6FF2-480A-A9CB-FC0B873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260-9C10-467C-BA96-EF5241D5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0F-F041-4FC4-8FC3-3158730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CCC-914F-48DB-9923-3E8C85A1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4B4-9721-40F5-A2F4-40620A4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5D7-FDDE-4373-9C71-ABEDCFA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762-4015-48F8-B54D-449D7B9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C5BD-BC92-4DAB-A584-D2D7D356BCB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8920" y="4292280"/>
            <a:ext cx="352908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óth Má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th.mate@feek.pte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6696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Arial"/>
              </a:rPr>
              <a:t>"A tudomány lényege a kommunikáció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0066"/>
                </a:solidFill>
                <a:latin typeface="Arial"/>
              </a:rPr>
              <a:t>(Francis Cric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cbcdx"/>
          <p:cNvPicPr/>
          <p:nvPr/>
        </p:nvPicPr>
        <p:blipFill>
          <a:blip r:embed="rId1"/>
          <a:stretch/>
        </p:blipFill>
        <p:spPr>
          <a:xfrm>
            <a:off x="5796000" y="2565360"/>
            <a:ext cx="2805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kommunikáció gyökerei a tudósok levelezéséig nyúli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áig a tudományos kommunikáció személyes találkozásokon, levelezéseken alap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után megjelentek a könyv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17. század közepétől a folyóiratok és egyéb formális csatorn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tudományos információk nagy része (60-80 %) jelenleg is az informális csatornákon terjed egy viszonylag szűk csoporton belü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tudományos kommunikáció informális csatorn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vetlen párbeszé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ézmények, kiállítások látoga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szólalások, előadás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ferenciák és a szünetekben folytatott   beszélgetés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velez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zlatos kézirat köröztet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nyomat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számoló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lső kiadv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lo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 élvonalában dolgozóknak elsősorban a nem publikált, új ismeretekre van szükségü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"láthatatlan egyetem" vagy "láthatatlan közösség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gyakran egy-egy neves tudós köré szerveződv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gjai szétszórva dolgoznak a világban, mégis meglehetős rendszerességgel tartják egymással a kapcsolat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alakulásukat az internet erősítette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kolas Bourb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505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mális csatorn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lyói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fej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ócik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ferencia-elő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temi tanköny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szert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formális csatornákkal szemben a közös jellemzőjük, hogy rendszerezve, visszakereshetővé vannak té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katalogus_szekreny"/>
          <p:cNvPicPr/>
          <p:nvPr/>
        </p:nvPicPr>
        <p:blipFill>
          <a:blip r:embed="rId1"/>
          <a:stretch/>
        </p:blipFill>
        <p:spPr>
          <a:xfrm>
            <a:off x="5651640" y="1700280"/>
            <a:ext cx="284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ublikálás célja nem elsősorban a kommunikáció, han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ó jelzi létezését a társain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bbségét egy adott felfedezés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ös tudás rendezése és fenntar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rmális csatornákat elvileg bárki használhatja, a nem formálisak  csak szűk kör számára elérhető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levelezések sokkal demokratikusabb alapokon szerveződ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ves szakemberek mellett egyetemi hallgatók is egyenrangú félként vesznek rész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68360" y="4365720"/>
            <a:ext cx="7343640" cy="107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7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fentiek fényében van-e a könyvtáraknak szerepe a tudományos kommunikáció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416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nyész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entő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nyvtár nélkül gyakorlatilag nincs tudományos 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könyvtár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 a tudomány működésének alapintézmén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 tevékenysége nyomán lehet visszakeresni a már publikált eredménye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unk támaszkodni a mások eredményei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ját munkánkat elérhetővé tudjuk tenni (és igazolni, hogy a mién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kerülhetők a párhuzamos kutatáso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tudományos kommunikáció szerepl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/Mik stimulálják a kutatá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ági élet szerepl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eredmények olvas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ia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rábbi kuta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t finanszírozó szerv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Tudományos fokoz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leg egy tudományos fokozat van: P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temek adj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hilosophiæ Doctor; dr. phil.;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LA (Doktor of Liberal 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II. vh. után az egyetemek helyett a MTA adta a tudományos fokoz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doktor =&gt; kisebbik részét az egyetemek átminősíthették PhD-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ndidátus (C. Sc.) =&gt; automatikusan PhD-vá minősítették 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doktor (D. Sc.) =&gt; MTA doktora fo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3-tól vezették be a PhD fokozat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bilitációs eljá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adigma előtti álla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sengő elméletek közül egyszer csak kiemelkedik egy, amely azután paradigmává vál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ikeresebben magyaráz meg néhány problémát, elegánsabbnak tűni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féle továbbkutatási lehetőséget kíná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dekes problémákat vet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tudomány mér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fokozat megszerzése a tudományos teljesítményhez van köt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metria méri a tudományos teljesítmény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kációk száma (kategóriánként eltérő értékk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ublikációk valamint a szerző idézet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ok impakt fakt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bályok egyetemenként eltér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"Ennek a kornak egyik rákfenéje a könyvek elburjánzása. Annyira megfekszi ez már az ember gyomrát, hogy képtelen megemészteni azt a sok haszontalanságot, amit napról-napra a világra kotlanak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Barnaby Rich, 16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om jellemző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érete és a gyors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óta a tudomány kialakult, mindig is hasonló volt a      helyz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korban minden kutató elmondhatta, hogy az addig élt  összes tudós 90 százaléka kortár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ddig mindenki úgy érezte, hogy  belefullad a szakirodalom tengeré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ublikációk számának exponenciális növekedése több objektív ok miatt sem tarthat már hosszú ide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b. az évi kb. 60 millió oldalnyi publikált szakirod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0-50 ezer tudományos folyóir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 ezer szakköny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nél sokkal többet a jelenlegi megoldások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megjelentet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feldolgoz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elolvasni nem le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dox módon a szakirodalmi tájékoztatás a sokféle mutatóval,  bibliográfiával, referátummal, katalógussal maga is jelentősen tovább növeli a nyomtatott információk tömegé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nnyiségi növekedéshez minőségi romlás járu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önyveknek és folyóiratoknak alig a tizedrészét  használja az olvasók több mint 80 százalé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k ugyanazt az információt különböző vagy ugyanolyan csomagolásban többször is eladjá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amikor a kongresszusok összes előadását válogatás nélkül kiadják, =&gt; teljesen értéktelen anyagok látnak nyomdafesté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om a mennyiségi növekedés miatt feldolgozhatatlanná vá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amerikai orvoscsoport nemzetközi jelentőségű folyóiratokból kiválasztott néhány kiemelkedő cikket, majd megkérdezték nagyszámú szakembertől, hogy ismerik-e eze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re legalább 50, de gyakran 90 százalékuk nemmel válaszo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emberek szakterületük irodalmának csak kb. 1 százalékát olvassák el, és további 4 %-át ismerik még kivonatok, beszámolók, összefoglalások formájá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onferenciák számának 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815-ben tí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00-ban kb. szá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7-ben 3727 nemzetközi konferenciát tartott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0-ben több mint 30 e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rszágos vagy annál kisebb konferenciák száma 1 7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b. 300 millió résztvevővel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665. Az első tudományos folyóiratnak tekintett periodikum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Journal des Scava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hilosophical Transactio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cím al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lyóiratok új, praktikus módot kínáltak a tudósok számára, hogy megvitassák eredményei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publikálás előzményei a korai 17. századra  teszi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gliai tudósok, kutatók csoportjai a Royal Society (Királyi Társaság) égisze alatt – levelezés formájában – mutatták be és vitatták meg eredményei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folyóiratok a 19. században váltak a kutatók és a kutatókat alkalmazó szervezetek, intézmények rangjának legfőbb mutatóiv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kommunikáció hagyományos útjai a második világháborút követően kérdőjeleződtek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övetségesek által előállított tudományos dokumentumokban lévő nagy mennyiségű információ szervezésére, tárolására és hozzáférhetővé tételére kellett új utakat keres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ilágháborút követően megnövekedett a kutatási aktivitás, a kutatók száma, megváltozott a kutatás természete: a speciálistól az interdiszciplinaritás irányá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z a tudományos kiadványok, cikkek számának ugrásszerű növekedéséhez vezete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ektorált folyóiratok jellemző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jelenés előtt a cikkeket minőségileg ellenőrzik. (lektorá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 átruházza a szerzői jogokat a kiadó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 honoráriumot kap a cikkéé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iadó pénzért árulja a megjelent folyóirat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lasszikus tudományokban ekkor következett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kfolyóiratok létrehoz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sületek alapít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ág bevezetése a felsőfokú oktatás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apművek és tankönyvek létrejötte lehetővé teszi, hogy az új tudós ott kezdje a kutatást, ahol a könyvek abbahagyják az elemzést, így mélyebb és bonyolultabb kérdéseket lehet vizsgál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okban megjelenő szakcikkek már csak a szakmabelieknek szólnak, a kívülállók már nem is értik meg ő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Folyóirat krí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tvanas évektő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inus magában fogla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formációrobban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övekvő kiadási költség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bből kifolyólag jelentkező magasabb ár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m kellően hatékony terj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sések problémájá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lyek miatt új utakat kellett keresni a tudományos publikálásb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folyóirat krízis hatása a könyvtárak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ak számára egyre növekvő terhet jelent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árak emelked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re növekvő számú tudományos folyóirat fizikai elhelyezé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ternet, illetve később a web fejlődése a ’90-es évek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gyományos papír alapú folyóiratok mint a tudományos kommunikáció elsőszámú hordozóinak visszaszorul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árhuzamos elektronikus hozzáférés a nyomtatott folyóirat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us quo” rögzít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t a saját publikál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publishing vagy self-archiv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TP (desktop publishin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em lektorált folyóiratokban publikáló szerzők kevésbé lettek érdekeltek a honoráriumb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zont szerették volna, ha munkáikat olvassák, használják, idéz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871451_f520"/>
          <p:cNvPicPr/>
          <p:nvPr/>
        </p:nvPicPr>
        <p:blipFill>
          <a:blip r:embed="rId1"/>
          <a:stretch/>
        </p:blipFill>
        <p:spPr>
          <a:xfrm>
            <a:off x="5292720" y="220500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 modellek kifejlőd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(vagy e-) folyóir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rid, papír és elektronikus (vagy p-e) folyóir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ban egy nyomtatott folyóirat, amely elektronikus csatornákon keresztül is elérhető de elsőszámú megjelenési formája a nyomtatott verzi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az e-p folyóirat, amelyet elsősorban elektronikusan, és csak korlátozott számban nyomtatott formában terjeszten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i saját publikálás; a szerzők saját weboldalaikon teszik közzé cikkei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ományterületenkénti e-print tárhely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az új elektronikus publikálási modellek forradalmasíthatják a tudományos kommunikációt, hatékonyabbá és eredményesebbé téve a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ílt hozzáférésű tudományos irodalom jellemző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gitál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line elérés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gyen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szerzői jogi korlátozástól m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eredményekhez való nyílt hozzáférés mozgalommá szervezője és ma is egyik koordinálója a Nyílt Archívum Kezdeményezés (Open Archives Initia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nta Fe Konven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99 októberében Santa Fében rendezvényen megállapodtak az interoperabilitásról, az archívumok kölcsönös kereshetőségérő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tézmény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olgozzák a tárolás kritériuma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határozzák a felküldésre engedélyezettek körét (pl. egy egyetem oktatói kar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rbantartják a dokumentumtá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kordokat minimális metaadatsorral ellát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unka központi eleme az OAI Begyűjtő Proto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ww.openarchives.org/OAI/openarchivesprotocol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ülönböző e-print tárhelyek közti együttműködést tesz lehetőv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prints.org (http://eprints.org) volt az első ingyenes szoftver, amelyet arra fejlesztettek ki, hogy központi, vagy megosztott, tárgy-, vagy intézményi alapon szerveződő tárhelyeket hozzanak létre a segítségé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itebase (http://www.citebase.org/) e-print szerver olyan értéknövelt szolgáltatásokat kínál a felhasználóknak, m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tatisztikák készíté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ivatkozottság méré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ézményi bibliográfiá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tatók publikációs listájának összeállítá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Nyílt hozzáférés kezdménye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Nyílt hozzáférés kezdemén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1 december 1-2 között Budapesten az Open Society Institute által szervezett rendezvényen indították útjára a Nyílt Hozzáférés Kezdeményezé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ttp://www.soros.org/open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óta erős nemzetközi mozgalommá nőtte ki mag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PARC (The Scholarly Publishing and Academic Resources Coali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tárak és könyvtári szervezetek világméretű szövetsége, amely célul tűzte ki, hogy a tudományos kommunikációt, jobbá, gyorsabbá és olcsóbbá teg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PARC Nyílt Hozzáférés Hírlevele http://www.earlham.edu/~peters/fos/) naprakészen tájékoztat a mozgalom eredményeir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Nyílt hozzáférés kezdeménye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úton lehet tudományos cikkeket ingyenesen közzétenn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ílt hozzáférési folyóiratban (Open Access Journal = OAJ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ilvános tárhelyen, amely megfelelő szabványokat használ ahhoz, hogy távolról is kereshető legy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kutatási anyagok, eredmények elektronikus változatait jele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letartoznak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ferencia-előadás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ományos könyvek fejezet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, amit nem lektoráltak formálisan, mégis fontos kutatási eredményeket tartalmazhat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fajtáját különböztetik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-Prin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st-Prin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átékszabályok elméleti tisztázásának igénye a paradigma születésekor, vagy a paradigmaváltások időszakában szokott felmerül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 kell egyáltalán problémának és megoldásnak tekinteni, mely problémák megoldása a legfontosabb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öld mozog kijelentés azért volt olyan felháborító és értelmetlen, mert a Föld fogalmához hozzátartozott a mozdulatlanság fogal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eredetil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zők által a kollégáik körében visszajelzés reményében szétküldött pre-printeket jelentet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őbb a fogalom jelentése kibővü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azon tudományos dolgozatokra, amelyeket kézirat formájában a szerző maga tett elérhetővé a hagyományos tudományos publikálás keretein kívü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ílt Archívumok Kezdeményezés (OAI = Open Archives Initiative) cél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i anyagokból párhuzamosan kereshető adatbázisokat hozzanak létre és tegyenek elérhetővé az intern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jánlásokat fejleszt ki és támogat, amelyek elősegítik a tartalmak hatékony terjesztés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e-print archivum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ső e-print szerver a jelenleg http://arXiv.org néven ismert Los Alamos-i Fizikai Archívum vol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1990-es években nagyon sok különböző tudományterület létrehozta a saját tárhely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gPrints http://cogprints.soton.ac.u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Ec – Research Papers in Economics http://repe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árgykörök szerinti e-print tárhelyek mellett léteznek nemzeti és intézményi alapon szerveződők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Nemzeti e-print tárhel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sült Államok E-Print Hálózata (US E-Print Network) www.osti.gov/epr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rvégia – NORA http://www.ub.uio.no/nora/noaister/search.html?siteLanguage=en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Intézményi tárhel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rmai egyetem http://dspace-unipr.cilea.it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yggdrasil"/>
          <p:cNvPicPr/>
          <p:nvPr/>
        </p:nvPicPr>
        <p:blipFill>
          <a:blip r:embed="rId1"/>
          <a:stretch/>
        </p:blipFill>
        <p:spPr>
          <a:xfrm>
            <a:off x="5435640" y="1628640"/>
            <a:ext cx="2817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tárhelyek segítenek a hagyományos publikálási rendszer akadályainak a leküzdéséb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láthatósá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obb idézet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éles kör számára válik gyorsan elérhetővé az informá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ékonyabb a tudományos eredmények archivál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k a kommentárokat, megjegyzése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intézményi tárhely reprezentálja az adott szervezet minőség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ílt hozzáférés mind a mai napig sok vitát kiváltó mozgal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kutatási projekt indult amelyek az e-print archívumok sikerének lehetséges akadályait próbálta elhárít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i jogo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ktorálá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őségi ellenőrzé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sszú távú megőrz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IR (Focus on Access to Institutional resources – Fókuszban az intézményi tárhelyek hozzáférhetősége http://www.jisc.ac.uk/index.cfm?name=programme_fai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ző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ikkeket többen olvassá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en hivatkozzá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bban bekerülnek az eredmények a tudományos kommunikáció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 intézmény nem engedheti meg magának, hogy fizessen a lektorált folyóiratoké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vasó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hez hozzáférnek, ami érdekli ő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tlag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ki láthatja, hogy a tudományos kutatás miről szó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ófizető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átják, hogy mire költik a pénzüket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„normál” tudomány művelése előbb utóbb anomáliákhoz vez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nomáliák nem okoznak tudományos forradalmat, sokáig együtt lehet velük é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egy anomália kezd többnek látszani, mint a normál tudomány szokásos rejtvény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kor megindul az átmenet a válságba, a rendkívüli kutatások időszaká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ság fellazítja a normál rejtvényfejtés szabályait, és sokféle, a problémák nehézségi fokával arányosan egyre merészebb új elmélet kialakítására ösztönö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ran még a megoldott problémák megfejtéseit is kétségbe vonjá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„normál” tudomány válságba ker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ságok háromféle módon fejeződhetnek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ormál tudomány végül mégis képes megbirkózni a problémákkal (bár többen kétségbe esnek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a gyökeresen új megközelítéseknek is ellenáll, félreteszik a következő nemzedékek számá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ik egy használhatónak tűnő új paradigma-jelölt és forradalmi változás megy vég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 nem felhalmozódás útján fejlőd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új elmélet nem egyszerűen összekapcsolja a régieket, általában nem is összeegyeztethető velü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smeretek nem közvetlenül a nyers, érzéki adatokra épül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ósok csak azokat az adatokat látják, amelyekre paradigmájuk felkészíti ő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aradigmaváltás látásmód változást jel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ran ugyanazokat a tényeket kell másként értelmez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kuhn"/>
          <p:cNvPicPr/>
          <p:nvPr/>
        </p:nvPicPr>
        <p:blipFill>
          <a:blip r:embed="rId1"/>
          <a:stretch/>
        </p:blipFill>
        <p:spPr>
          <a:xfrm>
            <a:off x="6156360" y="2060640"/>
            <a:ext cx="2351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ennünket körülvevő világ megismerésére irányuló tevékenység és az ezen tevékenység során szerzett ismeretek összessé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ományos kommuniká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 népszerűsítését és a tudományos eredmények kommunikáció útján való áramlását egyaránt szokták alatta ért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con_guy_-_at_podium"/>
          <p:cNvPicPr/>
          <p:nvPr/>
        </p:nvPicPr>
        <p:blipFill>
          <a:blip r:embed="rId1"/>
          <a:stretch/>
        </p:blipFill>
        <p:spPr>
          <a:xfrm>
            <a:off x="5580000" y="1773360"/>
            <a:ext cx="2760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ny évente duplázódik meg a világ népessé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a tudomá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-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 sokkal szabályosabban fejlődik, mint a civilizáció bármely más mérhető jellemző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ez a tendencia folytatódik, akkor néhány évtized múl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 millió folyóirat les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 Föld minden lakója a tudománnyal fog foglalkozn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9:25:14Z</dcterms:created>
  <dc:creator>Admin</dc:creator>
  <dc:description/>
  <dc:language>en-US</dc:language>
  <cp:lastModifiedBy>Feek</cp:lastModifiedBy>
  <dcterms:modified xsi:type="dcterms:W3CDTF">2013-04-10T16:28:29Z</dcterms:modified>
  <cp:revision>18</cp:revision>
  <dc:subject/>
  <dc:title>Tudományos kommunikáció</dc:title>
</cp:coreProperties>
</file>