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493-9993-48ED-AC08-DCD4E5EA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175-01D6-4322-8C3C-AA1167DF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A42-E36F-4841-9B8A-5AEBBE48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0CD-FD06-455B-BD7B-DB0395DA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AE8-14E0-44A8-96FF-41748216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C4F-2A1E-455B-A4FC-87B9E612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3D1-EB3A-471F-9D74-040B4606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57E-8443-46CB-8118-51F48A8C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C87-ED75-4A94-B094-5E5B3F8A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A5A-96D9-4CEF-A082-0FBAE857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8C1-0290-46A5-959D-A116AF03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DA2-218A-4728-8CEA-33813CD2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E77B-7A7E-41C7-B3FA-9DB3DA3EBD0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utatásmódszer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óth Má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oth.mate@feek.pte.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 kutatás hipotézise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lyan tétel vagy tételek, amely(ek) szerepe, hogy magyarázatot ajánljanak különböző – adott esetben a kutatási – problémák megoldásához. A hipotézis feltételezés, de benne nem véletlen felismerések dominálnak, hanem helyet kap az előzetes tapasztalat, a problémáról való korábbi tudás i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i kérdés operacionalizál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unkahipotézis kialakításának célja a hipotézisben szereplő fogalmak operacionalizálása. A fogalom operacionalizálásán annak mérhetővé tételét értj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tudományosságának feltéte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40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vénye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ás azt vizsgálja, ami a tárg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bízható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ismételt vizsgálatok azonos eredményeket ad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bjektiv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elenséget nem befolyásoljuk a kutatás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ranchise-mistakes"/>
          <p:cNvPicPr/>
          <p:nvPr/>
        </p:nvPicPr>
        <p:blipFill>
          <a:blip r:embed="rId1"/>
          <a:stretch/>
        </p:blipFill>
        <p:spPr>
          <a:xfrm>
            <a:off x="5292720" y="2717640"/>
            <a:ext cx="32590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 kutatás etikai kérdés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Ha emberek is részt vesznek a kutatásb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nkéntes rész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észtvevők kocká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tudományosság etikai kérdés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 szellemi értékét eltulajdonítani nem sza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ási adatok meghami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edvezőtlen eredmények közre nem 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utatási mó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duktív kutatási stratégiá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ráskut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Dokumentum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Tartalom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Megfigy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zs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Kérdő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Inter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titűdvizsg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ociome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s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Kísér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Generic_scientist_blue"/>
          <p:cNvPicPr/>
          <p:nvPr/>
        </p:nvPicPr>
        <p:blipFill>
          <a:blip r:embed="rId1"/>
          <a:stretch/>
        </p:blipFill>
        <p:spPr>
          <a:xfrm>
            <a:off x="4284720" y="2276640"/>
            <a:ext cx="38098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Dokumentumelemz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kument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olyan a jelenben vagy a közelmúltban keletkezett anyagot, ami nem közvetlenül a kutatás céljára készült, de amelyekből adalékokat, fontos információkat kaphatunk a kutatómunkáho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okumentumelemzés használható a hipotézisek megfogalmaz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n kívül adatgyűjtésre, adatok elemzésére, következtetések levon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ség a forráselemzéssel, hogy itt nem történeti dokumentumok elemzését végezzük. (hol a határ…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Dokumentumelemz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zonyos dokumentumok közvetlen kapcsolatban vannak a kutatás témájá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rvények, jelentések, tervezetek az adott témá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ISO 13250 szabványcsalá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ok létrejöttük pillanatában nem voltak kapcsolatban a kutatás témájával (pl. vers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rdés, hogy a dokumentum kutatható-e egyáltal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Tartalomelemz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öveg mélyrétegeinek rejtett tartalmait lehet ezzel a módszerrel feltá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él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üzenetek jelentése mellett a szöveg rejtett tartalmainak a feltárása olyan eljárással, amely a szöveg visszatérő sajátosságainak elemzésére épü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övegek adatokká alakítása, kategóriák felállítása, amelybe a szöveg elemei bizonyos szabályok szerint besorolhat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nnyiségi és minőségi következtetések levon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Tartalomelemz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ögzítés egységei lehet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ányszor fordulnak elő a sza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ém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mélyi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kezdések, mondatok, szintagm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ész elemek (cikk, film, könyv az adott témáró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blogbejegyzések, kommentek tartalmának elem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zona.hu/article/467/a-gyurcsanyblog-elemzese-a-nyelv-nem-hazudik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Digitális könyvtári kutatások elemz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4part_asszociacio"/>
          <p:cNvPicPr/>
          <p:nvPr/>
        </p:nvPicPr>
        <p:blipFill>
          <a:blip r:embed="rId1"/>
          <a:stretch/>
        </p:blipFill>
        <p:spPr>
          <a:xfrm>
            <a:off x="0" y="0"/>
            <a:ext cx="5292720" cy="353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baljobb_associacio"/>
          <p:cNvPicPr/>
          <p:nvPr/>
        </p:nvPicPr>
        <p:blipFill>
          <a:blip r:embed="rId2"/>
          <a:stretch/>
        </p:blipFill>
        <p:spPr>
          <a:xfrm>
            <a:off x="4067280" y="3470400"/>
            <a:ext cx="50767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u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isztematikus erőfeszítés a valóság megismerésére vagy valamilyen tudatosult nehézség megoldására, amelynek során egy komplex jelenséget tanulmányozunk előre megfogalmazott hipotézis alapjá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Megfigyel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abb vagy rövidebb ideig tartó észlelés, ami lehetőséget ad olyan jelenségek vagy folyamatok követésére, amelyek az észlelt objektumban bizonyos hatások eredményeképp keletkez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agatartás megismeréséből lehet következtetni a motivációra, a belső mechanizmusok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PLACE projekt megfigyelései a könyvtárhasználatr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Megfigyel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étköznapi megfigyeléshez képest a kutatási móds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tu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vszer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ndsz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bjek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igyelő helyze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j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en van, de nem vesz részt a szituáció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en van és részt vesz a szituáció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Megfigyel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Előkészí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igyelés céljának meghatár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igyelt jelenség operacionalizált leírása (mit hogyan értékelü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kalmas megfigyelési technika kivál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ukturálatlan megfigyelésnél: a rögzítés teljességének bizto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ukturált megfigyelésnél ellenőrizni, hogy a kategóriarendszer leírja-e az előforduló jelenségek teljes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tgondoljuk a feldolgozás módj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Megfigyel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Megfigyelési technik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ögzítjük a valóságban lezajló folyamatok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ódolás nélküli rög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plók, feljegyz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körű jegyzőkönyvveze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lektív jegyzőkönyvveze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ódolással történő rög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cslési ská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rendszeres és grafikus rög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tegóriarendszeres rög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érdőí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kérdőíves vizsgálat fázi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öntés arról, hogy mi szerepeljen a kérdőív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őív és a kérdések típusának meghatár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őív első változatának elkész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ső változat kiprób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ések felülvizsg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égleges kérdőívek megszerkesz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fel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ok feldolg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érdőí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33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z összegyűjthető információk típu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zsgált személy/csoport ismere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lemény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titűd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edelm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zelmei az adott kérdéssel kapcsolato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questionnaire"/>
          <p:cNvPicPr/>
          <p:nvPr/>
        </p:nvPicPr>
        <p:blipFill>
          <a:blip r:embed="rId1"/>
          <a:stretch/>
        </p:blipFill>
        <p:spPr>
          <a:xfrm>
            <a:off x="4859280" y="2492280"/>
            <a:ext cx="361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érdőí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353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kérdések típu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árt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yitott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élig zárt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elési ská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questionnaire"/>
          <p:cNvPicPr/>
          <p:nvPr/>
        </p:nvPicPr>
        <p:blipFill>
          <a:blip r:embed="rId1"/>
          <a:stretch/>
        </p:blipFill>
        <p:spPr>
          <a:xfrm>
            <a:off x="4284720" y="3141720"/>
            <a:ext cx="3886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Interj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óbeli kikérdezésen alapuló vizsgálati mó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ajtá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lkalmazott módszerek sze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ukturálatlan interjú, vagy szabad beszélg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inamikus interj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ukturált interjú, vagy irányított beszélg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élig strukturált interj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észtvevők száma sze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é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po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érdező viselkedése sze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á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m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mé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Interj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Kérdéstípus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ílt kérd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ényközlést igénylő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ejtést igénylő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árt kérd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eletválasz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hasonlító rangsorolást igénylő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jelentések értékelése megadott szempontok alapj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ísérl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Típu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idézett kísérlet (mi idézzük elő a helyzetet) vagy felidézett kísérlet (utólag azonosítjuk a helyzetet, amikor valami lejátszódo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ísérlet lehet egy-, két-, és többcsopo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 laboratóriumi vagy természetes terepen végze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Pél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keresési feladat megoldását hol kezdik az ember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24000" y="2421000"/>
            <a:ext cx="619272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u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A kutatás folyam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andó probléma meghatár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zmények vizsg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potézis megfogalma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utatási módszerek és technikák megválasz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utatási terv elkész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taválasz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vizsgál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trollvizsgál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 feldolg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ás eredményeinek szintéz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ás eredményeinek publiká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omework"/>
          <p:cNvPicPr/>
          <p:nvPr/>
        </p:nvPicPr>
        <p:blipFill>
          <a:blip r:embed="rId1"/>
          <a:stretch/>
        </p:blipFill>
        <p:spPr>
          <a:xfrm>
            <a:off x="6659640" y="213372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971640" y="1773360"/>
            <a:ext cx="4321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nos összefüggéseket vizsgálva nem mindig van lehetőség a teljes mintán elvégezni a kutat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rezentálni kell a teljessé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hhez alkalmas mintasokaságot kell választ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subsetPopulation"/>
          <p:cNvPicPr/>
          <p:nvPr/>
        </p:nvPicPr>
        <p:blipFill>
          <a:blip r:embed="rId1"/>
          <a:stretch/>
        </p:blipFill>
        <p:spPr>
          <a:xfrm>
            <a:off x="5580000" y="1916280"/>
            <a:ext cx="27655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Teljes körű kutatá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ás minden elemre kiterjed (pl. minden személyre, minden lehetséges szituációra), amelyre vonatkozóan következtetéseket akarunk megfogalmaz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Valamennyi hazai könyvtári blog, Valamennyi cikk a digitális könyvtári kutatások körébő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szor a teljesség elérése szándékaink ellenére nem sikerül. (pl. valamennyi cikk a digitális könyvtárakról az, amit megtalálunk szakmai adatbázisainkban) – teljességre törekvő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 legbiztosabb, ha mindent megvizsgálunk. Ha nem lehet, akkor jön a mintavét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1557360"/>
            <a:ext cx="7129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opuláció egy meghatározott részsokaságának bevonása a kutatásb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Mi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opulációnak az a részsokasága, amelyre a kutatás kiterj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intavétel eldöntheti a teljes kutatás sikerét vagy kudarc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tikai kérdések fokozottan jelentkezn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971640" y="2276640"/>
            <a:ext cx="41050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Mintavételi eljárás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let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tegez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po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véletlen minta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population-six-billion-1"/>
          <p:cNvPicPr/>
          <p:nvPr/>
        </p:nvPicPr>
        <p:blipFill>
          <a:blip r:embed="rId1"/>
          <a:stretch/>
        </p:blipFill>
        <p:spPr>
          <a:xfrm>
            <a:off x="4859280" y="1916280"/>
            <a:ext cx="380988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Véletlen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minden egyed egyforma valószínűséggel kerülhet be a mintáb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„populáció” a vizsgált változó szempontjából a homog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járás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rsolással történő mintavé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letlen számtáblázat szerinti mintavétel (statisztikai számtáblázatban szereplő sorszámmal ellátott elemek kerülnek be a mintá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ítógéppel generált véletlen mi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Rétegezett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zsgált populációt csoportosítjuk és a mintasokaságot arányosan választjuk ki az egyes csoportokb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tegképző ismérvek meghatározás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hhez vissza kell nyúlni a kutatási kérdés operacionalizálásáho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magyar könyvtári blogoszféra rétegképző ismér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Csoportos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ncs lista a teljes sokaságról, de csoportonként van (pl. hány fő különböző végzettségű dolgozik az egyes könyvtárak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ször a csoportokból veszünk véletlen mintát (kiválasztunk néhány könyvtá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jd ezen belül kiválasztjuk a „másodlagos mintavételi egységeket” (pl. a felsőfokú szakirányú diplomával rendelkező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Nem véletlen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vóta szerinti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tszőlegesen lehet kiválasztani a mintában szereplőket, de azoknak illeszkedni kell egy kvótához. (pl. bármely könyvtár lehet az alanyunk, de pl. az országos statisztikában szereplő intézménynagyságokat reprezent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centrált kiválasz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rekszünk rá, hogy valamely szempontból tipikus egyedek kerüljenek a mintá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nkényes kiválasz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ó maga dönti el, hogy kit von be a mintá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at még kevés, abból kellene következtetni valamilyen jelensé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atokat ezért értelemmel kell ellát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sztikai módszerek alkalmaz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ír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vetkeztetéses stat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statisztika"/>
          <p:cNvPicPr/>
          <p:nvPr/>
        </p:nvPicPr>
        <p:blipFill>
          <a:blip r:embed="rId1"/>
          <a:stretch/>
        </p:blipFill>
        <p:spPr>
          <a:xfrm>
            <a:off x="5435640" y="2708280"/>
            <a:ext cx="3128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Leíró statiszt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datokat nem akarjuk kivetíteni nagyobb egységekre, vagy általánosít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ület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 ábrázo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 csoportosítása, osztály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kal végzett műve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edmények megjelen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kérdéseinek meghatár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bléma olyan helyzet, ahol a sikeres megoldást sem ösztön, sem előzetes minta alapján nem lehet megtalálni, hanem tervszerűen meg kell keresni illetve kitalálni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web 2.0 technológiai paradigmájában érezzük annak a lehetőségét, hogy a könyvtár weboldala köré virtuális közösségeket hozzunk létre. Kutatást igényel, hogy ez megvalósítható-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bléma meghatározását követően meg kell fogalmazni egy konkrét kutatási kérdé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web 2.0 alkalmazások alkalmasak-e arra, hogy elősegítsék virtuális közösségek alakításá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Következtetéses statiszt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mintát ki szeretnénk vet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zsgálatot a teljes népességből vett mintán végezzük csak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és, hogy mennyi annak a valószínűsége, hogy ez a teljes népességre nézve érvényes legy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él homogénebb a népesség, annál valószínűbb, hogy kis elemszám mellett is érvényes következtetéseket vonjunk 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adatok típus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adatok (A mért adat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származtatott adatok (az alapadatokból kiszámolt viszonyszámok, átlagok, mutatószám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zonyszámok (két tényező egymáshoz való viszon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tla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tatószámok (pl. a könyvtáraknál az állomány teljes megújulásának a mutató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Át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tani közé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ért adatok összegét kell elosztani a minta elemszámá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szór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ámtani átlaggal együtt a leggyakrabban alkalmazott ingadozást kifejező mérőszám, amely azt mutatja meg, hogy az egyes értékek a számtani átlagtól képest átlagosan milyen távolságra helyezkednek 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számítá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inta számtani közepét kivonjuk minden adat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így kapott értékeknek vesszük a négyzet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égyzeteknek vesszük az átlagát, majd ebből négyzetgyököt vonu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Segítség a házi feladatho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irodalmi szemle min. 5 max. 10 tételt tartalmazz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hetőleg magyar és külföldi cikkek is legyenek ben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ár adatbáz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ww.emeraldinsigh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ww.doaj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ww.matarka.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Házi 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971640" y="1773360"/>
            <a:ext cx="7704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55640" y="1628640"/>
            <a:ext cx="770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Kutatási terv elkészítés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blémafelveté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potézis/kutatási kérdé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ipotézis operacionalizálás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tatási módszer leír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irodalmi szemle elkészít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gyűjt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kérdéseinek meghatár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Mitől válik egy kutatási probléma kutatásra alkalmass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a megválaszolása hozzájárul a tudományterület elméleti ismeretanyagának gyarapításáho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 gyakorlati has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jlődik általa a kutatás metodiká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redmények újabb kutatásokhoz vezet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a kutathat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a kutatása megfelel az adott kutató(csoport) felkészültségé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kérdéseinek meghatár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utatási problém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nyvtári weboldalak használhatók lennének virtuális közösségi térként, de az a gyanúnk, hogy nem használják. Meg kellene vizsgálni, hogy aki használja, az kicsoda és miért megy od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előzményeinek vizsgál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Meg kell ítélni, hogy a problémá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oldották-e már meg más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kísérleteztek vele, akkor közzétettek-e már megoldási javaslatokat? (pl. DC metaadatelem-készlet kifejezése tématérképekkel) http://www.ontopedia.net/pepper/papers/DCinTopicMaps.p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sonló területen végeztek-e már kutatásoka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önyvtári területen a következő források állnak rendelkezés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akorlati problémák esetében a könyvtárak gyakorlata (személyes információkérés, könyvtári honlap információi, blogok, személyes tapasztalatok, szakirodal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méleti problémák esetében a szakirodalom a legfontosabb for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előzményeinek vizsgál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házi feladathoz forrás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os végiggondol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gy keresőrendszer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bázis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NCI (http://w3.oszk.hu/manci.htm) illetve HUMANUS (http://www.oszk.hu/huma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merald (http://www.emeraldinsight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BSCO (http://search.epnet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SZK katalógus (http://nektar.oszk.hu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TARKA (http://www.matarka.hu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rectory of Open Access Journals (http://www.doaj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oogle Scholar (http://scholar.google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előzményeinek vizsgál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rsadalomtudományi kutatásoknál az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méleti keretek tisztázás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intén kulcskérdé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lyen elméleti keretek között értelmezhető a kutat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0:54:39Z</dcterms:created>
  <dc:creator>Admin</dc:creator>
  <dc:description/>
  <dc:language>en-US</dc:language>
  <cp:lastModifiedBy>Feek</cp:lastModifiedBy>
  <dcterms:modified xsi:type="dcterms:W3CDTF">2013-04-10T16:27:44Z</dcterms:modified>
  <cp:revision>21</cp:revision>
  <dc:subject/>
  <dc:title>Kutatásmódszertan</dc:title>
</cp:coreProperties>
</file>