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A51-8F4C-44A7-86FC-1FFA6DC5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C9D-D779-45A6-A2B3-76285A50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FB22-3294-4DDE-B50E-C1ACB6A0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815-B571-4FCB-BC39-E695A05B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647-AC3E-4B2E-A7CF-A10F59D7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3D4-67A4-4604-803F-50396A71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829-3F73-4076-8FB0-115F141B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31A-535D-405E-AA71-B97E4E55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2A7-FDEB-4FD0-9A39-DC780CF9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C37-CE0D-4F2D-A988-C7C90E11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F0F-F8F8-4A6A-BFA4-D7F4AD61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EFC-6A95-45A9-916C-CC20FC93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AEE2-A718-4E4D-9CE3-447D4FAEDE8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Kutatásmódszer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Tóth Má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toth.mate@feek.pte.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A kutatás hipotézise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lyan tétel vagy tételek, amely(ek) szerepe, hogy magyarázatot ajánljanak különböző – adott esetben a kutatási – problémák megoldásához. A hipotézis feltételezés, de benne nem véletlen felismerések dominálnak, hanem helyet kap az előzetes tapasztalat, a problémáról való korábbi tudás i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A kutatási kérdés operacionalizál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unkahipotézis kialakításának célja a hipotézisben szereplő fogalmak operacionalizálása. A fogalom operacionalizálásán annak mérhetővé tételét értjü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A kutatás tudományosságának feltéte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402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vényes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utatás azt vizsgálja, ami a tárgy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bízható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ismételt vizsgálatok azonos eredményeket ad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bjektivi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elenséget nem befolyásoljuk a kutatás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franchise-mistakes"/>
          <p:cNvPicPr/>
          <p:nvPr/>
        </p:nvPicPr>
        <p:blipFill>
          <a:blip r:embed="rId1"/>
          <a:stretch/>
        </p:blipFill>
        <p:spPr>
          <a:xfrm>
            <a:off x="5292720" y="2717640"/>
            <a:ext cx="32590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A kutatás etikai kérdés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Ha emberek is részt vesznek a kutatásb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nkéntes részvé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résztvevők kockáz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A tudományosság etikai kérdés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ás szellemi értékét eltulajdonítani nem sza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tatási adatok meghamis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edvezőtlen eredmények közre nem a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Kutatási módsz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duktív kutatási stratégiá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rráskuta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Dokumentumelem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Tartalomelem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Megfigy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zsgá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Kérdő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Inter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ttitűdvizsgá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ociome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s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Kísér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Generic_scientist_blue"/>
          <p:cNvPicPr/>
          <p:nvPr/>
        </p:nvPicPr>
        <p:blipFill>
          <a:blip r:embed="rId1"/>
          <a:stretch/>
        </p:blipFill>
        <p:spPr>
          <a:xfrm>
            <a:off x="4284720" y="2276640"/>
            <a:ext cx="38098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Dokumentumelemz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okument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olyan a jelenben vagy a közelmúltban keletkezett anyagot, ami nem közvetlenül a kutatás céljára készült, de amelyekből adalékokat, fontos információkat kaphatunk a kutatómunkáho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dokumentumelemzés használható a hipotézisek megfogalmaz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n kívül adatgyűjtésre, adatok elemzésére, következtetések levon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ség a forráselemzéssel, hogy itt nem történeti dokumentumok elemzését végezzük. (hol a határ…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Dokumentumelemz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zonyos dokumentumok közvetlen kapcsolatban vannak a kutatás témájá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rvények, jelentések, tervezetek az adott témá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ISO 13250 szabványcsalá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ások létrejöttük pillanatában nem voltak kapcsolatban a kutatás témájával (pl. vers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rdés, hogy a dokumentum kutatható-e egyáltal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Tartalomelemz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öveg mélyrétegeinek rejtett tartalmait lehet ezzel a módszerrel feltár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él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üzenetek jelentése mellett a szöveg rejtett tartalmainak a feltárása olyan eljárással, amely a szöveg visszatérő sajátosságainak elemzésére épü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ódsz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övegek adatokká alakítása, kategóriák felállítása, amelybe a szöveg elemei bizonyos szabályok szerint besorolhat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nnyiségi és minőségi következtetések levon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Tartalomelemz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rögzítés egységei lehetn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ányszor fordulnak elő a sza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ém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mélyisé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kezdések, mondatok, szintagm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ész elemek (cikk, film, könyv az adott témáró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blogbejegyzések, kommentek tartalmának elem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ttp://zona.hu/article/467/a-gyurcsanyblog-elemzese-a-nyelv-nem-hazudik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Digitális könyvtári kutatások elemz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4part_asszociacio"/>
          <p:cNvPicPr/>
          <p:nvPr/>
        </p:nvPicPr>
        <p:blipFill>
          <a:blip r:embed="rId1"/>
          <a:stretch/>
        </p:blipFill>
        <p:spPr>
          <a:xfrm>
            <a:off x="0" y="0"/>
            <a:ext cx="5292720" cy="353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baljobb_associacio"/>
          <p:cNvPicPr/>
          <p:nvPr/>
        </p:nvPicPr>
        <p:blipFill>
          <a:blip r:embed="rId2"/>
          <a:stretch/>
        </p:blipFill>
        <p:spPr>
          <a:xfrm>
            <a:off x="4067280" y="3470400"/>
            <a:ext cx="507672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Kut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isztematikus erőfeszítés a valóság megismerésére vagy valamilyen tudatosult nehézség megoldására, amelynek során egy komplex jelenséget tanulmányozunk előre megfogalmazott hipotézis alapjá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Megfigyel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osszabb vagy rövidebb ideig tartó észlelés, ami lehetőséget ad olyan jelenségek vagy folyamatok követésére, amelyek az észlelt objektumban bizonyos hatások eredményeképp keletkez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agatartás megismeréséből lehet következtetni a motivációra, a belső mechanizmusok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a: PLACE projekt megfigyelései a könyvtárhasználatró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Megfigyel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étköznapi megfigyeléshez képest a kutatási módsz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éltu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rvszer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ndsz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bjek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gfigyelő helyze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ncs j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elen van, de nem vesz részt a szituáció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elen van és részt vesz a szituáció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Megfigyel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Előkészít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gfigyelés céljának meghatár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gfigyelt jelenség operacionalizált leírása (mit hogyan értékelü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kalmas megfigyelési technika kiválasz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rukturálatlan megfigyelésnél: a rögzítés teljességének biztos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rukturált megfigyelésnél ellenőrizni, hogy a kategóriarendszer leírja-e az előforduló jelenségek teljesség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tgondoljuk a feldolgozás módj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Megfigyel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Megfigyelési techniká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ögzítjük a valóságban lezajló folyamatok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Kódolás nélküli rögz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aplók, feljegyzé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ljes körű jegyzőkönyvveze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lektív jegyzőkönyvveze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Kódolással történő rögz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cslési ská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elrendszeres és grafikus rögz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tegóriarendszeres rögz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Kérdőív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A kérdőíves vizsgálat fázis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öntés arról, hogy mi szerepeljen a kérdőív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rdőív és a kérdések típusának meghatár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rdőív első változatának elkész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lső változat kiprób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rdések felülvizsgá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égleges kérdőívek megszerkesz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felvé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ok feldolg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Kérdőív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330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Az összegyűjthető információk típus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izsgált személy/csoport ismere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élemény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ttitűd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edelm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zelmei az adott kérdéssel kapcsolatos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questionnaire"/>
          <p:cNvPicPr/>
          <p:nvPr/>
        </p:nvPicPr>
        <p:blipFill>
          <a:blip r:embed="rId1"/>
          <a:stretch/>
        </p:blipFill>
        <p:spPr>
          <a:xfrm>
            <a:off x="4859280" y="2492280"/>
            <a:ext cx="361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Kérdőív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3538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A kérdések típus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Zárt kér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yitott kér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élig zárt kér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ékelési ská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questionnaire"/>
          <p:cNvPicPr/>
          <p:nvPr/>
        </p:nvPicPr>
        <p:blipFill>
          <a:blip r:embed="rId1"/>
          <a:stretch/>
        </p:blipFill>
        <p:spPr>
          <a:xfrm>
            <a:off x="4284720" y="3141720"/>
            <a:ext cx="38862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Interj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óbeli kikérdezésen alapuló vizsgálati móds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ajtá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lkalmazott módszerek szer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rukturálatlan interjú, vagy szabad beszélge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dinamikus interj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rukturált interjú, vagy irányított beszélge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élig strukturált interj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észtvevők száma szer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é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sopo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érdező viselkedése sze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á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em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mé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Interj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Kérdéstípus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ílt kérd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ényközlést igénylő kér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fejtést igénylő kér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árt kérd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eletválasz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hasonlító rangsorolást igénylő kér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jelentések értékelése megadott szempontok alapj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Kísérl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Típus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idézett kísérlet (mi idézzük elő a helyzetet) vagy felidézett kísérlet (utólag azonosítjuk a helyzetet, amikor valami lejátszódot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ísérlet lehet egy-, két-, és többcsopor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het laboratóriumi vagy természetes terepen végze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Péld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keresési feladat megoldását hol kezdik az ember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324000" y="2421000"/>
            <a:ext cx="619272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Kut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A kutatás folyam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utatandó probléma meghatár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zmények vizsgá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ipotézis megfogalma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utatási módszerek és technikák megválasz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utatási terv elkészí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taválasz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vizsgál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ntrollvizsgál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ok feldolg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utatás eredményeinek szintéz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utatás eredményeinek publiká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omework"/>
          <p:cNvPicPr/>
          <p:nvPr/>
        </p:nvPicPr>
        <p:blipFill>
          <a:blip r:embed="rId1"/>
          <a:stretch/>
        </p:blipFill>
        <p:spPr>
          <a:xfrm>
            <a:off x="6659640" y="213372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Mintavé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971640" y="1773360"/>
            <a:ext cx="43210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talános összefüggéseket vizsgálva nem mindig van lehetőség a teljes mintán elvégezni a kutat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prezentálni kell a teljessé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hhez alkalmas mintasokaságot kell választ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subsetPopulation"/>
          <p:cNvPicPr/>
          <p:nvPr/>
        </p:nvPicPr>
        <p:blipFill>
          <a:blip r:embed="rId1"/>
          <a:stretch/>
        </p:blipFill>
        <p:spPr>
          <a:xfrm>
            <a:off x="5580000" y="1916280"/>
            <a:ext cx="27655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Mintavé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971640" y="1773360"/>
            <a:ext cx="7129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Teljes körű kutatá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utatás minden elemre kiterjed (pl. minden személyre, minden lehetséges szituációra), amelyre vonatkozóan következtetéseket akarunk megfogalmaz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Valamennyi hazai könyvtári blog, Valamennyi cikk a digitális könyvtári kutatások körébő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kszor a teljesség elérése szándékaink ellenére nem sikerül. (pl. valamennyi cikk a digitális könyvtárakról az, amit megtalálunk szakmai adatbázisainkban) – teljességre törekvő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 legbiztosabb, ha mindent megvizsgálunk. Ha nem lehet, akkor jön a mintavéte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Mintavé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71640" y="1557360"/>
            <a:ext cx="71294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Mintavé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opuláció egy meghatározott részsokaságának bevonása a kutatásb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Mi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opulációnak az a részsokasága, amelyre a kutatás kiterj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intavétel eldöntheti a teljes kutatás sikerét vagy kudarc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tikai kérdések fokozottan jelentkezne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Mintavé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971640" y="2276640"/>
            <a:ext cx="410508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Mintavételi eljárás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élet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étegez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opo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véletlen mintavé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population-six-billion-1"/>
          <p:cNvPicPr/>
          <p:nvPr/>
        </p:nvPicPr>
        <p:blipFill>
          <a:blip r:embed="rId1"/>
          <a:stretch/>
        </p:blipFill>
        <p:spPr>
          <a:xfrm>
            <a:off x="4859280" y="1916280"/>
            <a:ext cx="380988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Mintavé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971640" y="1773360"/>
            <a:ext cx="7129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Véletlen mintavé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minden egyed egyforma valószínűséggel kerülhet be a mintáb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 „populáció” a vizsgált változó szempontjából a homogé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járás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rsolással történő mintavé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életlen számtáblázat szerinti mintavétel (statisztikai számtáblázatban szereplő sorszámmal ellátott elemek kerülnek be a mintá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ítógéppel generált véletlen mi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Mintavé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71640" y="1773360"/>
            <a:ext cx="7129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Rétegezett mintavé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izsgált populációt csoportosítjuk és a mintasokaságot arányosan választjuk ki az egyes csoportokbó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étegképző ismérvek meghatározás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hhez vissza kell nyúlni a kutatási kérdés operacionalizálásához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magyar könyvtári blogoszféra rétegképző ismérv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Mintavé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971640" y="1773360"/>
            <a:ext cx="7129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Csoportos mintavé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incs lista a teljes sokaságról, de csoportonként van (pl. hány fő különböző végzettségű dolgozik az egyes könyvtárak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ször a csoportokból veszünk véletlen mintát (kiválasztunk néhány könyvtár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jd ezen belül kiválasztjuk a „másodlagos mintavételi egységeket” (pl. a felsőfokú szakirányú diplomával rendelkező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Mintavé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971640" y="1773360"/>
            <a:ext cx="7129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Nem véletlen mintavé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vóta szerinti mintavé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tszőlegesen lehet kiválasztani a mintában szereplőket, de azoknak illeszkedni kell egy kvótához. (pl. bármely könyvtár lehet az alanyunk, de pl. az országos statisztikában szereplő intézménynagyságokat reprezentál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centrált kiválasz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rekszünk rá, hogy valamely szempontból tipikus egyedek kerüljenek a mintá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nkényes kiválasz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utató maga dönti el, hogy kit von be a mintá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Adatfeldolg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at még kevés, abból kellene következtetni valamilyen jelensé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atokat ezért értelemmel kell ellát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tisztikai módszerek alkalmaz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ír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vetkeztetéses statisz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statisztika"/>
          <p:cNvPicPr/>
          <p:nvPr/>
        </p:nvPicPr>
        <p:blipFill>
          <a:blip r:embed="rId1"/>
          <a:stretch/>
        </p:blipFill>
        <p:spPr>
          <a:xfrm>
            <a:off x="5435640" y="2708280"/>
            <a:ext cx="312876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Adatfeldolg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0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Leíró statiszt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datokat nem akarjuk kivetíteni nagyobb egységekre, vagy általánosít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ület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gyűj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ok ábrázo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ok csoportosítása, osztály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okkal végzett művel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redmények megjelení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A kutatás kérdéseinek meghatároz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robléma olyan helyzet, ahol a sikeres megoldást sem ösztön, sem előzetes minta alapján nem lehet megtalálni, hanem tervszerűen meg kell keresni illetve kitalálni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áu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web 2.0 technológiai paradigmájában érezzük annak a lehetőségét, hogy a könyvtár weboldala köré virtuális közösségeket hozzunk létre. Kutatást igényel, hogy ez megvalósítható-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robléma meghatározását követően meg kell fogalmazni egy konkrét kutatási kérdé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áu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web 2.0 alkalmazások alkalmasak-e arra, hogy elősegítsék virtuális közösségek alakítását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Adatfeldolg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0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Következtetéses statiszt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 mintát ki szeretnénk vetít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izsgálatot a teljes népességből vett mintán végezzük csak 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rdés, hogy mennyi annak a valószínűsége, hogy ez a teljes népességre nézve érvényes legy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él homogénebb a népesség, annál valószínűbb, hogy kis elemszám mellett is érvényes következtetéseket vonjunk 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Adatfeldolg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z adatok típus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padatok (A mért adat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származtatott adatok (az alapadatokból kiszámolt viszonyszámok, átlagok, mutatószám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szonyszámok (két tényező egymáshoz való viszon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tla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utatószámok (pl. a könyvtáraknál az állomány teljes megújulásának a mutató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Adatfeldolg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Át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tani közé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ért adatok összegét kell elosztani a minta elemszámá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A szórá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ámtani átlaggal együtt a leggyakrabban alkalmazott ingadozást kifejező mérőszám, amely azt mutatja meg, hogy az egyes értékek a számtani átlagtól képest átlagosan milyen távolságra helyezkednek 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számítá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inta számtani közepét kivonjuk minden adatb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így kapott értékeknek vesszük a négyzet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négyzeteknek vesszük az átlagát, majd ebből négyzetgyököt vonu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Segítség a házi feladatho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kirodalmi szemle min. 5 max. 10 tételt tartalmazz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hetőleg magyar és külföldi cikkek is legyenek ben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ár adatbáz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ww.emeraldinsigh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ww.doaj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ww.matarka.h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Elephant"/>
              </a:rPr>
              <a:t>Házi 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971640" y="1773360"/>
            <a:ext cx="7704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755640" y="1628640"/>
            <a:ext cx="7704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Kutatási terv elkészítés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blémafelveté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ipotézis/kutatási kérdé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ipotézis operacionalizálás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utatási módszer leírás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kirodalmi szemle elkészíté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gyűjt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A kutatás kérdéseinek meghatároz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Mitől válik egy kutatási probléma kutatásra alkalmass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robléma megválaszolása hozzájárul a tudományterület elméleti ismeretanyagának gyarapításáho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n gyakorlati hasz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jlődik általa a kutatás metodiká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redmények újabb kutatásokhoz vezet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robléma kutathat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robléma kutatása megfelel az adott kutató(csoport) felkészültségé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A kutatás kérdéseinek meghatároz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686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Kutatási problémá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önyvtári weboldalak használhatók lennének virtuális közösségi térként, de az a gyanúnk, hogy nem használják. Meg kellene vizsgálni, hogy aki használja, az kicsoda és miért megy od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A kutatás előzményeinek vizsgál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Meg kell ítélni, hogy a problémá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oldották-e már meg más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kísérleteztek vele, akkor közzétettek-e már megoldási javaslatokat? (pl. DC metaadatelem-készlet kifejezése tématérképekkel) http://www.ontopedia.net/pepper/papers/DCinTopicMaps.pd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sonló területen végeztek-e már kutatásoka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Könyvtári területen a következő források állnak rendelkezés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akorlati problémák esetében a könyvtárak gyakorlata (személyes információkérés, könyvtári honlap információi, blogok, személyes tapasztalatok, szakirodal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méleti problémák esetében a szakirodalom a legfontosabb forr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A kutatás előzményeinek vizsgál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A házi feladathoz forrás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pos végiggondol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gy keresőrendszer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bázis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NCI (http://w3.oszk.hu/manci.htm) illetve HUMANUS (http://www.oszk.hu/human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merald (http://www.emeraldinsight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BSCO (http://search.epnet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SZK katalógus (http://nektar.oszk.hu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TARKA (http://www.matarka.hu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rectory of Open Access Journals (http://www.doaj.o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oogle Scholar (http://scholar.google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Elephant"/>
              </a:rPr>
              <a:t>A kutatás előzményeinek vizsgál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ársadalomtudományi kutatásoknál az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elméleti keretek tisztázás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intén kulcskérdé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lyen elméleti keretek között értelmezhető a kutatá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0:54:39Z</dcterms:created>
  <dc:creator>Admin</dc:creator>
  <dc:description/>
  <dc:language>en-US</dc:language>
  <cp:lastModifiedBy>Feek</cp:lastModifiedBy>
  <dcterms:modified xsi:type="dcterms:W3CDTF">2013-04-10T16:27:44Z</dcterms:modified>
  <cp:revision>21</cp:revision>
  <dc:subject/>
  <dc:title>Kutatásmódszertan</dc:title>
</cp:coreProperties>
</file>