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3.jpeg" ContentType="image/jpeg"/>
  <Override PartName="/ppt/media/image49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7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35.png" ContentType="image/png"/>
  <Override PartName="/ppt/media/image34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51.png" ContentType="image/png"/>
  <Override PartName="/ppt/media/image52.png" ContentType="image/png"/>
  <Override PartName="/ppt/media/image30.jpeg" ContentType="image/jpeg"/>
  <Override PartName="/ppt/media/image53.png" ContentType="image/png"/>
  <Override PartName="/ppt/media/image33.png" ContentType="image/png"/>
  <Override PartName="/ppt/media/image31.png" ContentType="image/png"/>
  <Override PartName="/ppt/media/image13.jpeg" ContentType="image/jpeg"/>
  <Override PartName="/ppt/media/image11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media/image9.jpeg" ContentType="image/jpeg"/>
  <Override PartName="/ppt/media/image48.png" ContentType="image/png"/>
  <Override PartName="/ppt/media/image5.jpeg" ContentType="image/jpe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54A-8149-4A23-A6FE-E29976C6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BD7-D94C-4F11-8972-2C6D7B36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B0F-9734-48FD-B260-280E86AB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D52-C107-4E06-9F37-82DC4A62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4EA-ECE5-4D18-943F-B5C68CDE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5A5-38CB-4DE1-8AD9-A79B8915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577-7AB5-4A3F-9D68-23865E93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EEA-EA31-46F4-B0FD-C77743A2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FE0-8F52-42CE-9ECE-BE1546FA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27E-CECA-4D8E-A39E-73E4E152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826-7CD5-41D2-9969-D6FE53CF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38F-F4E5-48B4-BFD3-C9928190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C469-C000-4B28-84BB-CA492EB5F14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business-ekgjavjav2"/>
          <p:cNvPicPr/>
          <p:nvPr/>
        </p:nvPicPr>
        <p:blipFill>
          <a:blip r:embed="rId2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kademiai.com/content/1788-6120/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addiktologia.hu/" TargetMode="External"/><Relationship Id="rId2" Type="http://schemas.openxmlformats.org/officeDocument/2006/relationships/hyperlink" Target="http://www.addiktologia.hu/" TargetMode="External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mae.czidro.eu/" TargetMode="External"/><Relationship Id="rId2" Type="http://schemas.openxmlformats.org/officeDocument/2006/relationships/hyperlink" Target="http://mae.czidro.eu/" TargetMode="Externa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unrise.sote.hu/htsz/tartalom.htm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edlist.com/HIPPOCRATES/Tartalom.htm" TargetMode="Externa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mmpet.aok.pte.hu/news.php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melania.hu/morvos/archivum/" TargetMode="External"/><Relationship Id="rId2" Type="http://schemas.openxmlformats.org/officeDocument/2006/relationships/hyperlink" Target="http://www.melania.hu/morvos/archivum/" TargetMode="External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doki.net/tarsasag/mra/hirek.aspx?web_id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akademiaikiado.hu/main.php?folderID=1586&amp;articleID=4742&amp;ctag=articlelist&amp;iid=1" TargetMode="Externa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lib.sote.hu/moksz/index.html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pszichoterapia.hu/" TargetMode="Externa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medical-tribune.hu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hyperlink" Target="http://www.semmelweiskiado.hu/orvoskepzes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meszk.hu/index.php?content=138" TargetMode="Externa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hyperlink" Target="http://www.nk.unideb.hu/index.php?pageid=nepegeszsegugy_folyoirat_szerkesztosege" TargetMode="Externa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informed.hu/" TargetMode="External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eski.hu/new3/konyvtar/lelohely/placebycode_index.html" TargetMode="External"/><Relationship Id="rId2" Type="http://schemas.openxmlformats.org/officeDocument/2006/relationships/hyperlink" Target="http://konyvtar.hu/tudakozo/bongeszo" TargetMode="External"/><Relationship Id="rId3" Type="http://schemas.openxmlformats.org/officeDocument/2006/relationships/hyperlink" Target="http://www.pandy.hu/konyvtar/kvt.htm" TargetMode="Externa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vostudományi szaktájékoztatá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Dr. Varga Kata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 H. Beers, M.D., Robert Berkow, M.D: MSD Orvosi Kézikönyv – Diagnózis és terápia. Budapest: Melania Kiadó Kft, 199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ásodik magyar kiad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ömör, teljeségre törekedő leírás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lgyógyászati tankönyvnek szánták, de kiválóan alkalmazható az orvos tudomány számos más területén is, hiszen a benne nyújtott információk igencsak széles spektrumú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http://www.antikvarium.hu/ant/foto.php?id=1252926&amp;q=90&amp;h=453"/>
          <p:cNvPicPr/>
          <p:nvPr/>
        </p:nvPicPr>
        <p:blipFill>
          <a:blip r:embed="rId1"/>
          <a:stretch/>
        </p:blipFill>
        <p:spPr>
          <a:xfrm>
            <a:off x="539640" y="1700280"/>
            <a:ext cx="3238560" cy="43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pper László - Schaff Zsuzsa (szerk.): Patológia I-II. Budapest: Medicina, 200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427640" y="1628640"/>
            <a:ext cx="417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madéves orvostan hallgatóknak és szakvizsgára készülőknek nélkülözhetetlen kéziköny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váló felépítésével igyekszik átadni az alapvető ismereteket minden medikus tanoncn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zámos előnye közül kiemelhető gazdag illusztrált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imgserver2.eladomakonyvem.hu/edaad70bacd759006b657935b63c7f03.jpg"/>
          <p:cNvPicPr/>
          <p:nvPr/>
        </p:nvPicPr>
        <p:blipFill>
          <a:blip r:embed="rId1"/>
          <a:stretch/>
        </p:blipFill>
        <p:spPr>
          <a:xfrm>
            <a:off x="395280" y="1628640"/>
            <a:ext cx="3438360" cy="43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9720" cy="870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ál Csaba (szerk.): Sebészet : Budapest: Medicina, 20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025520" y="1600200"/>
            <a:ext cx="466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edik, átdolgozott, bővített kiad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váló történeti áttekintés található benne mely a magyar sebészet történetét mutatja 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ndelkezik a mindazokkal a legalapvetőbb és legaktuálisabb mai ismeretekkel, melyek nélkülözhetetlenek a sebészet szakszerű elsajátítás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zdagon illusztrá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marvin.bookline.hu/product_images/459/B905044.JPG"/>
          <p:cNvPicPr/>
          <p:nvPr/>
        </p:nvPicPr>
        <p:blipFill>
          <a:blip r:embed="rId1"/>
          <a:stretch/>
        </p:blipFill>
        <p:spPr>
          <a:xfrm>
            <a:off x="539640" y="1392120"/>
            <a:ext cx="3456000" cy="485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r. med. Dieter Werner Unseld: Orvosi szótár. Budapest: Medicina, 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8920" y="1483920"/>
            <a:ext cx="380988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gy kötet tartalmazza az angol - magyar és a magyar - angol szókészletet, és szintén egy kötet a német - magyar, magyar - német szókészlet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önnyen áttekinthető, hasábos szerkezettel rendelkez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zótáranként kb. 25 000 szó van ben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érete: közepes szótá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aktikus, felhasználóbarát, precíz és naprakés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épést tart a változásokk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dieter - orvosi angol"/>
          <p:cNvPicPr/>
          <p:nvPr/>
        </p:nvPicPr>
        <p:blipFill>
          <a:blip r:embed="rId1"/>
          <a:stretch/>
        </p:blipFill>
        <p:spPr>
          <a:xfrm>
            <a:off x="468360" y="1700280"/>
            <a:ext cx="2124000" cy="323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dieter - orvosi német"/>
          <p:cNvPicPr/>
          <p:nvPr/>
        </p:nvPicPr>
        <p:blipFill>
          <a:blip r:embed="rId2"/>
          <a:stretch/>
        </p:blipFill>
        <p:spPr>
          <a:xfrm>
            <a:off x="2268360" y="3213000"/>
            <a:ext cx="2143440" cy="32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Dr. Brencsán János: Orvosi szótár. Budapest: Medicina, 2006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g-megújuló formában évtizedek óta szolgálja az orvosokat, orvostanhallgatókat és az orvostudomány iránt érdeklődő olvasóközönsége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z új kiadás bővült és megújult az előzőhöz képest: modernizálták a nyelvezetét, a rövidítéseket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zerző külön felhívja a figyelmet az alternatív gyógyászati ismeretek körének bővítésé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" descr="brencsán"/>
          <p:cNvPicPr/>
          <p:nvPr/>
        </p:nvPicPr>
        <p:blipFill>
          <a:blip r:embed="rId1"/>
          <a:stretch/>
        </p:blipFill>
        <p:spPr>
          <a:xfrm>
            <a:off x="1254240" y="2260440"/>
            <a:ext cx="2439720" cy="32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ősze Péter (szerk.): A magyar orvosi nyelv tankönyve. Budapest: Medicina,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agyar orvosi nyelv egyetemi órára szokták leginkább kikölcsönözni ezt a könyv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ncsés György munkájának kései utód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bősze péter"/>
          <p:cNvPicPr/>
          <p:nvPr/>
        </p:nvPicPr>
        <p:blipFill>
          <a:blip r:embed="rId1"/>
          <a:stretch/>
        </p:blipFill>
        <p:spPr>
          <a:xfrm>
            <a:off x="669960" y="1708200"/>
            <a:ext cx="3519360" cy="442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ancy Duin – dr. Jenny Sutcliffe: Az orvoslás története: Az ősidőktől 2020-ig. Budapest: Medicina, 199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épekkel és történetekkel színesített összefoglal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rgy- és névmutató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jenny sutcliffe"/>
          <p:cNvPicPr/>
          <p:nvPr/>
        </p:nvPicPr>
        <p:blipFill>
          <a:blip r:embed="rId1"/>
          <a:stretch/>
        </p:blipFill>
        <p:spPr>
          <a:xfrm>
            <a:off x="719280" y="1600200"/>
            <a:ext cx="35100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Heinz Schott: Medicina Krónikája. Budapest: Officina Nova, 199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kan használják, nagyon jó vélemény alakult ki ró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őrendben összefoglalja az orvostudomány kialakulásá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épekkel, illusztrációkkal színesít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ülön kiemelve a főbb személyiségek + név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medicina kronikaja"/>
          <p:cNvPicPr/>
          <p:nvPr/>
        </p:nvPicPr>
        <p:blipFill>
          <a:blip r:embed="rId1"/>
          <a:stretch/>
        </p:blipFill>
        <p:spPr>
          <a:xfrm>
            <a:off x="480960" y="2305080"/>
            <a:ext cx="3963960" cy="335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54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. Putz – R. Pabts: Sobotta: Az ember anatómiájának atlasza. Budapest: Medicina,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76720" y="1599840"/>
            <a:ext cx="3610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legnépszerűbb anatómiai atlas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22. kiadása két kötetben, a jól bevált módon, feliratozott képek segítségével mutatja be az emberi teste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testfelszíni tájékozódási pontokat bemutató fotók, színes rajzos ábrák, rajzokkal kiegészített fotók, röntgen-, CT- és MRI-képek változatos és könnyen megérthető módon biztosítanak bőséges ismeretanyago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sobotta 2 köt"/>
          <p:cNvPicPr/>
          <p:nvPr/>
        </p:nvPicPr>
        <p:blipFill>
          <a:blip r:embed="rId1"/>
          <a:stretch/>
        </p:blipFill>
        <p:spPr>
          <a:xfrm>
            <a:off x="1619280" y="3933720"/>
            <a:ext cx="3409920" cy="2557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sobotta"/>
          <p:cNvPicPr/>
          <p:nvPr/>
        </p:nvPicPr>
        <p:blipFill>
          <a:blip r:embed="rId2"/>
          <a:stretch/>
        </p:blipFill>
        <p:spPr>
          <a:xfrm>
            <a:off x="250920" y="1341360"/>
            <a:ext cx="256356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öhlich Pál: Szövettan. Budapest: Semmelweis, 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könyv tudásanyaga a Semmelweis Egyetem Humánmorfológiai és Fejlődésbiológiai Intézet oktatói közösségének eredmény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könyv elsősorban az egyetemi oktatás számára készült azzal a céllal, hogy az egészséges emberi szervezet mikroszkópos világába bevezesse az orvos- és fogorvostan-hallgató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zdag képanyaggal rendelkeznek, amely a jobb megértés a cél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szövettan"/>
          <p:cNvPicPr/>
          <p:nvPr/>
        </p:nvPicPr>
        <p:blipFill>
          <a:blip r:embed="rId1"/>
          <a:stretch/>
        </p:blipFill>
        <p:spPr>
          <a:xfrm>
            <a:off x="709560" y="1600200"/>
            <a:ext cx="3529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t kell tudni ahhoz, hogy valaki tájékoztatni tudjon az orvostudomány és az egészségügy területén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meret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emélyiségjegy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zköztud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Fonyó Attila:Az orvosi élettani tankönyve. Budapest: Medicina, 20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ginkább hallgatóknak ajánljá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ncs tartalomjegyzék, csak tárgy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vés képpel illusztráltá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li van szakszöveggel, rövidítéssel, kifejezésekkel -&gt; ezért a laikusok számára nehé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7" descr="fonyó1"/>
          <p:cNvPicPr/>
          <p:nvPr/>
        </p:nvPicPr>
        <p:blipFill>
          <a:blip r:embed="rId1"/>
          <a:stretch/>
        </p:blipFill>
        <p:spPr>
          <a:xfrm>
            <a:off x="324000" y="1557360"/>
            <a:ext cx="2381040" cy="3390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fonyó2"/>
          <p:cNvPicPr/>
          <p:nvPr/>
        </p:nvPicPr>
        <p:blipFill>
          <a:blip r:embed="rId2"/>
          <a:stretch/>
        </p:blipFill>
        <p:spPr>
          <a:xfrm>
            <a:off x="2195640" y="3141720"/>
            <a:ext cx="2449440" cy="34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zirják László (szerk.): Klinikai immunológia. Budapest: Medicina, 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gpróbálja kiegyensúlyozottan bemutatni a klinikai immunológia igen szerteágazó ismeretanyagá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m csak az orvostanhallgatók és immunológusok, de valójában minden gyógyító szakágazat, pl. belgyógyászat, neurológia, reumatológia stb. szakorvosai számára hasznos, gyakorlati ismereteket biztosító szakkönyv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klinikai immunológia"/>
          <p:cNvPicPr/>
          <p:nvPr/>
        </p:nvPicPr>
        <p:blipFill>
          <a:blip r:embed="rId1"/>
          <a:stretch/>
        </p:blipFill>
        <p:spPr>
          <a:xfrm>
            <a:off x="658800" y="1600200"/>
            <a:ext cx="3630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áh Éva: Gyermekgyógyászati kézikönyv. Budapest: Medicina, 2004. 2 kö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könyv az akut és krónikus betegségek főbb jellemzőit tartalmazza; definíció, tünetek, diagnosztikai teendők, differenciáldiagnosztika, terápia, prognózis és a követés szempontjait véve alapu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gyon jól szerkesztett: táblák, tovább visz kapcsolódó fejezetekhez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emeli a lényeges részek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gyermekgyógyászat"/>
          <p:cNvPicPr/>
          <p:nvPr/>
        </p:nvPicPr>
        <p:blipFill>
          <a:blip r:embed="rId1"/>
          <a:stretch/>
        </p:blipFill>
        <p:spPr>
          <a:xfrm>
            <a:off x="1279440" y="2260440"/>
            <a:ext cx="2389320" cy="32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tephen J McPhee – Maxine A Papadakis: Current Medical Diagnosis and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-book-ként letölthet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ár a legújabb verzió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lapképzés során sűrűn forgatják a külföldi hallgató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" descr="2008current diagnosis"/>
          <p:cNvPicPr/>
          <p:nvPr/>
        </p:nvPicPr>
        <p:blipFill>
          <a:blip r:embed="rId1"/>
          <a:stretch/>
        </p:blipFill>
        <p:spPr>
          <a:xfrm>
            <a:off x="731880" y="1600200"/>
            <a:ext cx="348624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ephen J. McPhee – Mavine A. Papadakis: Korszerű Orvosi Diagnosztika és Terápia. Budapest, Melania Kiadói Kft., 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3200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apvető klinikai kéziköny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z angol nyelvű könyv magyar változ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gbízhatóan közvetíti az orvostudomány legújabb eredményeit, a megelőzési stratégiákat és a költség-hatékony kezelési módoka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zéles körűen fogja át a kórházi és járóbeteg-ellátással kapcsolatos tudnivalók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korszerű diagnosztika"/>
          <p:cNvPicPr/>
          <p:nvPr/>
        </p:nvPicPr>
        <p:blipFill>
          <a:blip r:embed="rId1"/>
          <a:stretch/>
        </p:blipFill>
        <p:spPr>
          <a:xfrm>
            <a:off x="468360" y="1484280"/>
            <a:ext cx="1905120" cy="2762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korszeru_orvosi_diagnosztika_konyv"/>
          <p:cNvPicPr/>
          <p:nvPr/>
        </p:nvPicPr>
        <p:blipFill>
          <a:blip r:embed="rId2"/>
          <a:stretch/>
        </p:blipFill>
        <p:spPr>
          <a:xfrm>
            <a:off x="2411280" y="2924280"/>
            <a:ext cx="2343240" cy="335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rrison T.R.: Principles of internal medicine. [Budapest] ; [Japán] : Springer Hungarica Kiadó, cop. 1994</a:t>
            </a:r>
            <a:r>
              <a:rPr b="0" lang="hu-H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8920" y="15573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lgyógyászati szakköny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gol nyelvű, orvosi szakköny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VD melléklett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öbb helyen is letölthető (kalóz verziók is vanna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zdagon illusztrá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7" descr="harissons"/>
          <p:cNvPicPr/>
          <p:nvPr/>
        </p:nvPicPr>
        <p:blipFill>
          <a:blip r:embed="rId1"/>
          <a:stretch/>
        </p:blipFill>
        <p:spPr>
          <a:xfrm>
            <a:off x="590400" y="1600200"/>
            <a:ext cx="3765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Calibri"/>
              </a:rPr>
              <a:t>Böcker – Denk – Heitz – Moch: Pathologie.[S.N.] Urban &amp; Fisher, 200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Német nyelvű szakköny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áblák, gazdagon illusztrá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E-book-ként is elérhet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pathologie"/>
          <p:cNvPicPr/>
          <p:nvPr/>
        </p:nvPicPr>
        <p:blipFill>
          <a:blip r:embed="rId1"/>
          <a:stretch/>
        </p:blipFill>
        <p:spPr>
          <a:xfrm>
            <a:off x="900000" y="1484280"/>
            <a:ext cx="337500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Orvostudományi szakfolyóirat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vosi Hetil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legrégebbi magyar orvostudományi sajtótermé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Első megjelenés: 18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Kiadó: Markusovszky Lajos Alapítvá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fil: a klinikai és kísérletes orvostudomány területéről származó eredeti munkákat és összefoglaló referátumokat közö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Egyetlen, hetente megjelenő tudományos szaklap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agyar és angol nyelvű cikkek, tanulmányo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lapban megjelenő dolgozatokról információt ad pl. a Med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folyóirat a Magyar Kulturális Örökség rész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akademiai.com/content/1788-6120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www.akkrt.hu/img/upload/200611/oh.jpg"/>
          <p:cNvPicPr/>
          <p:nvPr/>
        </p:nvPicPr>
        <p:blipFill>
          <a:blip r:embed="rId2"/>
          <a:stretch/>
        </p:blipFill>
        <p:spPr>
          <a:xfrm>
            <a:off x="6786720" y="189000"/>
            <a:ext cx="1949400" cy="277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ddiktológ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cím: Addictologia Hungar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apítva: 200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Jogelőd: Szenvedélybetegségek (Addictologia Hungarica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Fenntartó: Magyar Addiktológiai Társasá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Profil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: az addiktológiai tudományos kutatómunka és a magas szintű tudományos ismeretterjesztés művelés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Célközönség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: orvosok, pszichológusok, szociológusok, szociális munkások, addiktológiai konzultánsok, népegészségügyi szakemberek, epidemiológusok, pedagógusok, lelkészek, újságírók, az e tárgyban tanulmányaikat folytató egyetemisták, főiskolások, PhD-hallgatók, más érdeklődő szakemberek és képzett „laikusok”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addiktologia.hu</a:t>
            </a: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7324560" y="214200"/>
            <a:ext cx="1675080" cy="20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orvosi információ jellemző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észségügyi információ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öbbnyire ad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bliográfiai információ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yen szakirodalom áll a rendelkezésünk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ztikai adat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ális egészségügyi statisztiká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atkozási adat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özhasznú információ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gyon sokféle formájú és szintű informá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Ápolásü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apítva: 198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Fenntartó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Magyar Ápolási Egyesül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Profil: továbbképző és tájékoztató kiadvá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Magyar nyelv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mae.czidro.eu</a:t>
            </a: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3"/>
          <a:stretch/>
        </p:blipFill>
        <p:spPr>
          <a:xfrm>
            <a:off x="6659640" y="333360"/>
            <a:ext cx="214308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5414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áziorvos Továbbképző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zem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sunrise.sote.hu/htsz/tartalom.ht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Orvosegyetemi Továbbképző Adatbázi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rés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apítva: 199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z első magyarországi elektronikus orvostudományi adatbázist ill. szakkönyv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Referátumokat tartalmaz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Fő cél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: a háziorvosok és medikusok szakmai továbbképzését és praxisvezetését naprakész információkkal segítse, új eredmények közlé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6372360" y="714240"/>
            <a:ext cx="2458800" cy="194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Hippocr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Családorvosi és foglalkozás-egészségügyi folyóirat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apítva: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iadó: DZÉTA Kia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Évente 2 lapszám, eleinte kéthavonta vo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Cél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: az érintett orvosok szakmai gyakorlatában nyújtsanak a számukra hasznosítható tudá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medlist.com/HIPPOCRATES/Tartalom.ht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7365960" y="189000"/>
            <a:ext cx="1521000" cy="187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gyar Epidemiológ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cím: Hungarian Epidemi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apítva: 200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iadó: Magyar Molekuláris és Prediktív Epidemiológiai Társaság, Pé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Éventer négy lapszá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mmpet.aok.pte.hu/news.ph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Documents and Settings\Zsófi\Dokumentumok\Képek\magyepi_III2.jpg"/>
          <p:cNvPicPr/>
          <p:nvPr/>
        </p:nvPicPr>
        <p:blipFill>
          <a:blip r:embed="rId2"/>
          <a:stretch/>
        </p:blipFill>
        <p:spPr>
          <a:xfrm>
            <a:off x="7380360" y="189000"/>
            <a:ext cx="1498680" cy="213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gyar Or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Első megjelenés: 199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 Magyar Orvosi Kamara hivatalos lap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Profil: egészségpolitikai, egészségügyi szakl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Havonta jelenik me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Magyar nyelvű cikke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melania.hu/morvos/archivum</a:t>
            </a: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m tévesztendő össze a weborvos.hu-n találhatóval!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7053120" y="214200"/>
            <a:ext cx="1617840" cy="199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gyar Reumatológ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cím: Hungarian Rheumatology: A Magyar Reumatológusok Egyesületének Tudományos Folyóir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apítva: 199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iadó: Magyar Reumatológia Haladásáért Alapítvá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Profil: klinikai orvostudomá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Évente négy lapszá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1996-os évfolyamtól a weblapon regisztráció után full textes hozzáféré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iegészítő lap: Reuma Híradó (Betegújság reumatológiai betegeknek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doki.net/tarsasag/mra/hirek.aspx?web_id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Medi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apítva: 198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Főszerkesztő: Dr. Gömör Bé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iadja: Akadémiai Kia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Profil: Orvosi szakmai és kulturális folyóir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Évi négy lapszá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 folyóirat közérthetően és magas színvonalon szól az orvostársadalom szélesebb rétegeihez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Hasábjain gyakorló és tudós orvosokról, a tudomány és művészet kapcsolatáról, tudományos és művészi teljesítmény kölcsönhatásáról és összefonódó kultúrtörténetéről olvashatunk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akademiaikiado.hu/main.php?folderID=1586&amp;articleID=4742&amp;ctag=articlelist&amp;iid=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7215120" y="214200"/>
            <a:ext cx="1662120" cy="235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gyar Orvosi Könyvtára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zövetsé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1996-ban szerveződött új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 MOKSZ székhelye: Semmelweis Egye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z orvosi és/vagy egészségügyi gyűjtőkörű könyvtárak egyenlőségen alapuló önkéntesen létrehozott egyesül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MOKSZ Hírlevél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(2004-200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Tartalom: hírek, közérdekű információk, rövid tájékozatók a MOKSZ 2004. évi munkájáró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Orvosi Könyvtárak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(2009-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 Hírlevél jogutód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Felelős szerkesztő: Gracza Tün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Nyomtatott és elektronikus hozzáféré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lib.sote.hu/moksz/index.html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zichoteráp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pszichoterapia1"/>
          <p:cNvPicPr/>
          <p:nvPr/>
        </p:nvPicPr>
        <p:blipFill>
          <a:blip r:embed="rId1"/>
          <a:stretch/>
        </p:blipFill>
        <p:spPr>
          <a:xfrm>
            <a:off x="7265880" y="260280"/>
            <a:ext cx="1586160" cy="2232000"/>
          </a:xfrm>
          <a:prstGeom prst="rect">
            <a:avLst/>
          </a:prstGeom>
          <a:ln w="0">
            <a:noFill/>
          </a:ln>
        </p:spPr>
      </p:pic>
      <p:sp>
        <p:nvSpPr>
          <p:cNvPr id="148" name="Tartalom hely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lső megjelenés: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ofil: A klinikum, szociális ellátás, mentálhigiéné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nevelési tanácsadás, szervezeti tanácsadá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venció szakmai folyóir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egjelenik a Pszichoterápiás Tanács szakmai támogatásá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Lapalapító: Buda Béla, főszerkesztő: Szőnyi Gá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inden cikk lektorál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sak tartalomjegyzék érhető el az oldalró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pszichoterapia.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rvostovábbképző Szem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pszichoterapia1"/>
          <p:cNvPicPr/>
          <p:nvPr/>
        </p:nvPicPr>
        <p:blipFill>
          <a:blip r:embed="rId1"/>
          <a:stretch/>
        </p:blipFill>
        <p:spPr>
          <a:xfrm>
            <a:off x="7380360" y="260280"/>
            <a:ext cx="1535040" cy="1873440"/>
          </a:xfrm>
          <a:prstGeom prst="rect">
            <a:avLst/>
          </a:prstGeom>
          <a:ln w="0">
            <a:noFill/>
          </a:ln>
        </p:spPr>
      </p:pic>
      <p:sp>
        <p:nvSpPr>
          <p:cNvPr id="151" name="Tartalom helye 4"/>
          <p:cNvSpPr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lső megjelenés: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őszerkesztő: Dr. Nagy J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adó: Medical Tribune Kiadó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ofil: az általános és a szakellátással foglalkozó orvosok mindennapi gyógyító munkájának támogatása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 Orvostovábbképző Szemle a gyakorló orvosok továbbképzésének legnépszerűbb hazai fóruma, a legtöbb orvos által olvasott magyar nyelvű szakfolyóir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2007-es cikkek full textesen elérhető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medical-tribune.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orvosi információ jellemző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elvi, terminológiai problém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y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ötött nyelvez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információ mennyisége és minősé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rvostovábbképző Szem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pszichoterapia1"/>
          <p:cNvPicPr/>
          <p:nvPr/>
        </p:nvPicPr>
        <p:blipFill>
          <a:blip r:embed="rId1"/>
          <a:stretch/>
        </p:blipFill>
        <p:spPr>
          <a:xfrm>
            <a:off x="7380360" y="260280"/>
            <a:ext cx="1535040" cy="1873440"/>
          </a:xfrm>
          <a:prstGeom prst="rect">
            <a:avLst/>
          </a:prstGeom>
          <a:ln w="0">
            <a:noFill/>
          </a:ln>
        </p:spPr>
      </p:pic>
      <p:sp>
        <p:nvSpPr>
          <p:cNvPr id="154" name="Tartalom hely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talmának gerincét jelenleg több külföldi nev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yóirat cikkeiből állítja össze a Szerkesztőbizottsá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olyóirat tartalmának összeállításakor figyelembe veszik az olvasói igénye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den cikket az adott téma elismert magyar szaktekintélye által írt kommentár követ, amely a hazai diagnosztikus és terápiás gyakorlat ismertetésével segíti az elméleti és gyakorlati ismeretek hasznosításá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vosképzé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pszichoterapia1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873080"/>
          </a:xfrm>
          <a:prstGeom prst="rect">
            <a:avLst/>
          </a:prstGeom>
          <a:ln w="0">
            <a:noFill/>
          </a:ln>
        </p:spPr>
      </p:pic>
      <p:sp>
        <p:nvSpPr>
          <p:cNvPr id="157" name="Tartalom hely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lső megjelenés: 1911 (megújult: 2008-b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2005-ben a Semmelweis Egyetem tulajdonába kerü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lap ugyanis soha nem egy szűk szakmai „elit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olvasmánya volt, hanem alapvető célja minden olvasó kolléga </a:t>
            </a:r>
            <a:r>
              <a:rPr b="1" i="1" lang="hu-HU" sz="2200" spc="-1" strike="noStrike" u="sng">
                <a:solidFill>
                  <a:srgbClr val="ff0f0f"/>
                </a:solidFill>
                <a:uFillTx/>
                <a:latin typeface="Arial"/>
              </a:rPr>
              <a:t>élethossziglan való képzésének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segíté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lebelsberg Kunó kultuszminiszter úr az 1920-as években személyesen járt közben az újság további folyamatos működése érdekéb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2005-től elérhetők a számok full textb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semmelweiskiado.hu/orvoskep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ővé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pszichoterapia1"/>
          <p:cNvPicPr/>
          <p:nvPr/>
        </p:nvPicPr>
        <p:blipFill>
          <a:blip r:embed="rId1"/>
          <a:stretch/>
        </p:blipFill>
        <p:spPr>
          <a:xfrm>
            <a:off x="7380360" y="260280"/>
            <a:ext cx="1535040" cy="1873440"/>
          </a:xfrm>
          <a:prstGeom prst="rect">
            <a:avLst/>
          </a:prstGeom>
          <a:ln w="0">
            <a:noFill/>
          </a:ln>
        </p:spPr>
      </p:pic>
      <p:sp>
        <p:nvSpPr>
          <p:cNvPr id="160" name="Tartalom hely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cím: Az ápolás elmélete és gyakorl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egjelenés: 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adó: Magyar Egészségügyi Szakdolgozói Kam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Magyar Ápolástudományi Társaság szakmai együttműködésé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folyóiratot a CINAHL nemzetközi ápolási adatbázis referál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2000-től elérhetők a cikkek full textb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meszk.hu/index.php?content=1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épegészségü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pszichoterapia1"/>
          <p:cNvPicPr/>
          <p:nvPr/>
        </p:nvPicPr>
        <p:blipFill>
          <a:blip r:embed="rId1"/>
          <a:stretch/>
        </p:blipFill>
        <p:spPr>
          <a:xfrm>
            <a:off x="7689960" y="189000"/>
            <a:ext cx="1298520" cy="1584360"/>
          </a:xfrm>
          <a:prstGeom prst="rect">
            <a:avLst/>
          </a:prstGeom>
          <a:ln w="0">
            <a:noFill/>
          </a:ln>
        </p:spPr>
      </p:pic>
      <p:sp>
        <p:nvSpPr>
          <p:cNvPr id="163" name="Tartalom hely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cím: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z Egészségügyi Minisztérium tudományos és egészségpolitikai folyóir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Első megjelenés: 1920 (közben voltak kihagyás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Mostani kiadó: Debreceni Egyetem Orvos-és Egészségtudományi Centrum Népegészségügyi K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Célja: hazai és nemzetközi népeü-i kutatások és programok eredményeinek értékelő bemutatásával, az egészségpolitikai döntés előkészítés és döntéshozás szakmai támogatásával, a magyar népeü-i helyzet javításának szolgál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Elérhető a tartalomjegyzé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nk.unideb.hu/index.php?pageid=nepegeszsegugy_folyoirat_szerkesztos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In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informed.h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ndulás: 1995 - első magyar egészségügyi web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z oldalon kizárólag orvosi szempontból korrekt, lektorált anyagok található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Első szint: hétköznapi embereknek tanácsok, életmód, betegség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Második szint: A szakmai oldalak látogatása regisztrációhoz kötött, absztraktok olvasás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Harmadik szint: A folyóiratok teljes szövegéhez további regisztráció szükséges. (csak orvosoknak lehetséges, munkahely megadás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 portált a Health on the Net (HON) akkreditálta, mely azt jelenti, hogy a szervezet elvárásainak minden szempontból megfelel.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6286680" y="285840"/>
            <a:ext cx="266508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In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Folyóirato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neszteziológia és intenzív teráp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Fül-orr-gégegyógyász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nformatika és Management az Egészségügyb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nternational Health Ne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Magyar Onkológ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Magyar Traumatológ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Orvostudomány Bullet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Szemész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Stb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286680" y="214200"/>
            <a:ext cx="2665080" cy="600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7812000" y="1268280"/>
            <a:ext cx="1000080" cy="147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7020000" y="2276640"/>
            <a:ext cx="1000080" cy="1419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4"/>
          <a:stretch/>
        </p:blipFill>
        <p:spPr>
          <a:xfrm>
            <a:off x="7885080" y="3141720"/>
            <a:ext cx="1000080" cy="1419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5"/>
          <a:stretch/>
        </p:blipFill>
        <p:spPr>
          <a:xfrm>
            <a:off x="7020000" y="4076640"/>
            <a:ext cx="1000080" cy="1362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"/>
          <p:cNvPicPr/>
          <p:nvPr/>
        </p:nvPicPr>
        <p:blipFill>
          <a:blip r:embed="rId6"/>
          <a:stretch/>
        </p:blipFill>
        <p:spPr>
          <a:xfrm>
            <a:off x="7885080" y="4869000"/>
            <a:ext cx="1000080" cy="139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1640" y="177300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Orvosi könyvtárak hazánkban 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és külföldö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z orvosi könyvtárakró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sődleges céljuk: orvosok, egészségügyi dolgozók könyvtári, információs ellá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inkább képzőhelyekhez kötődő könyvtárak, illetve kórházi (intézeti) könyvtár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yűjtemény”: nyomtatott és elektronikus (folyóiratok, könyvek, kéziratok, disszertációk), hazai és külföldi dokumentumok, adatbázis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8 orvosi szakkönyvtár (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gény: megyénként minimum egy korszerű szakkönyvtá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z orvosi könyvtár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ki.hu/new3/konyvtar/lelohely/placebycode_index.html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konyvtar.hu/tudakozo/bongeszo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pandy.hu/konyvtar/kvt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2004. márc. 1. előtt: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Országos Egészségügyi Információs Intézet és Könyvtá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országos hatókörű szakkönyvtá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agyar Orvosi Bibliográf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Lelőhelyjegyzék az orvosi könyvtárakró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agyar orvosi folyóiratok hivatalos címrövidítés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ülöngyűjteménye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WHO külön-gyűjtemé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Európai uniós külön-gyűjtemé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Nővér folyóirat archívu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76 folyóiratot járat jelenle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eski.hu/new3/konyvtar/konyvtar.ph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6516720" y="3933720"/>
            <a:ext cx="19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GYEMSZI-IRF  f&amp;odblac;oldal"/>
          <p:cNvPicPr/>
          <p:nvPr/>
        </p:nvPicPr>
        <p:blipFill>
          <a:blip r:embed="rId2"/>
          <a:stretch/>
        </p:blipFill>
        <p:spPr>
          <a:xfrm>
            <a:off x="250920" y="0"/>
            <a:ext cx="8569080" cy="148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ációs igény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k a felhasználó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tató orvos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yakorló orvos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egek, paciens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észségügyi szakszemélyz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gató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rdeklődő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z egyetemi/főiskolai orvosi könyvtárak - magy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Fő céljuk: oktatás – kutatás – gyógyítás támogatá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Debreceni Egyetem Orvos- és Egészségtudományi Cen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http://kenezy.lib.unideb.hu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- Kenézy Élettudományi Könyvtá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- 300 ezer dokument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- Kenézy Orvostudományi Könyvtár, Kémiai Szakkönyvtár, Nemzeti Gyűjtemény biológiai, kémiai, orvostudományi vonatkozású dokumentum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- Debreceni Egyetem elektronikus Archívuma (DE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- Debreceni Egyetem Publikációs adatbázi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1476360" y="2781360"/>
            <a:ext cx="1712880" cy="171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z egyetemi/főiskolai orvosi könyvtárak - magy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40360" y="1988640"/>
            <a:ext cx="45748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Pécsi Tudományegyetem Általános Orvostudományi K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aok.pte.hu/index.php?page=egyseg&amp;egy_id=900&amp;nyelv=hun&amp;egy=9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Pekár Mihály Orvosi és Élettudományi Szakkönyvtá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PTE Orvosi- és Egészségtudományi Centrum (PTE OEC – ÁOK+ET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22 ezer köt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linkgyűjtemény: http://www.lib.pte.hu/main.php?menu=library&amp;article=konyvtarrol/konyvtaraink/oec/oec.htm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2249280" cy="224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z egyetemi/főiskolai orvosi könyvtárak - magy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00360" y="2060640"/>
            <a:ext cx="421452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Semmelweis Orvostudományi Egye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lib.sote.h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270 ezer kötet, 584 folyóirat (467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Orvosi Folyóiratok Szerzői Utasítás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Orvosi Képek, Orvosi Szótárak link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1981080" cy="215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z egyetemi/főiskolai orvosi könyvtárak - magy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0" y="2133720"/>
            <a:ext cx="4114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Szegedi Tudományegyetem Általános Orvostudományi K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2.bibl.u-szeged.hu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saját oldala nin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1, 2 millió könyv, 250 ezer folyóirat, 130 ezer egyéb dokument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Contenta: Szegedi Egyetem repozitóriu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3002040" cy="30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z egyetemi/főiskolai orvosi könyvtárak - külföld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he University of Iowa – gyűjtemény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http://www.lib.uiowa.edu/hardin/hslibs.htm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United States National Library of 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http://www.nlm.nih.gov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University of Oxf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http://www.bodleian.ox.ac.uk/medic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John Hopkins Univers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http://webapps.jhu.edu/jhuniverse/libraries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Countway Library of 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https://www.countway.harvard.edu/index.htm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es területek könyvtára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http://konyvtar.hu/tudakozo/bongesz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Semmelweis Orvostörténeti Múzeum, Könyvtár és Levéltár: http://www.semmelweis.museum.hu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Országos Onkológiai Intéz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honcology.hu/portal/page/portal/OOI/MEDICAL_ATTENDANCE/medical_departments/MD_3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Semmelweis Egyetem Magatartástudományi Intéz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magtud.hu/int/konyvtar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órházi, klinikai könyvtár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Jósa András Oktatókórház Nonprofit K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josa.hu/konyvtar/informaciok/gyjtemenyuen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Zala Megyei Kórház Egészségügyi Szakkönyvtá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zmkok.hu/emagyarorszag.hu/object.E73D74EE-8E77-4158-806F-3B183E60FAB6.htm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Semmelweis Egyetem I.sz. Sebészeti Klinika Orvostudományi Szakkönyvtá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seb1.sote.hu/lib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átészalkai Területi Kórház Nonprofit Kf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szalkakorhaz.hu/egyeb_szolgaltatas_konyvtar.ph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eim Pál Gyermekkórház könyvtá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heimpalkorhaz.hu/index.php?menu=1&amp;tab=rovat_al&amp;id=44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esületek, szerveze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360" y="162864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agyar Orvosi Könyvtárosok Szövetsége (MOKS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lib.sote.hu/moksz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agyar Orvosi Kamara (MOK) - linkgyűjtemény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mok.hu/dokilink.aspx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edical Library Association (M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mlanet.org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2195640" y="4076640"/>
            <a:ext cx="5473440" cy="608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1763640" y="5084640"/>
            <a:ext cx="1876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3"/>
          <a:stretch/>
        </p:blipFill>
        <p:spPr>
          <a:xfrm>
            <a:off x="5724360" y="494172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National Library of Medicine (NLM) legfőbb adatbázi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Több mint 19 millió folyóiratcikk adat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1946-tól tartalmaz tétele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5600 folyóirat, 39 nyel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Naponta 2-4 ezer tétellel, évente kb. 700 ezer tét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atikai lefedettsé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észségügy, orvostudomá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ó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é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Élettudomány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uta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inikai gyakor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ációforrás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gyományos dokument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akkönyv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ézikönyv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yóirat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nikus forrás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ációt szolgáltató intézmény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tbázis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MedlinePlus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észségügyi információk a paciensek igényeihez igazít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B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zolgáltatja a Medline-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Hozzáférés teljes szövegekh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Tartalmazza a feldolgozás alatt álló tételeket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Medline-hoz képest több folyóirat cikkét feldolgoz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Medical Subject Headings (MES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Orvosi tezauru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Betűrendes és hierarchikus elrendez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26.853 deszkrip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Összesen 213.000 fogal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Minősítők (subheading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úlyoz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át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Medline az eredeti cikk angol nyelvű referátumait emeli be az adatbázisba. Ha nincs ilyen, nem készül új referát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Bizonyos esetekben 250 ill. 400 szónál elvágják a referátum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trukturált referátumok: háttér, célok, módszerek, eredmény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ézikönyvek, szótárak, atlasz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old, Gerd: Belgyógyászat - Orvosoknak – medikusoknak. Budapest: Medicina Kiadó, 200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719520" y="1600200"/>
            <a:ext cx="49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0-tól Németországban év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yarországon 2000-ben előszö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ben hatodik kiadás, először a Medicina kiadó ál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ényegre törő, megfelelően tagolt, a legkorszerűbb ismereteket tartalmazó kéziköny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ndennapos praktizálásban is nagy segítségre leh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Kép 4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033720" cy="424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nya László (szerk.): Betegség enciklopédia I-II. Budapest: Springer Tudományos Kft, 200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51280" y="1483920"/>
            <a:ext cx="496872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kiadvány nem kíván versenyezni a több ezer oldalas kiadványokkal, ennek szellemében áttekinthető ismereteket kínál pazar felépítéssel használóin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Hátránya, hogy nem minden szerepel a nyomtat verzióban: irodalmi hivatkozások, képek, táblázatok, s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Springer társkiadója a www.vitalitas.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Betegség enciklopédia 1-2."/>
          <p:cNvPicPr/>
          <p:nvPr/>
        </p:nvPicPr>
        <p:blipFill>
          <a:blip r:embed="rId1"/>
          <a:stretch/>
        </p:blipFill>
        <p:spPr>
          <a:xfrm>
            <a:off x="324000" y="1628640"/>
            <a:ext cx="3025800" cy="424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0:33:30Z</dcterms:created>
  <dc:creator>Kozma Zsófia</dc:creator>
  <dc:description/>
  <dc:language>en-US</dc:language>
  <cp:lastModifiedBy>vkati</cp:lastModifiedBy>
  <dcterms:modified xsi:type="dcterms:W3CDTF">2013-04-11T08:19:55Z</dcterms:modified>
  <cp:revision>143</cp:revision>
  <dc:subject/>
  <dc:title>Orvostudományi szakfolyóiratok</dc:title>
</cp:coreProperties>
</file>