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5.png" ContentType="image/png"/>
  <Override PartName="/ppt/media/image34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51.png" ContentType="image/png"/>
  <Override PartName="/ppt/media/image52.png" ContentType="image/png"/>
  <Override PartName="/ppt/media/image30.jpeg" ContentType="image/jpeg"/>
  <Override PartName="/ppt/media/image53.png" ContentType="image/png"/>
  <Override PartName="/ppt/media/image33.png" ContentType="image/png"/>
  <Override PartName="/ppt/media/image31.png" ContentType="image/png"/>
  <Override PartName="/ppt/media/image13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2F2-3E56-4C47-BFDA-EB92066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99C-44E7-4B84-BE03-A33409C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7C8-62B3-4609-9D13-F9BC7B5B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D71-C7DB-4969-9C45-6DEB0110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14D-6E82-4D76-B8B6-D8FEA84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F95-C92C-487E-B1FB-C68697D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282-E8A7-4F86-A384-7B3514D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989-AADD-4BF6-92F8-90338363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89A-B4EF-4952-AFC6-4DA82C7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A12-EE8B-4F7F-8110-367E320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45A-62FF-479A-8563-DF68195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9D9-8620-40AB-8424-01998AE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90A-FF42-49A6-8EBF-2A5D74B2C10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business-ekgjavjav2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kademiai.com/content/1788-6120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ddiktologia.hu/" TargetMode="External"/><Relationship Id="rId2" Type="http://schemas.openxmlformats.org/officeDocument/2006/relationships/hyperlink" Target="http://www.addiktologia.hu/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e.czidro.eu/" TargetMode="External"/><Relationship Id="rId2" Type="http://schemas.openxmlformats.org/officeDocument/2006/relationships/hyperlink" Target="http://mae.czidro.eu/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unrise.sote.hu/htsz/tartalom.htm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edlist.com/HIPPOCRATES/Tartalom.htm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mmpet.aok.pte.hu/news.php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elania.hu/morvos/archivum/" TargetMode="External"/><Relationship Id="rId2" Type="http://schemas.openxmlformats.org/officeDocument/2006/relationships/hyperlink" Target="http://www.melania.hu/morvos/archivum/" TargetMode="Externa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oki.net/tarsasag/mra/hirek.aspx?web_id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kademiaikiado.hu/main.php?folderID=1586&amp;articleID=4742&amp;ctag=articlelist&amp;iid=1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lib.sote.hu/moksz/index.html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pszichoterapia.hu/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medical-tribune.hu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www.semmelweiskiado.hu/orvoskepze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meszk.hu/index.php?content=138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nk.unideb.hu/index.php?pageid=nepegeszsegugy_folyoirat_szerkesztosege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nformed.hu/" TargetMode="External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ski.hu/new3/konyvtar/lelohely/placebycode_index.html" TargetMode="External"/><Relationship Id="rId2" Type="http://schemas.openxmlformats.org/officeDocument/2006/relationships/hyperlink" Target="http://konyvtar.hu/tudakozo/bongeszo" TargetMode="External"/><Relationship Id="rId3" Type="http://schemas.openxmlformats.org/officeDocument/2006/relationships/hyperlink" Target="http://www.pandy.hu/konyvtar/kvt.htm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vostudományi szaktájékoztat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Dr. Varga Kat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H. Beers, M.D., Robert Berkow, M.D: MSD Orvosi Kézikönyv – Diagnózis és terápia. Budapest: Melania Kiadó Kft, 199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ásodik magyar kiad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ömör, teljeségre törekedő leírás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yógyászati tankönyvnek szánták, de kiválóan alkalmazható az orvos tudomány számos más területén is, hiszen a benne nyújtott információk igencsak széles spektrumú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www.antikvarium.hu/ant/foto.php?id=1252926&amp;q=90&amp;h=453"/>
          <p:cNvPicPr/>
          <p:nvPr/>
        </p:nvPicPr>
        <p:blipFill>
          <a:blip r:embed="rId1"/>
          <a:stretch/>
        </p:blipFill>
        <p:spPr>
          <a:xfrm>
            <a:off x="539640" y="1700280"/>
            <a:ext cx="3238560" cy="43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per László - Schaff Zsuzsa (szerk.): Patológia I-II. Budapest: Medicina,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27640" y="1628640"/>
            <a:ext cx="417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adéves orvostan hallgatóknak és szakvizsgára készülőknek nélkülözhetetlen kézi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váló felépítésével igyekszik átadni az alapvető ismereteket minden medikus tanoncn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zámos előnye közül kiemelhető gazdag illusztrált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imgserver2.eladomakonyvem.hu/edaad70bacd759006b657935b63c7f03.jpg"/>
          <p:cNvPicPr/>
          <p:nvPr/>
        </p:nvPicPr>
        <p:blipFill>
          <a:blip r:embed="rId1"/>
          <a:stretch/>
        </p:blipFill>
        <p:spPr>
          <a:xfrm>
            <a:off x="395280" y="1628640"/>
            <a:ext cx="3438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972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ál Csaba (szerk.): Sebészet : Budapest: Medicina,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25520" y="1600200"/>
            <a:ext cx="466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dik, átdolgozott, bővített kiad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váló történeti áttekintés található benne mely a magyar sebészet történetét mutatja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delkezik a mindazokkal a legalapvetőbb és legaktuálisabb mai ismeretekkel, melyek nélkülözhetetlenek a sebészet szakszerű elsajátítás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zdagon illusztrá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marvin.bookline.hu/product_images/459/B905044.JPG"/>
          <p:cNvPicPr/>
          <p:nvPr/>
        </p:nvPicPr>
        <p:blipFill>
          <a:blip r:embed="rId1"/>
          <a:stretch/>
        </p:blipFill>
        <p:spPr>
          <a:xfrm>
            <a:off x="539640" y="1392120"/>
            <a:ext cx="345600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r. med. Dieter Werner Unseld: Orvosi szótár. Budapest: Medicina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8920" y="1483920"/>
            <a:ext cx="38098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gy kötet tartalmazza az angol - magyar és a magyar - angol szókészletet, és szintén egy kötet a német - magyar, magyar - német szókészlet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önnyen áttekinthető, hasábos szerkezettel rendelkez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ótáranként kb. 25 000 szó van ben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érete: közepes szótá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ktikus, felhasználóbarát, precíz és naprakés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épést tart a változásokk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dieter - orvosi angol"/>
          <p:cNvPicPr/>
          <p:nvPr/>
        </p:nvPicPr>
        <p:blipFill>
          <a:blip r:embed="rId1"/>
          <a:stretch/>
        </p:blipFill>
        <p:spPr>
          <a:xfrm>
            <a:off x="468360" y="1700280"/>
            <a:ext cx="212400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ieter - orvosi német"/>
          <p:cNvPicPr/>
          <p:nvPr/>
        </p:nvPicPr>
        <p:blipFill>
          <a:blip r:embed="rId2"/>
          <a:stretch/>
        </p:blipFill>
        <p:spPr>
          <a:xfrm>
            <a:off x="2268360" y="3213000"/>
            <a:ext cx="2143440" cy="32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r. Brencsán János: Orvosi szótár. Budapest: Medicina, 200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-megújuló formában évtizedek óta szolgálja az orvosokat, orvostanhallgatókat és az orvostudomány iránt érdeklődő olvasóközönség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z új kiadás bővült és megújult az előzőhöz képest: modernizálták a nyelvezetét, a rövidítéseket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zerző külön felhívja a figyelmet az alternatív gyógyászati ismeretek körének bővítésé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brencsán"/>
          <p:cNvPicPr/>
          <p:nvPr/>
        </p:nvPicPr>
        <p:blipFill>
          <a:blip r:embed="rId1"/>
          <a:stretch/>
        </p:blipFill>
        <p:spPr>
          <a:xfrm>
            <a:off x="1254240" y="2260440"/>
            <a:ext cx="2439720" cy="32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ősze Péter (szerk.): A magyar orvosi nyelv tankönyve. Budapest: Medicina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gyar orvosi nyelv egyetemi órára szokták leginkább kikölcsönözni ezt a könyv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csés György munkájának kései utó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bősze péter"/>
          <p:cNvPicPr/>
          <p:nvPr/>
        </p:nvPicPr>
        <p:blipFill>
          <a:blip r:embed="rId1"/>
          <a:stretch/>
        </p:blipFill>
        <p:spPr>
          <a:xfrm>
            <a:off x="669960" y="1708200"/>
            <a:ext cx="3519360" cy="44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ancy Duin – dr. Jenny Sutcliffe: Az orvoslás története: Az ősidőktől 2020-ig. Budapest: Medicina, 19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pekkel és történetekkel színesített összefoglal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gy- és névmutató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jenny sutcliffe"/>
          <p:cNvPicPr/>
          <p:nvPr/>
        </p:nvPicPr>
        <p:blipFill>
          <a:blip r:embed="rId1"/>
          <a:stretch/>
        </p:blipFill>
        <p:spPr>
          <a:xfrm>
            <a:off x="719280" y="1600200"/>
            <a:ext cx="35100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Heinz Schott: Medicina Krónikája. Budapest: Officina Nova, 199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kan használják, nagyon jó vélemény alakult ki ró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őrendben összefoglalja az orvostudomány kialakulás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épekkel, illusztrációkkal színesít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ülön kiemelve a főbb személyiségek + név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medicina kronikaja"/>
          <p:cNvPicPr/>
          <p:nvPr/>
        </p:nvPicPr>
        <p:blipFill>
          <a:blip r:embed="rId1"/>
          <a:stretch/>
        </p:blipFill>
        <p:spPr>
          <a:xfrm>
            <a:off x="480960" y="2305080"/>
            <a:ext cx="3963960" cy="335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. Putz – R. Pabts: Sobotta: Az ember anatómiájának atlasza. Budapest: Medicina,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legnépszerűbb anatómiai atlas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2. kiadása két kötetben, a jól bevált módon, feliratozott képek segítségével mutatja be az emberi test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testfelszíni tájékozódási pontokat bemutató fotók, színes rajzos ábrák, rajzokkal kiegészített fotók, röntgen-, CT- és MRI-képek változatos és könnyen megérthető módon biztosítanak bőséges ismeretanyago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sobotta 2 köt"/>
          <p:cNvPicPr/>
          <p:nvPr/>
        </p:nvPicPr>
        <p:blipFill>
          <a:blip r:embed="rId1"/>
          <a:stretch/>
        </p:blipFill>
        <p:spPr>
          <a:xfrm>
            <a:off x="1619280" y="3933720"/>
            <a:ext cx="3409920" cy="25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sobotta"/>
          <p:cNvPicPr/>
          <p:nvPr/>
        </p:nvPicPr>
        <p:blipFill>
          <a:blip r:embed="rId2"/>
          <a:stretch/>
        </p:blipFill>
        <p:spPr>
          <a:xfrm>
            <a:off x="250920" y="1341360"/>
            <a:ext cx="256356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öhlich Pál: Szövettan. Budapest: Semmelweis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tudásanyaga a Semmelweis Egyetem Humánmorfológiai és Fejlődésbiológiai Intézet oktatói közösségének eredmény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elsősorban az egyetemi oktatás számára készült azzal a céllal, hogy az egészséges emberi szervezet mikroszkópos világába bevezesse az orvos- és fogorvostan-hallgató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zdag képanyaggal rendelkeznek, amely a jobb megértés a cél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szövettan"/>
          <p:cNvPicPr/>
          <p:nvPr/>
        </p:nvPicPr>
        <p:blipFill>
          <a:blip r:embed="rId1"/>
          <a:stretch/>
        </p:blipFill>
        <p:spPr>
          <a:xfrm>
            <a:off x="70956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kell tudni ahhoz, hogy valaki tájékoztatni tudjon az orvostudomány és az egészségügy területén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mere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iségjegy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zköztud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Fonyó Attila:Az orvosi élettani tankönyve. Budapest: Medicina,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nkább hallgatóknak ajánlj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cs tartalomjegyzék, csak tárgy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vés képpel illusztrált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i van szakszöveggel, rövidítéssel, kifejezésekkel -&gt; ezért a laikusok számára nehé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fonyó1"/>
          <p:cNvPicPr/>
          <p:nvPr/>
        </p:nvPicPr>
        <p:blipFill>
          <a:blip r:embed="rId1"/>
          <a:stretch/>
        </p:blipFill>
        <p:spPr>
          <a:xfrm>
            <a:off x="324000" y="1557360"/>
            <a:ext cx="2381040" cy="33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onyó2"/>
          <p:cNvPicPr/>
          <p:nvPr/>
        </p:nvPicPr>
        <p:blipFill>
          <a:blip r:embed="rId2"/>
          <a:stretch/>
        </p:blipFill>
        <p:spPr>
          <a:xfrm>
            <a:off x="2195640" y="3141720"/>
            <a:ext cx="2449440" cy="34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zirják László (szerk.): Klinikai immunológia. Budapest: Medicina,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próbálja kiegyensúlyozottan bemutatni a klinikai immunológia igen szerteágazó ismeretanyagá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m csak az orvostanhallgatók és immunológusok, de valójában minden gyógyító szakágazat, pl. belgyógyászat, neurológia, reumatológia stb. szakorvosai számára hasznos, gyakorlati ismereteket biztosító szakköny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klinikai immunológia"/>
          <p:cNvPicPr/>
          <p:nvPr/>
        </p:nvPicPr>
        <p:blipFill>
          <a:blip r:embed="rId1"/>
          <a:stretch/>
        </p:blipFill>
        <p:spPr>
          <a:xfrm>
            <a:off x="658800" y="1600200"/>
            <a:ext cx="3630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áh Éva: Gyermekgyógyászati kézikönyv. Budapest: Medicina, 2004. 2 kö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könyv az akut és krónikus betegségek főbb jellemzőit tartalmazza; definíció, tünetek, diagnosztikai teendők, differenciáldiagnosztika, terápia, prognózis és a követés szempontjait véve alap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gyon jól szerkesztett: táblák, tovább visz kapcsolódó fejezetekhez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emeli a lényeges része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gyermekgyógyászat"/>
          <p:cNvPicPr/>
          <p:nvPr/>
        </p:nvPicPr>
        <p:blipFill>
          <a:blip r:embed="rId1"/>
          <a:stretch/>
        </p:blipFill>
        <p:spPr>
          <a:xfrm>
            <a:off x="1279440" y="2260440"/>
            <a:ext cx="2389320" cy="32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ephen J McPhee – Maxine A Papadakis: Current Medical Diagnosis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book-ként letölthet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r a legújabb verzió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apképzés során sűrűn forgatják a külföldi hallgató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2008current diagnosis"/>
          <p:cNvPicPr/>
          <p:nvPr/>
        </p:nvPicPr>
        <p:blipFill>
          <a:blip r:embed="rId1"/>
          <a:stretch/>
        </p:blipFill>
        <p:spPr>
          <a:xfrm>
            <a:off x="731880" y="1600200"/>
            <a:ext cx="34862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ephen J. McPhee – Mavine A. Papadakis: Korszerű Orvosi Diagnosztika és Terápia. Budapest, Melania Kiadói Kft.,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apvető klinikai kéziköny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z angol nyelvű könyv magyar változ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bízhatóan közvetíti az orvostudomány legújabb eredményeit, a megelőzési stratégiákat és a költség-hatékony kezelési módoka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éles körűen fogja át a kórházi és járóbeteg-ellátással kapcsolatos tudnivalók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korszerű diagnosztika"/>
          <p:cNvPicPr/>
          <p:nvPr/>
        </p:nvPicPr>
        <p:blipFill>
          <a:blip r:embed="rId1"/>
          <a:stretch/>
        </p:blipFill>
        <p:spPr>
          <a:xfrm>
            <a:off x="468360" y="148428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korszeru_orvosi_diagnosztika_konyv"/>
          <p:cNvPicPr/>
          <p:nvPr/>
        </p:nvPicPr>
        <p:blipFill>
          <a:blip r:embed="rId2"/>
          <a:stretch/>
        </p:blipFill>
        <p:spPr>
          <a:xfrm>
            <a:off x="2411280" y="2924280"/>
            <a:ext cx="2343240" cy="335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rrison T.R.: Principles of internal medicine. [Budapest] ; [Japán] : Springer Hungarica Kiadó, cop. 1994</a:t>
            </a: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5573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yógyászati szak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ol nyelvű, orvosi szak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VD melléklet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öbb helyen is letölthető (kalóz verziók is vann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zdagon illusztrá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harissons"/>
          <p:cNvPicPr/>
          <p:nvPr/>
        </p:nvPicPr>
        <p:blipFill>
          <a:blip r:embed="rId1"/>
          <a:stretch/>
        </p:blipFill>
        <p:spPr>
          <a:xfrm>
            <a:off x="590400" y="160020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Böcker – Denk – Heitz – Moch: Pathologie.[S.N.] Urban &amp; Fisher,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Német nyelvű szakköny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áblák, gazdagon illusztrá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-book-ként is elérhet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pathologie"/>
          <p:cNvPicPr/>
          <p:nvPr/>
        </p:nvPicPr>
        <p:blipFill>
          <a:blip r:embed="rId1"/>
          <a:stretch/>
        </p:blipFill>
        <p:spPr>
          <a:xfrm>
            <a:off x="900000" y="1484280"/>
            <a:ext cx="33750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Orvostudományi szakfolyóira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vosi Hetil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legrégebbi magyar orvostudományi sajtótermé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8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Kiadó: Markusovszky Lajos Alapítvá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fil: a klinikai és kísérletes orvostudomány területéről származó eredeti munkákat és összefoglaló referátumokat közö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gyetlen, hetente megjelenő tudományos szakla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agyar és angol nyelvű cikkek, tanulmány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lapban megjelenő dolgozatokról információt ad pl. a Med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folyóirat a Magyar Kulturális Örökség rés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kademiai.com/content/1788-6120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akkrt.hu/img/upload/200611/oh.jpg"/>
          <p:cNvPicPr/>
          <p:nvPr/>
        </p:nvPicPr>
        <p:blipFill>
          <a:blip r:embed="rId2"/>
          <a:stretch/>
        </p:blipFill>
        <p:spPr>
          <a:xfrm>
            <a:off x="6786720" y="189000"/>
            <a:ext cx="1949400" cy="277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ddikt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Addictologia Hunga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Jogelőd: Szenvedélybetegségek (Addictologia Hungaric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nntartó: Magyar Addiktológiai Társasá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z addiktológiai tudományos kutatómunka és a magas szintű tudományos ismeretterjesztés művelés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közönség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orvosok, pszichológusok, szociológusok, szociális munkások, addiktológiai konzultánsok, népegészségügyi szakemberek, epidemiológusok, pedagógusok, lelkészek, újságírók, az e tárgyban tanulmányaikat folytató egyetemisták, főiskolások, PhD-hallgatók, más érdeklődő szakemberek és képzett „laikusok”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ddiktologia.hu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7324560" y="214200"/>
            <a:ext cx="1675080" cy="20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orvosi információ jellemző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öbbnyire ad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áfiai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szakirodalom áll a rendelkezésünk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ztikai ad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ális egészségügyi statisztik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atkozási ad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hasznú informáci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yon sokféle formájú és szintű informá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Ápolásü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nntartó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Ápolási Egyesül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továbbképző és tájékoztató kiadv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nyelv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mae.czidro.eu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14308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541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áziorvos Továbbképző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em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sunrise.sote.hu/htsz/tartalom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egyetemi Továbbképző Adatbáz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rés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első magyarországi elektronikus orvostudományi adatbázist ill. szakköny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Referátumokat tartalma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ő cé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 háziorvosok és medikusok szakmai továbbképzését és praxisvezetését naprakész információkkal segítse, új eredmények közlé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372360" y="714240"/>
            <a:ext cx="2458800" cy="19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Hippoc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saládorvosi és foglalkozás-egészségügyi folyóirat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DZÉTA Kia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 2 lapszám, eleinte kéthavonta vo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: az érintett orvosok szakmai gyakorlatában nyújtsanak a számukra hasznosítható tudá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medlist.com/HIPPOCRATES/Tartalom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7365960" y="189000"/>
            <a:ext cx="152100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Epidemi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Hungarian Epidemi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Magyar Molekuláris és Prediktív Epidemiológiai Társaság, Pé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r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mmpet.aok.pte.hu/news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Zsófi\Dokumentumok\Képek\magyepi_III2.jpg"/>
          <p:cNvPicPr/>
          <p:nvPr/>
        </p:nvPicPr>
        <p:blipFill>
          <a:blip r:embed="rId2"/>
          <a:stretch/>
        </p:blipFill>
        <p:spPr>
          <a:xfrm>
            <a:off x="7380360" y="189000"/>
            <a:ext cx="1498680" cy="21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Or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99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Magyar Orvosi Kamara hivatalos lap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egészségpolitikai, egészségügyi szakl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vonta jelenik me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nyelvű cikke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melania.hu/morvos/archivum</a:t>
            </a: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m tévesztendő össze a weborvos.hu-n találhatóval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7053120" y="214200"/>
            <a:ext cx="161784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yar Reumatoló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Hungarian Rheumatology: A Magyar Reumatológusok Egyesületének Tudományos Folyóir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9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ó: Magyar Reumatológia Haladásáért Alapítv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klinikai orvostudom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ente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1996-os évfolyamtól a weblapon regisztráció után full textes hozzáfér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egészítő lap: Reuma Híradó (Betegújság reumatológiai betegeknek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doki.net/tarsasag/mra/hirek.aspx?web_id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i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apítva: 198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őszerkesztő: Dr. Gömör Bé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adja: Akadémiai Kia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ofil: Orvosi szakmai és kulturális folyóir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Évi négy lapsz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folyóirat közérthetően és magas színvonalon szól az orvostársadalom szélesebb rétegeihe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sábjain gyakorló és tudós orvosokról, a tudomány és művészet kapcsolatáról, tudományos és művészi teljesítmény kölcsönhatásáról és összefonódó kultúrtörténetéről olvashatunk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kademiaikiado.hu/main.php?folderID=1586&amp;articleID=4742&amp;ctag=articlelist&amp;iid=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62120" cy="23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gyar Orvosi Könyvtára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zövetsé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1996-ban szerveződött új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MOKSZ székhelye: Semmelweis Egye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orvosi és/vagy egészségügyi gyűjtőkörű könyvtárak egyenlőségen alapuló önkéntesen létrehozott egyesül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OKSZ Hírlevél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(2004-200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Tartalom: hírek, közérdekű információk, rövid tájékozatók a MOKSZ 2004. évi munkájáró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i Könyvtárak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(2009-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Hírlevél jogutód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elelős szerkesztő: Gracza Tün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Nyomtatott és elektronikus hozzáfér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ib.sote.hu/moksz/index.html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zichoteráp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szichoterapia1"/>
          <p:cNvPicPr/>
          <p:nvPr/>
        </p:nvPicPr>
        <p:blipFill>
          <a:blip r:embed="rId1"/>
          <a:stretch/>
        </p:blipFill>
        <p:spPr>
          <a:xfrm>
            <a:off x="7265880" y="260280"/>
            <a:ext cx="1586160" cy="2232000"/>
          </a:xfrm>
          <a:prstGeom prst="rect">
            <a:avLst/>
          </a:prstGeom>
          <a:ln w="0">
            <a:noFill/>
          </a:ln>
        </p:spPr>
      </p:pic>
      <p:sp>
        <p:nvSpPr>
          <p:cNvPr id="148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fil: A klinikum, szociális ellátás, mentálhigiéné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evelési tanácsadás, szervezeti tanácsadá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venció szakmai folyóir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jelenik a Pszichoterápiás Tanács szakmai támogatásá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apalapító: Buda Béla, főszerkesztő: Szőnyi Gá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inden cikk lektorá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ak tartalomjegyzék érhető el az oldalró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pszichoterapia.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rvostovábbképző Szem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51" name="Tartalom helye 4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őszerkesztő: Dr. Nagy J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adó: Medical Tribune Kiad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fil: az általános és a szakellátással foglalkozó orvosok mindennapi gyógyító munkájának támogatása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Orvostovábbképző Szemle a gyakorló orvosok továbbképzésének legnépszerűbb hazai fóruma, a legtöbb orvos által olvasott magyar nyelvű szakfolyóir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7-es cikkek full textesen elérhető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edical-tribune.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orvosi információ jellemző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elvi, terminológiai problém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y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tött nyelv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nformáció mennyisége és minősé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rvostovábbképző Szem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54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talmának gerincét jelenleg több külföldi ne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yóirat cikkeiből állítja össze a Szerkesztőbizottsá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olyóirat tartalmának összeállításakor figyelembe veszik az olvasói igénye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den cikket az adott téma elismert magyar szaktekintélye által írt kommentár követ, amely a hazai diagnosztikus és terápiás gyakorlat ismertetésével segíti az elméleti és gyakorlati ismeretek hasznosításá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vosképz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873080"/>
          </a:xfrm>
          <a:prstGeom prst="rect">
            <a:avLst/>
          </a:prstGeom>
          <a:ln w="0">
            <a:noFill/>
          </a:ln>
        </p:spPr>
      </p:pic>
      <p:sp>
        <p:nvSpPr>
          <p:cNvPr id="157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ső megjelenés: 1911 (megújult: 2008-b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5-ben a Semmelweis Egyetem tulajdonába kerü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lap ugyanis soha nem egy szűk szakmai „elit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lvasmánya volt, hanem alapvető célja minden olvasó kolléga </a:t>
            </a:r>
            <a:r>
              <a:rPr b="1" i="1" lang="hu-HU" sz="2200" spc="-1" strike="noStrike" u="sng">
                <a:solidFill>
                  <a:srgbClr val="ff0f0f"/>
                </a:solidFill>
                <a:uFillTx/>
                <a:latin typeface="Arial"/>
              </a:rPr>
              <a:t>élethossziglan való képzéséne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segíté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lebelsberg Kunó kultuszminiszter úr az 1920-as években személyesen járt közben az újság további folyamatos működése érdekéb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5-től elérhetők a számok full tex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emmelweiskiado.hu/orvoskep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ővé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pszichoterapia1"/>
          <p:cNvPicPr/>
          <p:nvPr/>
        </p:nvPicPr>
        <p:blipFill>
          <a:blip r:embed="rId1"/>
          <a:stretch/>
        </p:blipFill>
        <p:spPr>
          <a:xfrm>
            <a:off x="7380360" y="260280"/>
            <a:ext cx="1535040" cy="1873440"/>
          </a:xfrm>
          <a:prstGeom prst="rect">
            <a:avLst/>
          </a:prstGeom>
          <a:ln w="0">
            <a:noFill/>
          </a:ln>
        </p:spPr>
      </p:pic>
      <p:sp>
        <p:nvSpPr>
          <p:cNvPr id="160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Az ápolás elmélete és gyakorl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jelenés: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adó: Magyar Egészségügyi Szakdolgozói Ka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Magyar Ápolástudományi Társaság szakmai együttműködésé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folyóiratot a CINAHL nemzetközi ápolási adatbázis referál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0-től elérhetők a cikkek full text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eszk.hu/index.php?content=1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épegészségü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pszichoterapia1"/>
          <p:cNvPicPr/>
          <p:nvPr/>
        </p:nvPicPr>
        <p:blipFill>
          <a:blip r:embed="rId1"/>
          <a:stretch/>
        </p:blipFill>
        <p:spPr>
          <a:xfrm>
            <a:off x="7689960" y="189000"/>
            <a:ext cx="129852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Tartalom hely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lcím: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Egészségügyi Minisztérium tudományos és egészségpolitikai folyóir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megjelenés: 1920 (közben voltak kihagyás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ostani kiadó: Debreceni Egyetem Orvos-és Egészségtudományi Centrum Népegészségügyi K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élja: hazai és nemzetközi népeü-i kutatások és programok eredményeinek értékelő bemutatásával, az egészségpolitikai döntés előkészítés és döntéshozás szakmai támogatásával, a magyar népeü-i helyzet javításának szolgál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érhető a tartalomjegyzé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nk.unideb.hu/index.php?pageid=nepegeszsegugy_folyoirat_szerkesztos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informed.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dulás: 1995 - első magyar egészségügyi web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z oldalon kizárólag orvosi szempontból korrekt, lektorált anyagok található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lső szint: hétköznapi embereknek tanácsok, életmód, betegség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ásodik szint: A szakmai oldalak látogatása regisztrációhoz kötött, absztraktok olvasá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armadik szint: A folyóiratok teljes szövegéhez további regisztráció szükséges. (csak orvosoknak lehetséges, munkahely megadás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 portált a Health on the Net (HON) akkreditálta, mely azt jelenti, hogy a szervezet elvárásainak minden szempontból megfelel.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6286680" y="285840"/>
            <a:ext cx="2665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olyóirat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Aneszteziológia és intenzív teráp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Fül-orr-gégegyógyász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formatika és Management az Egészségügy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nternational Health N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Onkológ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Magyar Traumatológ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Orvostudomány Bullet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emész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tb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65080" cy="600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7812000" y="126828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020000" y="2276640"/>
            <a:ext cx="1000080" cy="1419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7885080" y="3141720"/>
            <a:ext cx="1000080" cy="141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1000080" cy="1362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6"/>
          <a:stretch/>
        </p:blipFill>
        <p:spPr>
          <a:xfrm>
            <a:off x="7885080" y="4869000"/>
            <a:ext cx="1000080" cy="13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Orvosi könyvtárak hazánkban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és külföldö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 orvosi könyvtárakró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sődleges céljuk: orvosok, egészségügyi dolgozók könyvtári, információs ellá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nkább képzőhelyekhez kötődő könyvtárak, illetve kórházi (intézeti) könyvtár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űjtemény”: nyomtatott és elektronikus (folyóiratok, könyvek, kéziratok, disszertációk), hazai és külföldi dokumentumok, adatbázi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8 orvosi szakkönyvtár (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ény: megyénként minimum egy korszerű szakkönyvtá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 orvosi könyvtár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ki.hu/new3/konyvtar/lelohely/placebycode_index.htm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konyvtar.hu/tudakozo/bongeszo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andy.hu/konyvtar/kvt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4. márc. 1. előtt: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Országos Egészségügyi Információs Intézet és Könyvt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rszágos hatókörű szakkönyvtá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Bibliográf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előhelyjegyzék az orvosi könyvtárakró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folyóiratok hivatalos címrövidíté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ülöngyűjtemény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WHO külön-gyűjtem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urópai uniós külön-gyűjtemé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ővér folyóirat archívu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76 folyóiratot járat jelenl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eski.hu/new3/konyvtar/konyvtar.p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516720" y="3933720"/>
            <a:ext cx="19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GYEMSZI-IRF  f&amp;odblac;oldal"/>
          <p:cNvPicPr/>
          <p:nvPr/>
        </p:nvPicPr>
        <p:blipFill>
          <a:blip r:embed="rId2"/>
          <a:stretch/>
        </p:blipFill>
        <p:spPr>
          <a:xfrm>
            <a:off x="250920" y="0"/>
            <a:ext cx="856908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ációs igény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k a felhasználó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tató orvo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akorló orvos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egek, paciens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szakszemély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gató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rdeklődő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Fő céljuk: oktatás – kutatás – gyógyítás támogatá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Debreceni Egyetem Orvos- és Egészségtudományi Cen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ttp://kenezy.lib.unideb.hu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Kenézy Élettudományi Könyvtá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300 ezer dokument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Kenézy Orvostudományi Könyvtár, Kémiai Szakkönyvtár, Nemzeti Gyűjtemény biológiai, kémiai, orvostudományi vonatkozású dokumentu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Debreceni Egyetem elektronikus Archívuma (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- Debreceni Egyetem Publikációs adatbázi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171288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40360" y="1988640"/>
            <a:ext cx="45748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Pécsi Tudományegyetem Általános Orvostudományi K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aok.pte.hu/index.php?page=egyseg&amp;egy_id=900&amp;nyelv=hun&amp;egy=9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Pekár Mihály Orvosi és Élettudományi Szakkönyvt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PTE Orvosi- és Egészségtudományi Centrum (PTE OEC – ÁOK+ET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22 ezer köt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linkgyűjtemény: http://www.lib.pte.hu/main.php?menu=library&amp;article=konyvtarrol/konyvtaraink/oec/oec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2249280" cy="22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00360" y="2060640"/>
            <a:ext cx="4214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emmelweis Orvostudományi Egye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lib.sote.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270 ezer kötet, 584 folyóirat (467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Orvosi Folyóiratok Szerzői Utasítás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Orvosi Képek, Orvosi Szótárak link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198108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magy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egedi Tudományegyetem Általános Orvostudományi K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2.bibl.u-szeged.h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saját oldala nin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1, 2 millió könyv, 250 ezer folyóirat, 130 ezer egyéb dokumen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Contenta: Szegedi Egyetem repozitóriu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3002040" cy="30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z egyetemi/főiskolai orvosi könyvtárak - külföl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he University of Iowa – gyűjtemén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lib.uiowa.edu/hardin/hslibs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United States National Library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nlm.nih.gov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University of Ox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ww.bodleian.ox.ac.uk/medic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John Hopkins Un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://webapps.jhu.edu/jhuniverse/librarie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Countway Library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ttps://www.countway.harvard.edu/index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es területek könyvtár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http://konyvtar.hu/tudakozo/bongesz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Orvostörténeti Múzeum, Könyvtár és Levéltár: http://www.semmelweis.museum.h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rszágos Onkológiai Intéz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honcology.hu/portal/page/portal/OOI/MEDICAL_ATTENDANCE/medical_departments/MD_3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Egyetem Magatartástudományi Intéz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agtud.hu/int/konyvtar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órházi, klinikai könyvtár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Jósa András Oktatókórház Nonprofit K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josa.hu/konyvtar/informaciok/gyjtemenyuen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Zala Megyei Kórház Egészségügyi Szak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zmkok.hu/emagyarorszag.hu/object.E73D74EE-8E77-4158-806F-3B183E60FAB6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emmelweis Egyetem I.sz. Sebészeti Klinika Orvostudományi Szak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seb1.sote.hu/lib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átészalkai Területi Kórház Nonprofit Kf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szalkakorhaz.hu/egyeb_szolgaltatas_konyvtar.p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eim Pál Gyermekkórház könyvtá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heimpalkorhaz.hu/index.php?menu=1&amp;tab=rovat_al&amp;id=44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esületek, szerveze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Könyvtárosok Szövetsége (MOKS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lib.sote.hu/moksz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agyar Orvosi Kamara (MOK) - linkgyűjtem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ok.hu/dokilink.asp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edical Library Association (M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ttp://www.mlanet.org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5473440" cy="60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1876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National Library of Medicine (NLM) legfőbb adatbáz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öbb mint 19 millió folyóiratcikk adat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1946-tól tartalmaz tétele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5600 folyóirat, 39 nyel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aponta 2-4 ezer tétellel, évente kb. 700 ezer té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atikai lefedettsé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észségügy, orvostudomá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ó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é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Élettudomány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ta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inikai gyakor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ációforrás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gyományos dokument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könyv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zikönyv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yóira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nikus forrás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t szolgáltató intézmény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linePlus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észségügyi információk a paciensek igényeihez igazí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olgáltatja a Medline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ozzáférés teljes szövegekh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artalmazza a feldolgozás alatt álló tételeket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Medline-hoz képest több folyóirat cikkét feldolgo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dical Subject Headings (MES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Orvosi tezauru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etűrendes és hierarchikus elrendez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26.853 deszkri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Összesen 213.000 fogal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nősítők (subhead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úlyoz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át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Medline az eredeti cikk angol nyelvű referátumait emeli be az adatbázisba. Ha nincs ilyen, nem készül új referát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izonyos esetekben 250 ill. 400 szónál elvágják a referátum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trukturált referátumok: háttér, célok, módszerek, eredmény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ézikönyvek, szótárak, atlasz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old, Gerd: Belgyógyászat - Orvosoknak – medikusoknak. Budapest: Medicina Kiadó, 200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19520" y="1600200"/>
            <a:ext cx="49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-tól Németországban év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országon 2000-ben előszö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ben hatodik kiadás, először a Medicina kiadó ál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ényegre törő, megfelelően tagolt, a legkorszerűbb ismereteket tartalmazó kéziköny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dennapos praktizálásban is nagy segítségre leh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Kép 4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03372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nya László (szerk.): Betegség enciklopédia I-II. Budapest: Springer Tudományos Kft, 20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1483920"/>
            <a:ext cx="49687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iadvány nem kíván versenyezni a több ezer oldalas kiadványokkal, ennek szellemében áttekinthető ismereteket kínál pazar felépítéssel használói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átránya, hogy nem minden szerepel a nyomtat verzióban: irodalmi hivatkozások, képek, táblázatok, s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pringer társkiadója a www.vitalitas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Betegség enciklopédia 1-2."/>
          <p:cNvPicPr/>
          <p:nvPr/>
        </p:nvPicPr>
        <p:blipFill>
          <a:blip r:embed="rId1"/>
          <a:stretch/>
        </p:blipFill>
        <p:spPr>
          <a:xfrm>
            <a:off x="324000" y="1628640"/>
            <a:ext cx="302580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33:30Z</dcterms:created>
  <dc:creator>Kozma Zsófia</dc:creator>
  <dc:description/>
  <dc:language>en-US</dc:language>
  <cp:lastModifiedBy>vkati</cp:lastModifiedBy>
  <dcterms:modified xsi:type="dcterms:W3CDTF">2013-04-11T08:19:55Z</dcterms:modified>
  <cp:revision>143</cp:revision>
  <dc:subject/>
  <dc:title>Orvostudományi szakfolyóiratok</dc:title>
</cp:coreProperties>
</file>