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365C-553B-4AB9-B2BA-B3F26D3D2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F853-705F-4E5D-8EA3-13436B0E2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024FF4E-AFEA-4366-B1EF-FAD596936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B79CD59-99E7-47BD-9B8C-381544DCB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9E9C515-F6A5-4070-9A2A-914DA965B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D633C03-74C0-4B3E-BBCF-E7FA56A4F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B06047A-77A7-49C9-A1E6-BCE6BF16F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ECFA68D-607A-4C4B-BB3A-798846584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98DD7A3-1E7D-49C6-B460-A5FA03B0E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BCD12E4-F0C0-4F51-B3CA-FB349B15D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50FED00-8E75-4296-B814-6F2466EAD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16E0BF-87ED-464F-AF73-747C136A1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9406-08D8-4CE8-BF65-B0E26DDA6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A475DD-B0A8-4C6A-9CB9-1E6BCFC31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4FDF3D-B996-4B5D-B0AE-798823FCF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F3F855-81FC-438A-A6E6-938C41A9B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9C86BD-82EA-4E60-8A73-5A3110500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FDC64C-4E7D-42F3-8E67-7A9604869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05F1F3-0670-4C59-8281-820E20A50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38D0FA-410F-4985-A6D3-181FF743D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1024A3-BC1A-4470-91AE-7D48A2BCA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115013-23C2-4579-8F67-D47CCFCFE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08E223-6E0B-4E93-BFA5-5C01C0D54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F658-F4A0-4B9F-B04B-FF9D2FF76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876C6E-62B5-4A9A-9CF6-11A116A31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370D91-3459-4347-B839-339A49731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073793-1850-4972-A346-BB8B3E970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C7E4B9-2077-43B1-8194-6298E9897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89846B-E40C-427F-BE45-52CAC22B3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7C3907-8A5B-409A-AF3D-405ED1592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063039-B52A-469C-BE33-41F4F1849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D10ACF-600E-4E4D-95A9-49FD5E070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94A61A-AB53-4737-8E97-910735050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AF1D54-22C4-43E0-A01D-5E09B7E4D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2F7715-D7A4-44E3-A9F2-83A17E52D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EC475E-02D9-4603-9DCB-E5CE368A0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C0A2C5-1D81-4172-899D-2ACD68B5A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940872-CC14-4967-A704-9F8883C4B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2BD989-7158-4919-86B5-0C4A3D7B1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D77125-2226-49DA-BDC8-FF3C773F6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490BD7-9EB3-4540-A03E-209DE1B9A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ADC09C-96EC-4D10-A371-F3586A178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CCFE48-C523-459E-BE0B-4B4895395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C8E98E-C33E-4979-A719-AA1692785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0167B2-4FBE-430B-A56E-8E18BC442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516A2A-0FC3-4D1B-8ECA-3FBD3C3E8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64D8E4-B790-48FE-A4B0-01AAC5A8F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7ED5C9-B5BE-400C-9F57-D560E9ABD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C697BF-5A66-44E3-AEFD-1D1E69FE7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9AE835-A7CD-4390-B93E-C4519EEAB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1DD856-5151-4FF6-AE7D-B3FE9BCFB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6C649B-C58E-42C5-88A6-FDAEE06AF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AD768B-A668-48AF-BA17-8A423BFBE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633EE5-8C40-46C2-A32C-C0E61DCBA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A550E4-1ECD-4611-9BBF-12F9BB8DC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F5A4F2-2595-4D6F-87F1-82F8B74C4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37D0-8719-4A95-856F-9B5561044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479134-F84C-4D4E-813F-5F89026D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D9426E-F48E-465A-B9DD-6C61A24C9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FA012F-B2DB-4747-85A3-2005CDEDA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06A60C-9F4D-43B7-B94D-86183AC95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6955FA-6AAC-4C4A-9982-8C17DE7D4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9B72E2-AF68-4A8A-9331-73E8C9F36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51DFEA-D1E6-47A4-B48A-ACE575502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51A374-88D9-42F3-9586-3D2FAC8CC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8E4362-3268-4CF2-A6FE-D6DF8A637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C3E916-6D38-417A-9A28-B5292CFB9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D529-7749-486F-BE64-652A67ACF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D2B79D-0EF3-4A33-BB13-5E655D239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9580BC-C036-404D-AD70-8F947735A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20E8C2-E31E-43D2-8670-AAF7464F1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365EA4-CEBB-4CB2-9222-D3F57C4CF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9DA353-EADF-4387-98CE-150FCC563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5ECFA0-FD25-4840-A91A-5247115F5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BDD0CE-9487-475F-B8CD-7E7A5FD0C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34A397-FEF8-4951-AB8A-0A5817164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7254E5-97C1-4BB4-8464-D8E6E8680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8A972E-3B81-4A71-B4F4-3BC8818AE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F3DF-D66E-4DB1-8EA5-E87A195FB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9A67F7-932E-4396-958F-F9D98C02E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78BE55-5D2A-4AAB-B172-9BF1A9AB0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EB4440-63C8-4C94-AA16-B23FF2B7C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5646EB-4F7A-4580-B944-8AD93D36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6E1F48-35D5-4C5B-A260-DC774F9CB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1C3D0B-B770-4F30-BF94-D292C3F9E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CF05DA-0654-44D6-AAAF-FDA5D5E72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878FCA-47BA-47DB-AB9A-C3C17AD99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FA6113-3CB3-437A-BFB8-C5F67EC3D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D8CBC6-4869-4593-A38C-958C2C7AA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A029-E5C4-4C4B-8570-38CB1B808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C90D44-2972-433D-982A-8983B8FE5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96B792-1E97-476F-80D6-625D65DC4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E20454-8C28-4C89-B364-463C4879A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B18020-107A-4EC9-92CD-4A7943009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43ECB4-CAD1-4EFE-9C63-513B64F6B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2567A4-6BD9-4B9C-9CD4-84876320E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6935A5-F5AE-4EEF-9A81-8A135F9F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19386D-A433-4638-A8DC-2879C4776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AD428B-804D-4BFA-B247-2DA6D82A0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494E65-7D10-4C59-9276-29F6DAB29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7FAD-EABF-4746-8FF7-CA150C72B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BD9069-C6CA-45E0-AA08-C52FBC0FA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6BAB82-E555-4B9E-8CB9-40F2249B6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CB35D0-619D-4EE6-8E86-E0F9AF11A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2BE7B0-B5B5-457A-AFA6-DD96402A6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0DBF1A-CF7A-4BC8-967D-91C1850DF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89A3DA-0465-4799-BF7B-443EA98F9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0FD528-F4CF-4248-A665-4295F2AA7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B7603E-7364-44FE-B21F-09BD33CE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166405-F8FE-43F3-9674-D3BEBE374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49FF16-540C-4C2B-AEBA-425A0738C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E27C-7C14-4C14-8B3A-03D245311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426722-AF73-478A-B422-0E4250040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97F01C-0108-4084-A7EE-F69AB0974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6F90E0-A690-4B30-B1BF-734A7E3D8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44C15C-7278-462D-A92A-EA61BE078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5D1D34-375A-4664-82C4-A2A4151E5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9A1A54-C3A1-46C4-BAB2-A6C9012AE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C829B1-7035-4D86-9D32-CABE6E904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3520BD-8F2D-4A79-B55E-D0B4FD1DC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CE0820-0DC1-4591-9076-54428622C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1E9676-B3F1-439D-810A-9AEC60DD0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8FD0-D996-43E5-A292-EDF2AF4D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DFB77B-0459-4BB6-B811-FB82FC397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D4FA14-7702-4FF9-A42A-A25E6902A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E17DA7-3A71-48D0-B2B0-46F51966E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61A3DB-CDB7-45EB-8407-7AD8E1A15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1D48AE-30A3-40C9-8847-1C3EE2C12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AC52A83-6EA5-4509-BF19-FD15BACAD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9396B28-F95D-49F4-8982-64697BDF3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9610D59-4912-491C-A0FC-F56E5FA86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488AC08-DD07-46D2-A410-E2B987E65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90922BB-DA20-4A18-AE7C-AF73737C8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FA01-7FA1-4DCD-9FB1-28966D7CD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0430D3B-A869-46BF-907A-56109B86C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306BE5B-AAA0-4DF5-8523-0C631C941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7CE6274-4C93-46B9-BFE2-A6425C9C2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D06D80C-21D2-48EF-B632-A015C9F4C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EE26124-2577-4D9D-BBFC-6190DE0A2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51FB33C-874F-40DF-8637-A24DC5720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FCE1AC1-CA84-463F-B1BB-FA364C59F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D46795C-BC3C-49C8-B85C-8FA290701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721F070-17F0-4E71-8175-90D449EE0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58B8138-61B3-4616-92B3-BA89CCD1F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689040" indent="-1731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A4F10-D075-4C39-AAAA-FB071F3F2EE6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689040" indent="-1731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28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ftr" idx="29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sldNum" idx="30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40E70-75DC-4381-A704-BA4479319FA8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689040" indent="-1731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dt" idx="31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ftr" idx="32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 type="sldNum" idx="33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93DB8-49B9-4C97-9DD0-EC2DDD6711B9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689040" indent="-1731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55580-89AB-44ED-81E1-A44C99229611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689040" indent="-1731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9A5CB-1425-4C7A-BCCC-92BDB17EE88D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6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12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solidFill>
            <a:srgbClr val="83899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Straight Connector 17"/>
          <p:cNvSpPr/>
          <p:nvPr/>
        </p:nvSpPr>
        <p:spPr>
          <a:xfrm>
            <a:off x="-4680" y="1828800"/>
            <a:ext cx="9144000" cy="14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689040" indent="-1731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8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400B2-ECF7-41B0-80E5-3040E90AA390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9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689040" indent="-1731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sldNum" idx="11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FA488-6445-457E-A985-829688792E38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ftr" idx="12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689040" indent="-1731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762FF-484E-4D5D-8AED-2598704ABBD5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689040" indent="-1731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6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sldNum" idx="17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03135-7EBF-46EA-95C0-49E94F095B41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18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689040" indent="-1731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9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sldNum" idx="20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57F88-912E-4753-9770-B9A1703FCECE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ftr" idx="21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Rectangle 13"/>
          <p:cNvSpPr/>
          <p:nvPr/>
        </p:nvSpPr>
        <p:spPr>
          <a:xfrm>
            <a:off x="0" y="5734080"/>
            <a:ext cx="9144000" cy="1123920"/>
          </a:xfrm>
          <a:prstGeom prst="rect">
            <a:avLst/>
          </a:prstGeom>
          <a:solidFill>
            <a:srgbClr val="83899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Straight Connector 21"/>
          <p:cNvSpPr/>
          <p:nvPr/>
        </p:nvSpPr>
        <p:spPr>
          <a:xfrm>
            <a:off x="0" y="5695920"/>
            <a:ext cx="9144000" cy="14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689040" indent="-1731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22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sldNum" idx="23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BDA71-B44F-44D8-AF2D-6467659B6044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ftr" idx="24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Rectangle 10"/>
          <p:cNvSpPr/>
          <p:nvPr/>
        </p:nvSpPr>
        <p:spPr>
          <a:xfrm>
            <a:off x="0" y="5734080"/>
            <a:ext cx="9144000" cy="1123920"/>
          </a:xfrm>
          <a:prstGeom prst="rect">
            <a:avLst/>
          </a:prstGeom>
          <a:solidFill>
            <a:srgbClr val="83899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Straight Connector 11"/>
          <p:cNvSpPr/>
          <p:nvPr/>
        </p:nvSpPr>
        <p:spPr>
          <a:xfrm>
            <a:off x="0" y="5695920"/>
            <a:ext cx="9144000" cy="14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689040" indent="-1731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sldNum" idx="26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A1CD0-B978-4B37-9F9C-03FBEB822B8C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ftr" idx="27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7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7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cimagojr.com/" TargetMode="External"/><Relationship Id="rId3" Type="http://schemas.openxmlformats.org/officeDocument/2006/relationships/hyperlink" Target="http://www.eigenfactor.org/" TargetMode="Externa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685440" y="1828800"/>
            <a:ext cx="8077320" cy="196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TUDOMÁNYMETRIA </a:t>
            </a:r>
            <a:br>
              <a:rPr sz="4400"/>
            </a:b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BIBLIOMETRIA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09" name="Rectangle 2" descr=""/>
          <p:cNvPicPr/>
          <p:nvPr/>
        </p:nvPicPr>
        <p:blipFill>
          <a:blip r:embed="rId2"/>
          <a:stretch/>
        </p:blipFill>
        <p:spPr>
          <a:xfrm>
            <a:off x="317520" y="542880"/>
            <a:ext cx="8150040" cy="3065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 txBox="1"/>
          <p:nvPr/>
        </p:nvSpPr>
        <p:spPr>
          <a:xfrm>
            <a:off x="250560" y="1341000"/>
            <a:ext cx="84358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Formális csatornák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662040" indent="-285840">
              <a:lnSpc>
                <a:spcPct val="100000"/>
              </a:lnSpc>
              <a:spcBef>
                <a:spcPts val="374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szakkönyvek,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662040" indent="-285840">
              <a:lnSpc>
                <a:spcPct val="100000"/>
              </a:lnSpc>
              <a:spcBef>
                <a:spcPts val="374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tudományos folyóiratok,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662040" indent="-285840">
              <a:lnSpc>
                <a:spcPct val="100000"/>
              </a:lnSpc>
              <a:spcBef>
                <a:spcPts val="374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különlenyomatok. 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838995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Informális csatornák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662040" indent="-285840">
              <a:lnSpc>
                <a:spcPct val="100000"/>
              </a:lnSpc>
              <a:spcBef>
                <a:spcPts val="374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tudományos összejövetelek előadásai (kb. 65%-uk jelenik meg írásban is),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662040" indent="-285840">
              <a:lnSpc>
                <a:spcPct val="100000"/>
              </a:lnSpc>
              <a:spcBef>
                <a:spcPts val="374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jelentések (reportok),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662040" indent="-285840">
              <a:lnSpc>
                <a:spcPct val="100000"/>
              </a:lnSpc>
              <a:spcBef>
                <a:spcPts val="374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értekezések, disszertációk,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662040" indent="-285840">
              <a:lnSpc>
                <a:spcPct val="100000"/>
              </a:lnSpc>
              <a:spcBef>
                <a:spcPts val="374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preprintek,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662040" indent="-285840">
              <a:lnSpc>
                <a:spcPct val="100000"/>
              </a:lnSpc>
              <a:spcBef>
                <a:spcPts val="374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konferencia anyagok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A publikált 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eredmények  90%-át</a:t>
            </a: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 a formális kommunikálás előtt 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informális csatornákon</a:t>
            </a: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 teszik közzé.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Corbel"/>
              </a:rPr>
              <a:t>  </a:t>
            </a: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tudományos kommunikáció eszközei és fejlődésük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Dátum helye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Dia számának helye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BF74B-8DEF-402B-8361-AE846218FAFB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udomány és az információ viselkedése, mérési módszerei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57200" indent="-457200">
              <a:lnSpc>
                <a:spcPct val="7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udomány fő terméke a tudományos információ, amely a tudományos szakirodalomban ölt testet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57200"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57200" indent="-457200">
              <a:lnSpc>
                <a:spcPct val="7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udomány információból információt állít elő, azaz inputja is, outputja is a tudományos információ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57200"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57200" indent="-457200">
              <a:lnSpc>
                <a:spcPct val="7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zakirodalom teszi folyamattá a tudományt, biztosítja az előrehaladást, a tévedések kiküszöbölését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57200"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57200" indent="-457200">
              <a:lnSpc>
                <a:spcPct val="7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udomány mérhető, mégpedig a szakirodalmon keresztül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Dia számának helye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5970E-BB7D-4477-97B9-AC4E92CAB67B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kálj vagy pusztulj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7174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közlés már nem eszköz, hanem cél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ublikáció a tudós számára a fennmaradás eszköze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ublikációk révén válik lehetővé a láthatatlan kollégiumok kialakulása és fennmaradása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áthatatlan kollégium: az azonos témában dolgozó tudósok közössége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684360" y="1267920"/>
            <a:ext cx="76802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10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tagjai kommunikációs hálózatot alkotnak,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325800" indent="-325800" algn="just">
              <a:lnSpc>
                <a:spcPct val="10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a kutatási eredmények – publikálásukat megelőzve – kéziratok, preprintek formájában eljutnak a közösség tagjaihoz,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325800" indent="-325800" algn="just">
              <a:lnSpc>
                <a:spcPct val="10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a legtermékenyebb szerzők a kutatócsoportok vezetőivé válnak, így produktivitásuk még inkább nő,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325800" indent="-325800" algn="just">
              <a:lnSpc>
                <a:spcPct val="10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a kollektíva befolyásos tagjai lehetőséget teremtenek arra, hogy kongresszusok, szimpóziumok, stb. alkalmával összejöhessenek,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325800" indent="-325800" algn="just">
              <a:lnSpc>
                <a:spcPct val="10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egymás számára meghívásokat, ösztöndíjakat, stb. eszközölnek ki,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325800" indent="-325800" algn="just">
              <a:lnSpc>
                <a:spcPct val="10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a láthatatlan intézmény tagjai egymással lassan személyes, majd munkakapcsolatba kerülnek az egyenrangúak véleménye alapján, rangot nyernek,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325800" indent="-325800" algn="just">
              <a:lnSpc>
                <a:spcPct val="10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a kooperáció ma egyre inkább nemcsak az egyének, hanem intézményeik, országaik együttműködéseiként jelenik meg, 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325800" indent="-325800" algn="just">
              <a:lnSpc>
                <a:spcPct val="10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a csoporthoz tartozás presztízst jelent.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00000" y="260280"/>
            <a:ext cx="77724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 láthatatlan kollégium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 txBox="1"/>
          <p:nvPr/>
        </p:nvSpPr>
        <p:spPr>
          <a:xfrm>
            <a:off x="324000" y="1599840"/>
            <a:ext cx="8362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60000"/>
              </a:lnSpc>
              <a:spcBef>
                <a:spcPts val="575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Egy tudományos publikáció hivatkozásain a lábjegyzet és irodalomjegyzék formájában közölt formális utalásokat értjük, amelyek segítségével egy tudományos eredmény előzményeit ismerhetjük meg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 algn="just">
              <a:lnSpc>
                <a:spcPct val="160000"/>
              </a:lnSpc>
              <a:spcBef>
                <a:spcPts val="575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Egy publikációra vonatkozó hivatkozások más publikációknak a szóban forgó munkára való hivatkozásai, amelyek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révén annak tudományos hatását (impaktját) ismerhetjük meg.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 algn="just">
              <a:lnSpc>
                <a:spcPct val="70000"/>
              </a:lnSpc>
              <a:spcBef>
                <a:spcPts val="575"/>
              </a:spcBef>
              <a:buClr>
                <a:srgbClr val="838995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 tudományos hivatkozások indexrendszere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 txBox="1"/>
          <p:nvPr/>
        </p:nvSpPr>
        <p:spPr>
          <a:xfrm>
            <a:off x="352440" y="1267920"/>
            <a:ext cx="82519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 algn="just">
              <a:lnSpc>
                <a:spcPct val="130000"/>
              </a:lnSpc>
              <a:spcBef>
                <a:spcPts val="575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ffffff"/>
                </a:solidFill>
                <a:latin typeface="Times New Roman"/>
              </a:rPr>
              <a:t>1873-tól – Shepard’s Citation - jogi döntésekben nyújt segítséget,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 algn="just">
              <a:lnSpc>
                <a:spcPct val="130000"/>
              </a:lnSpc>
              <a:spcBef>
                <a:spcPts val="575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ffffff"/>
                </a:solidFill>
                <a:latin typeface="Times New Roman"/>
              </a:rPr>
              <a:t>1952-ben – Ch. Leake az orvosi irodalom indexelése,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 algn="just">
              <a:lnSpc>
                <a:spcPct val="130000"/>
              </a:lnSpc>
              <a:spcBef>
                <a:spcPts val="575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ffffff"/>
                </a:solidFill>
                <a:latin typeface="Times New Roman"/>
              </a:rPr>
              <a:t>1955. – Eugene Garfield Associates tanácsadó iroda 2 gyógyszergyár 5000 szabadalmát dolgozta fel, és mintegy 30.000 hivatkozást tartalmazott,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 algn="just">
              <a:lnSpc>
                <a:spcPct val="130000"/>
              </a:lnSpc>
              <a:spcBef>
                <a:spcPts val="575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ffffff"/>
                </a:solidFill>
                <a:latin typeface="Times New Roman"/>
              </a:rPr>
              <a:t>1959 – Journal of the American Statistical Association – kumulált hivatkozási index, 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 algn="just">
              <a:lnSpc>
                <a:spcPct val="130000"/>
              </a:lnSpc>
              <a:spcBef>
                <a:spcPts val="575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ffffff"/>
                </a:solidFill>
                <a:latin typeface="Times New Roman"/>
              </a:rPr>
              <a:t>példáját követte az Annals of Mathematical Statistics,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 algn="just">
              <a:lnSpc>
                <a:spcPct val="130000"/>
              </a:lnSpc>
              <a:spcBef>
                <a:spcPts val="575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ffffff"/>
                </a:solidFill>
                <a:latin typeface="Times New Roman"/>
              </a:rPr>
              <a:t>1963-tól – </a:t>
            </a:r>
            <a:r>
              <a:rPr b="1" lang="hu-HU" sz="1900" spc="-1" strike="noStrike">
                <a:solidFill>
                  <a:srgbClr val="ffffff"/>
                </a:solidFill>
                <a:latin typeface="Times New Roman"/>
              </a:rPr>
              <a:t>Science Citation Index –</a:t>
            </a:r>
            <a:r>
              <a:rPr b="0" lang="hu-HU" sz="1900" spc="-1" strike="noStrike">
                <a:solidFill>
                  <a:srgbClr val="ffffff"/>
                </a:solidFill>
                <a:latin typeface="Times New Roman"/>
              </a:rPr>
              <a:t> 613 folyóirat 1961-ben megjelent cikkeit tartalmazta, és ezek 1,4 millió idézetét – ezek 1%-át, amelyeknek valami közük volt a genetikához, számítógép segítségével válogatták le, és külön publikálták Genetcs Citation Index címmel, 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lnSpc>
                <a:spcPct val="130000"/>
              </a:lnSpc>
              <a:spcBef>
                <a:spcPts val="575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ffffff"/>
                </a:solidFill>
                <a:latin typeface="Times New Roman"/>
              </a:rPr>
              <a:t>Az SCI egyre bővítette indexei számát. 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 hivatkozási indexek történeti áttekintése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539640" y="907920"/>
            <a:ext cx="82296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6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orbel"/>
            </a:endParaRPr>
          </a:p>
          <a:p>
            <a:pPr algn="just">
              <a:lnSpc>
                <a:spcPct val="14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A  számítógéppel  összeállított,  szakirodalmi  keresésre  szolgáló  indexek rendszerében 4, önállóan használható és egymással kombinálható keresési mód áll rendelkezésre: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algn="just">
              <a:lnSpc>
                <a:spcPct val="14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1. A </a:t>
            </a:r>
            <a:r>
              <a:rPr b="1" lang="hu-HU" sz="1800" spc="-1" strike="noStrike">
                <a:solidFill>
                  <a:srgbClr val="ffffff"/>
                </a:solidFill>
                <a:latin typeface="Times New Roman"/>
              </a:rPr>
              <a:t>szerzői</a:t>
            </a: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1800" spc="-1" strike="noStrike">
                <a:solidFill>
                  <a:srgbClr val="ffffff"/>
                </a:solidFill>
                <a:latin typeface="Times New Roman"/>
              </a:rPr>
              <a:t>vagy forrás index</a:t>
            </a: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 az első szerző nevének ABC sorrendjében rendszerezve tartalmazza a tárgyidőszakban megjelent mű címét, bibliográfiai adatait és az első szerző munkahelyét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algn="just">
              <a:lnSpc>
                <a:spcPct val="14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2. Az </a:t>
            </a:r>
            <a:r>
              <a:rPr b="1" lang="hu-HU" sz="1800" spc="-1" strike="noStrike">
                <a:solidFill>
                  <a:srgbClr val="ffffff"/>
                </a:solidFill>
                <a:latin typeface="Times New Roman"/>
              </a:rPr>
              <a:t>idézési index</a:t>
            </a: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 az idézett művek első szerzőinek ABC sorrendjébe rendezve sorolja fel a tárgyidőszakban megjelent mindazon közleményeket, amelyekben a nevezett műre hivatkoznak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algn="just">
              <a:lnSpc>
                <a:spcPct val="14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3. A </a:t>
            </a:r>
            <a:r>
              <a:rPr b="1" lang="hu-HU" sz="1800" spc="-1" strike="noStrike">
                <a:solidFill>
                  <a:srgbClr val="ffffff"/>
                </a:solidFill>
                <a:latin typeface="Times New Roman"/>
              </a:rPr>
              <a:t>permutált subject index</a:t>
            </a: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, a közlemények </a:t>
            </a:r>
            <a:r>
              <a:rPr b="1" lang="hu-HU" sz="1800" spc="-1" strike="noStrike">
                <a:solidFill>
                  <a:srgbClr val="ffffff"/>
                </a:solidFill>
                <a:latin typeface="Times New Roman"/>
              </a:rPr>
              <a:t>címszavainak</a:t>
            </a: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 párosítása az első szó ABC rendjében. Pl. egy dolgozat, amelynek címe 8 információt hordozó szóból áll, 8x7=56 helyen lesz fellelhető a PSI-ben.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algn="just">
              <a:lnSpc>
                <a:spcPct val="14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4. A </a:t>
            </a:r>
            <a:r>
              <a:rPr b="1" lang="hu-HU" sz="1800" spc="-1" strike="noStrike">
                <a:solidFill>
                  <a:srgbClr val="ffffff"/>
                </a:solidFill>
                <a:latin typeface="Times New Roman"/>
              </a:rPr>
              <a:t>munkahely index</a:t>
            </a: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 az intézmények nevének ABC sorrendjében.</a:t>
            </a:r>
            <a:r>
              <a:rPr b="0" lang="hu-HU" sz="18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 tudományos hivatkozások indexrendszere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 txBox="1"/>
          <p:nvPr/>
        </p:nvSpPr>
        <p:spPr>
          <a:xfrm>
            <a:off x="352440" y="1463760"/>
            <a:ext cx="8251920" cy="53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zakirodalmi információs keresési igények kielégítésére,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 algn="just">
              <a:lnSpc>
                <a:spcPct val="13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zerzők, cikkek és folyóiratok közötti idézési gyakoriságra,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 algn="just">
              <a:lnSpc>
                <a:spcPct val="13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dott szerzők, cikkek és folyóiratok közötti idézeti kapcsolatokra,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 algn="just">
              <a:lnSpc>
                <a:spcPct val="13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gyének, intézmények, országok, folyóiratok, tudományterületek, szakterületek és témák idézettségének vizsgálatával jelentőségük, hatásuk, használhatóságuk, eredményességük mérésére,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 algn="just">
              <a:lnSpc>
                <a:spcPct val="13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udományszociológiai és tudománytörténeti vizsgálatokra, 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 algn="just">
              <a:lnSpc>
                <a:spcPct val="13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ioritási kérdések eldöntésére,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 algn="just">
              <a:lnSpc>
                <a:spcPct val="13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olyóiratok és tudományterületek kölcsönhatásának megítélésére,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 algn="just">
              <a:lnSpc>
                <a:spcPct val="13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eghatározhatók a legintenzívebben művelt tudományterületek, az ún. forró pontok és a legjelentősebb publikációk. 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71640" y="189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 tudományos idézetek indexrendszerének alkalmazása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 txBox="1"/>
          <p:nvPr/>
        </p:nvSpPr>
        <p:spPr>
          <a:xfrm>
            <a:off x="456840" y="1341000"/>
            <a:ext cx="84358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6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z átlagos kutatói létszám,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lnSpc>
                <a:spcPct val="6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 tudományos fokozattal rendelkező kutatók átlagos száma,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lnSpc>
                <a:spcPct val="6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 publikációk száma,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lnSpc>
                <a:spcPct val="6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 tudományos fokozattal rendelkező kutatók aránya,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lnSpc>
                <a:spcPct val="6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 publikáló kutatók aránya (évi átlag),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lnSpc>
                <a:spcPct val="6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 folyóiratcikkek aránya,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lnSpc>
                <a:spcPct val="6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kooperativitás,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lnSpc>
                <a:spcPct val="6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átlagos idézettség,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lnSpc>
                <a:spcPct val="6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z idézetlen publikációk száma,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lnSpc>
                <a:spcPct val="6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z idézetlen publikációk aránya,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lnSpc>
                <a:spcPct val="6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 sokat idézett publikációk száma,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lnSpc>
                <a:spcPct val="6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 sokat idézett publikációk aránya,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lnSpc>
                <a:spcPct val="6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 kapott idézetek száma,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lnSpc>
                <a:spcPct val="6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z idézetek várható száma,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lnSpc>
                <a:spcPct val="6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átlagos várható idézettség,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lnSpc>
                <a:spcPct val="6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elatív idézettség.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lnSpc>
                <a:spcPct val="6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00000" y="260280"/>
            <a:ext cx="7772400" cy="109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 publikációs tevékenység jellemzésére használható mutatószámok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179280" y="1268280"/>
            <a:ext cx="85075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4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Times New Roman"/>
              </a:rPr>
              <a:t>A  megjelenő  tudományos  publikációk  25%-át  egyáltalán  nem  idézik, az idézett cikkek átlagos évi  idézettsége  is  csak  1,7.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algn="just">
              <a:lnSpc>
                <a:spcPct val="7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ffffff"/>
                </a:solidFill>
                <a:latin typeface="Times New Roman"/>
              </a:rPr>
              <a:t>Ellenvetések: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 algn="just">
              <a:lnSpc>
                <a:spcPct val="14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Times New Roman"/>
              </a:rPr>
              <a:t>Az alacsony színvonalú munka olykor több hivatkozással rendelkezik.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 algn="just">
              <a:lnSpc>
                <a:spcPct val="14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Times New Roman"/>
              </a:rPr>
              <a:t>Az önhivatkozások száma kb. 10%.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 algn="just">
              <a:lnSpc>
                <a:spcPct val="14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Times New Roman"/>
              </a:rPr>
              <a:t>speciális jellegű cikkek, módszertani cikkek - a világirodalom eddig legtöbbet idézett cikkét O. H. Lowry írta, melyben egy új fehérje-meghatározó módszert közölt 1951-ben - ezt a cikket 1961 és 1975 között 50000-szer idézték, ez a szám több mint ötszöröse a második legtöbbet idézett cikkeknek, 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 algn="just">
              <a:lnSpc>
                <a:spcPct val="14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Times New Roman"/>
              </a:rPr>
              <a:t>mérföldkövet jelentenek a tudomány fejlődésében,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 algn="just">
              <a:lnSpc>
                <a:spcPct val="14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Times New Roman"/>
              </a:rPr>
              <a:t>a szakterületi eltérések miatt nehéz egy egyetem intézeteinek összevetése,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 algn="just">
              <a:lnSpc>
                <a:spcPct val="14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Times New Roman"/>
              </a:rPr>
              <a:t>reálisan csak azonos szakterületen és/vagy azonos intézeten belül dolgozó kutatók összehasonlításának van reális alapja, és lehet objektív az értékelés.</a:t>
            </a: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772400" cy="87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ivatkozáselemzés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tantárgy célja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7680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A modern információs szakemberek számára elengedhetetlen, hogy magas szinten ismerjék és alkalmazni tudják a mennyiségi és minőségi elemző módszerek széles tárházát, azokat az eljárásokat és törvényeket, amelyek az elmúlt évtizedekben a tudományos folyamatok mérésében a tudománymetria, a publikációk mennyiségi és minőségi vizsgálatában a bibliometria, illetve az elektronikus információk és az adatbázisok értékelésében az informetria területén születtek. A tantárgy célja, hogy megismertesse ezen törvényszerűségek működését, és bevezesse a hallgatókat gyakorlati alkalmazásuk lehetőségeibe. A mennyiségi elemzés alkalmazásában való jártasság egyaránt előfeltétele a könyvtári és tájékoztatási szolgáltatások értékelési kultúrája kialakításának, valamint azon képesség javításának, hogy e szolgáltatások értékét mind a használók, mind a külső támogatók és döntéshozók számára nyilvánvalóvá tegyék.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Dia számának helye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A1A29-F3A7-4DD7-8FF9-37E32AD6FC72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udománymetria - bibliometria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10920" y="1600200"/>
            <a:ext cx="79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udomány maga is lehet vizsgálat tárgya - tudománytan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udománymetria: A tudományokban zajló információs folyamatok mennyiségi (statisztikai) vizsgálata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bliometria: A publikációk mennyiségi viszonyaival foglalkozó tudományág</a:t>
            </a:r>
            <a:r>
              <a:rPr b="0" lang="hu-H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 txBox="1"/>
          <p:nvPr/>
        </p:nvSpPr>
        <p:spPr>
          <a:xfrm>
            <a:off x="925200" y="836280"/>
            <a:ext cx="8218440" cy="54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Times New Roman"/>
              </a:rPr>
              <a:t>Célja a</a:t>
            </a: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1800" spc="-1" strike="noStrike">
                <a:solidFill>
                  <a:srgbClr val="ffffff"/>
                </a:solidFill>
                <a:latin typeface="Times New Roman"/>
              </a:rPr>
              <a:t>termelési ággá vált tudomány termékeinek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lnSpc>
                <a:spcPct val="9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számbavétele,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lnSpc>
                <a:spcPct val="9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kezelése,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lnSpc>
                <a:spcPct val="9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naprakész mérése,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lnSpc>
                <a:spcPct val="9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összehasonlíthatósága az egyes tudományágak, országok, intézetek, kutatási műhelyek, személyek között,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lnSpc>
                <a:spcPct val="9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a tudományra fordított kiadások mérése,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lnSpc>
                <a:spcPct val="9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összehasonlíthatósága az időben, a tudomány fejlődése szempontjából.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Times New Roman"/>
              </a:rPr>
              <a:t>A tudomány mérésének eszközei: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lnSpc>
                <a:spcPct val="9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peer review = szakértői ítélet,</a:t>
            </a: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lnSpc>
                <a:spcPct val="9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katalógusok, bibliográfiák,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lnSpc>
                <a:spcPct val="9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a bibliográfiák új típusa – az SCI (Science Citation Index),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lnSpc>
                <a:spcPct val="9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új technológia – a számítógép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Times New Roman"/>
              </a:rPr>
              <a:t>Alkalmazási területei:</a:t>
            </a: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 könyvtár, tudomány, államvezetés, kutatásirányítás, tudományirányítás, tudománypolitika.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Times New Roman"/>
              </a:rPr>
              <a:t>Terminológiai vita:</a:t>
            </a: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 tudománymetria – bibliometria – infometria – librometria. 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7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7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72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ffff"/>
                </a:solidFill>
                <a:latin typeface="Times New Roman"/>
              </a:rPr>
              <a:t>Tudománymetria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 txBox="1"/>
          <p:nvPr/>
        </p:nvSpPr>
        <p:spPr>
          <a:xfrm>
            <a:off x="250560" y="148428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ációáramlás kvantitatív tanulmányozása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457200" indent="-285840">
              <a:lnSpc>
                <a:spcPct val="10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isztika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457200" indent="-285840">
              <a:lnSpc>
                <a:spcPct val="10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ejlett információkeresé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457200" indent="-285840">
              <a:lnSpc>
                <a:spcPct val="10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atbányászati technikák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457200" indent="-285840">
              <a:lnSpc>
                <a:spcPct val="10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zövegbányász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mzetközi Társasága: 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SI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tional Society for Scientometrics and Informetrics</a:t>
            </a:r>
            <a:r>
              <a:rPr b="0" i="1" lang="hu-H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. 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83 óta működik.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etria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 txBox="1"/>
          <p:nvPr/>
        </p:nvSpPr>
        <p:spPr>
          <a:xfrm>
            <a:off x="250560" y="76500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z információrobbanás ok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lnSpc>
                <a:spcPct val="9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tudományba pumpált pénz,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 algn="just">
              <a:lnSpc>
                <a:spcPct val="9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publikáló tudósok számának növekedése – egy tudósra 0,5-1 folyóiratcikk jut évente,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 algn="just">
              <a:lnSpc>
                <a:spcPct val="9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tudományos támogatást egyre nagyobb mértékben a pályázatokból kapott pénzek fedezik,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 algn="just">
              <a:lnSpc>
                <a:spcPct val="9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tudósok közti konkurencia-harc,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 algn="just">
              <a:lnSpc>
                <a:spcPct val="9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tudósok megítélésében (álláspályázatok, tudományos címek, fokozatok, beosztás, fizetés) kiemelkedő szerepet játszik a közlési aktivitás – 1960-as évektől - jelszó: „publikálj, vagy pusztulj!”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 algn="just">
              <a:lnSpc>
                <a:spcPct val="9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z intézmény (kutatóintézet, egyetem) elvárja, hogy a pénzért eredményt szállítson - az intézményi karrierben, a tudományos támogatásokért folyó versenyben jelentős szerepe van a benyújtott publikációk listájának,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 algn="just">
              <a:lnSpc>
                <a:spcPct val="9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zponzor akkor látja, hogy méltó helyre juttatta a pénzét, ha nevét minél több jeles folyóiratcikk végén említik meg,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 algn="just">
              <a:lnSpc>
                <a:spcPct val="9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ga a tudomány haszonélvezője a publikálás ösztönzésének.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77240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 tudomány növekedése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 txBox="1"/>
          <p:nvPr/>
        </p:nvSpPr>
        <p:spPr>
          <a:xfrm>
            <a:off x="179280" y="981000"/>
            <a:ext cx="86407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Hipotézis</a:t>
            </a: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 (Derek de Solla Price): a tudományos ismeretek növekedése korrelál a publikációk számának a növekedésével. A  folyóiratcikkek számának növekedési ütemét a tudomány mindenkori színvonala határozza meg.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A növekedés néhány mennyiségi jellemzője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 algn="just">
              <a:lnSpc>
                <a:spcPct val="10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exponenciális növekedés 1665 óta,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 algn="just">
              <a:lnSpc>
                <a:spcPct val="10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ma több mint félmillió élő tudományos folyóirat van,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 algn="just">
              <a:lnSpc>
                <a:spcPct val="10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a növekedés kétszereződési ideje 5-15 év tudományterülettől függően,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 algn="just">
              <a:lnSpc>
                <a:spcPct val="10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az elektronikus dokumentumok növekedésének kétszereződési ideje 1-2 év,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 algn="just">
              <a:lnSpc>
                <a:spcPct val="10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a látható web tartalma 2,5 milliárd dokumentum, ami naponta 7,3 millió oldallal bővül (ez napi 0,1 terrabájttal növeli a meglévő 25-50 terrabájtnyi mennyiséget),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 algn="just">
              <a:lnSpc>
                <a:spcPct val="10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a mély web tartalma mintegy 550 milliárd dokumentum, ami újabb napi mintegy 0,1 terrabájttal növeli a mély web mintegy 15 kbájtnyi mennyiségét,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 algn="just">
              <a:lnSpc>
                <a:spcPct val="10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az egyes tudományágak, tudományterületek növekedési üteme eltérő, országonként is.</a:t>
            </a:r>
            <a:r>
              <a:rPr b="0" lang="hu-HU" sz="1600" spc="-1" strike="noStrike">
                <a:solidFill>
                  <a:srgbClr val="ffffff"/>
                </a:solidFill>
                <a:latin typeface="Corbel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147160" cy="119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 tudományos információ növekedésének mérése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 txBox="1"/>
          <p:nvPr/>
        </p:nvSpPr>
        <p:spPr>
          <a:xfrm>
            <a:off x="468360" y="980640"/>
            <a:ext cx="83628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Jellemző:</a:t>
            </a: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a tudomány kortársisága</a:t>
            </a: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 algn="just">
              <a:lnSpc>
                <a:spcPct val="10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egy kutató életében keletkezik az ismeretek 8/9-ed része, azaz 89,5%-a,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 algn="just">
              <a:lnSpc>
                <a:spcPct val="10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minden valaha élt 9 kutató közül 8 kortársunk: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 algn="just">
              <a:lnSpc>
                <a:spcPct val="10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a tudomány növekedésének üteme: T ~ 15 év,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 algn="just">
              <a:lnSpc>
                <a:spcPct val="10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egy kutató aktív életkora: ~ 45 év,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 algn="just">
              <a:lnSpc>
                <a:spcPct val="10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ez ~ 3 kétszerezési idő = a tudományos ismeret 2</a:t>
            </a:r>
            <a:r>
              <a:rPr b="0" lang="hu-HU" sz="2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 = 8-szorosára nő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Times New Roman"/>
              </a:rPr>
              <a:t>A növekedés hatása</a:t>
            </a: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1800" spc="-1" strike="noStrike">
                <a:solidFill>
                  <a:srgbClr val="ffffff"/>
                </a:solidFill>
                <a:latin typeface="Times New Roman"/>
              </a:rPr>
              <a:t>a kutatók információgyűjtési, rendszerezési és feldolgozási szokásaira: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 algn="just">
              <a:lnSpc>
                <a:spcPct val="10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a legfontosabb szakirodalom, a specifikus mag megismerhetősége, továbbadása összefoglaló munkák segítségével történik,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 algn="just">
              <a:lnSpc>
                <a:spcPct val="10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egyre fontosabb a bibliográfiák, szemlék, online információs rendszerek, a gépi szelekciós szakirodalom-figyelés igénybevétele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Fontos a legfrissebb összefoglaló munkák használata, bibliográfiák, szemlék, online információs rendszerek használata.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000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A növekedés hatása a tudományos kutatói közösségre és az egyénre</a:t>
            </a:r>
            <a:endParaRPr b="0" lang="en-US" sz="25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2" name="Text Box 4"/>
          <p:cNvSpPr/>
          <p:nvPr/>
        </p:nvSpPr>
        <p:spPr>
          <a:xfrm flipV="1">
            <a:off x="324000" y="4653360"/>
            <a:ext cx="8135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Dátum helye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Dia számának helye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054B0-0237-4DFB-AE61-4B9072420B69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udományos információáramlás növekedése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7978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udományos információ hordozóinak számított kiadványok (szakirodalom) szaporodási sebességét a tudomány fejlődésének elért színvonala határozza meg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zakirodalom növekedése exponenciális (egyenlő idők alatt a mérete valamely fix faktorral szorzódik)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z exponenciális növekedés egy ponton logisztikussá válik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Dia számának helye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5A0D1-1045-406A-9F91-276977FED948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8" name="Picture 2" descr="LOG"/>
          <p:cNvPicPr/>
          <p:nvPr/>
        </p:nvPicPr>
        <p:blipFill>
          <a:blip r:embed="rId2"/>
          <a:stretch/>
        </p:blipFill>
        <p:spPr>
          <a:xfrm>
            <a:off x="1219320" y="533520"/>
            <a:ext cx="7315200" cy="55879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Dia számának helye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D9723-5781-47F3-8844-433C1A400BDF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ankönyvekről szóló publikációk évenkénti alakulása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graphicFrame>
        <p:nvGraphicFramePr>
          <p:cNvPr id="571" name="Object 9"/>
          <p:cNvGraphicFramePr/>
          <p:nvPr/>
        </p:nvGraphicFramePr>
        <p:xfrm>
          <a:off x="900000" y="1700280"/>
          <a:ext cx="7561440" cy="43322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72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00000" y="1700280"/>
                    <a:ext cx="7561440" cy="43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Dia számának helye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A523C-E25E-4E85-A379-9D9B0876F9CF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zakirodalom elavulása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zakirodalmi felezési idő: Az az időszak, amely alatt a felére csökken egy adott szakirodalmi műre történő hivatkozások száma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felezési idők jelentős szakterületi különbségeket mutatnak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A világ 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természettudományos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folyóirat irodalma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 elévülésének felezési ideje 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5,9 év.</a:t>
            </a:r>
            <a:r>
              <a:rPr b="0" lang="hu-HU" sz="2000" spc="-1" strike="noStrike">
                <a:solidFill>
                  <a:srgbClr val="ffffff"/>
                </a:solidFill>
                <a:latin typeface="Corbe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Újdonságeffektus: A fiatalabb cikkek több hivatkozást kapnak, mint amennyit tudományosságuk indokolna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Tematika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838995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A tudománymetria, bibliometria alapelvei, törvényei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838995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Az informetria fogalma és kapcsolódása a bibliometriához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838995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A bibliometriai vizsgálatok módszertana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838995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A tudományos publikációk minőségi értékelésének alapelvei, módszertana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838995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A bibliometriai vizsgálatok helye a mai tudományos életben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 txBox="1"/>
          <p:nvPr/>
        </p:nvSpPr>
        <p:spPr>
          <a:xfrm>
            <a:off x="324000" y="1268280"/>
            <a:ext cx="8362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A tudományos munka minőségét az értékelése és a tudományba való integrációja jelenti = jele az 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idézés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 algn="just">
              <a:lnSpc>
                <a:spcPct val="9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A folyóiratok presztizse és minősége korrelál  a  cikkeire  történő  hivatkozások számával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 algn="just">
              <a:lnSpc>
                <a:spcPct val="9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A szakmai színvonalat két mennyiségi adat jellemzi (</a:t>
            </a: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Eugene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 Garfield):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514440" indent="-343080" algn="just">
              <a:lnSpc>
                <a:spcPct val="9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milyen mértékben hivatkoznak a folyóiratban megjelent közleményekre = </a:t>
            </a: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impact faktor </a:t>
            </a: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(hatástényező), 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lvl="1" marL="514440" indent="-343080" algn="just">
              <a:lnSpc>
                <a:spcPct val="9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milyen gyorsan reagál a tudományos közvélemény a folyóiratokban megjelent publikációra = </a:t>
            </a: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frisseségi mutató</a:t>
            </a: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 algn="just">
              <a:lnSpc>
                <a:spcPct val="9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Egy  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folyóirat  összidézetszáma</a:t>
            </a: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  =  egy  évben  az  általa  közzétett dolgozatok használatának vagy hatásának abszolút mértéke.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 algn="just">
              <a:lnSpc>
                <a:spcPct val="9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A hatástényező valamely folyóirat egy cikkének átlagos fajlagos  idézettségét  is mutatja.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 algn="just">
              <a:lnSpc>
                <a:spcPct val="9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1975  óta  közli  az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  SCI  </a:t>
            </a: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(Science  Citation  Index) 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 mellékleteként  </a:t>
            </a: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megjelenő 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Journal Citation Reports</a:t>
            </a: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. 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 tudományos folyóiratok minőségének mutatói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Dia számának helye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2E575-B794-416C-8F28-24411A80F733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ézettség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900000" y="836640"/>
            <a:ext cx="777240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z idézettséget sokan a tudományos jelentőség mutatójának tartják.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akt faktor: Folyóiratok cikkeinek idézettsége (a tárgyévben kapott idézetek száma a tárgyévet megelőző két évben megjelent cikkekre, osztva a két év alatt megjelent összes cikk számával). Az impakt faktor és a folyóirat tudományos jelentősége között szignifikáns pozitív korreláció van. 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issességi mutató: A folyóiratban megjelent cikkek reflexiójának a sebességét méri (a tárgyévben kapott idézetek száma osztva a tárgyévben megjelent cikkek számával).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 txBox="1"/>
          <p:nvPr/>
        </p:nvSpPr>
        <p:spPr>
          <a:xfrm>
            <a:off x="250920" y="981000"/>
            <a:ext cx="8642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Kérdések: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 algn="just">
              <a:lnSpc>
                <a:spcPct val="9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az egyes folyóiratok milyen mértékben járulnak hozzá egy tudományterület szakirodalmához, 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 algn="just">
              <a:lnSpc>
                <a:spcPct val="9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milyen a kapcsolat a folyóiratok és a cikkek között? 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algn="just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Hipotézis: a  cikkek  folyóiratok  szerinti  eloszlása  hasonló  viselkedést  mutat  –  Samuel Climent Bradford (geofizikai és kenéselméleti cikkek bibliográfiája).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algn="just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A  legrelevánsabb  folyóiratokból  indulva  az  egymásra  következő  zónákban  található folyóiratok száma úgy aránylik egymáshoz, mint 1:n:n</a:t>
            </a:r>
            <a:r>
              <a:rPr b="0" lang="hu-HU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algn="just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Az  első  zónához  tartozó  folyóiratok az ún. magfolyóiratok az információknak mintegy harmadát szolgáltatják, a másik harmad a határterületekről származik, a harmadik harmad távolabbi folyóiratokban szóródik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algn="just">
              <a:lnSpc>
                <a:spcPct val="6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681680" cy="7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900" spc="-1" strike="noStrike">
                <a:solidFill>
                  <a:srgbClr val="ffffff"/>
                </a:solidFill>
                <a:latin typeface="Times New Roman"/>
              </a:rPr>
              <a:t>A tudományos szakirodalom szóródása – </a:t>
            </a:r>
            <a:br>
              <a:rPr sz="2900"/>
            </a:br>
            <a:r>
              <a:rPr b="1" lang="hu-HU" sz="2900" spc="-1" strike="noStrike">
                <a:solidFill>
                  <a:srgbClr val="ffffff"/>
                </a:solidFill>
                <a:latin typeface="Times New Roman"/>
              </a:rPr>
              <a:t>a tudomány egyetemessége (Bradford törvénye)</a:t>
            </a:r>
            <a:r>
              <a:rPr b="0" lang="hu-HU" sz="2900" spc="-1" strike="noStrike">
                <a:solidFill>
                  <a:srgbClr val="ffffff"/>
                </a:solidFill>
                <a:latin typeface="Corbel"/>
              </a:rPr>
              <a:t>  </a:t>
            </a:r>
            <a:endParaRPr b="0" lang="en-US" sz="29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Dia számának helye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26BD5-8937-4C4C-890F-C92FACA6537D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adford törvénye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755640" y="18241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gy adott témáról szóló cikktermés három azonos nagyságú csoportra osztható úgy, hogy az azokat megjelentető folyóiratok száma a következő arányt mutatja: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:  a  :  a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Az a-t általában 5-nek szokás venni.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indent="0" algn="just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z első csoportot, a közlemények egy harmadát, tehát a legtöbb témában is jó publikációt megjelentető folyóiratok cikkei alkotják. Ezeket a folyóiratokat az adott téma magfolyóiratainak nevezik. A publikációk következő harmadát tartalmazó folyóiratok számát a magfolyóiratok és egy állandó (a) szorzata adja meg. A téma irodalmának utolsó harmada annyi folyóiratban található meg, mint a magfolyóiratok és az állandó (a) négyzetének szorzata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Dia számának helye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3DAED-4B1B-47CA-8212-A20D34765EF6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87" name="Object 2"/>
          <p:cNvGraphicFramePr/>
          <p:nvPr/>
        </p:nvGraphicFramePr>
        <p:xfrm>
          <a:off x="1066680" y="1219320"/>
          <a:ext cx="7391520" cy="4876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88" name="Object 2" descr="">
                    <a:hlinkClick r:id="" action="ppaction://hlinkshowjump?jump=previousslide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1219320"/>
                    <a:ext cx="739152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Dia számának helye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A1993-AB16-41A0-B1FA-175EAAB0536D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zerzők és publikációk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68360" y="168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z ide vonatkozó törvényt, amely a bibliometria első számszerű felfedezése, Alfred Lotka állította fel 1926-ban. Lotka képlete szerint a szerzők és publikációik viszonyára a fordított négyzetes eloszlás elve érvényes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hu-HU" sz="2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n </a:t>
            </a:r>
            <a:r>
              <a:rPr b="0" lang="hu-H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= c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= az x számú cikkben szereplő szerzők száma,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= állandó,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 ideális értéke 2 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 txBox="1"/>
          <p:nvPr/>
        </p:nvSpPr>
        <p:spPr>
          <a:xfrm>
            <a:off x="324000" y="1600200"/>
            <a:ext cx="8362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Lotka </a:t>
            </a: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(Alfred)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 törvénye</a:t>
            </a: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 (Chemical Abstracts, 1907-1916)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 algn="just">
              <a:lnSpc>
                <a:spcPct val="10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a minimális teljesítményt nyújtó egycikkes szerzők részaránya 61%,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 algn="just">
              <a:lnSpc>
                <a:spcPct val="10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a kétcikkes szerzők száma negyede az egycikkeseknek: 15,2%,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 algn="just">
              <a:lnSpc>
                <a:spcPct val="10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a háromcikkeseké pedig egykilencede: 6,75%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Lotka  törvénye  hasonlóságot mutat a jövedelem eloszlására vonatkozó  Paréto (V. I.) törvénnyel. Különbség, hogy egy életpálya alatt megírható közlemények száma felülről korlátos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Mitől függ a kutatók produktivitása?</a:t>
            </a: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lnSpc>
                <a:spcPct val="10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a kutató kvalitásától,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lnSpc>
                <a:spcPct val="10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a területen eltöltött időtől,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lnSpc>
                <a:spcPct val="10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az együttműködők számától,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lnSpc>
                <a:spcPct val="10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a kutatási terület sajátosságaitól, stb.</a:t>
            </a: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 szerzők produktivitása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Dia számának helye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2CC59-3B6A-4528-B7BB-C3F669218DBA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95" name="Object 2"/>
          <p:cNvGraphicFramePr/>
          <p:nvPr/>
        </p:nvGraphicFramePr>
        <p:xfrm>
          <a:off x="990720" y="838080"/>
          <a:ext cx="7543800" cy="4800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96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838080"/>
                    <a:ext cx="754380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25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 társszerzők hatása az egyén produktivitására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828036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Newton: „ha valamivel is messzebbre láttam másoknál, ez csak azért volt, mert óriások vállain álltam”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Jellemző: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lnSpc>
                <a:spcPct val="10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egy kutatói közösségben a kutatók többet produkálnak,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lnSpc>
                <a:spcPct val="10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a nagyobb produktivitás általában magasabb minőséggel jár.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Társszerzői multigráfok jellemzői: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457200" indent="-285840" algn="just">
              <a:lnSpc>
                <a:spcPct val="10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az információcsere legmagasabb foka az egyes kutatók közötti társszerzőség,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457200" indent="-285840" algn="just">
              <a:lnSpc>
                <a:spcPct val="10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a társszerzőség dokumentált informális kommunikáció,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457200" indent="-285840" algn="just">
              <a:lnSpc>
                <a:spcPct val="10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a részgráfok középpontjában a legkommunikatívabb szerzők foglalnak helyet, hozzájuk fut be a legtöbb információ,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457200" indent="-285840" algn="just">
              <a:lnSpc>
                <a:spcPct val="10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a legkommunikatívabb szerzők a legproduktívabb és legidézettebb szerzők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indent="0" algn="just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Price ezt a folyamatot tekinti a kis tudományból a nagy tudományba való átmenet legjellemzőbb tulajdonságának. Ma a társszerzők relatív aránya egyre nő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indent="0" algn="just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8539200" y="6013440"/>
            <a:ext cx="69840" cy="69840"/>
          </a:xfrm>
          <a:prstGeom prst="rect">
            <a:avLst/>
          </a:prstGeom>
          <a:noFill/>
          <a:ln w="0">
            <a:noFill/>
          </a:ln>
        </p:spPr>
        <p:txBody>
          <a:bodyPr tIns="24120" bIns="24120" anchor="t">
            <a:normAutofit/>
          </a:bodyPr>
          <a:p>
            <a:pPr marL="272880" indent="-272880">
              <a:lnSpc>
                <a:spcPct val="60000"/>
              </a:lnSpc>
              <a:spcBef>
                <a:spcPts val="575"/>
              </a:spcBef>
              <a:buClr>
                <a:srgbClr val="838995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Dia számának helye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BFC7B-8F23-45FA-86C6-699E32E84216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rsch index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9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Az egyes tudósok hatástényezőjének meghatározására rendelkezésre áll a h-index, vagy Hirsch-szám.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Ezt az indexet nemrég Hirsch definiálta mint új, a tudományos tevékenység mérésére alkalmazható módszert.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Ha egy tudós </a:t>
            </a:r>
            <a:r>
              <a:rPr b="0" i="1" lang="hu-HU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 cikket publikált, és mindegyikre legkevesebb </a:t>
            </a:r>
            <a:r>
              <a:rPr b="0" i="1" lang="hu-HU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 -szer hivatkoztak, akkor az ő h-indexe </a:t>
            </a:r>
            <a:r>
              <a:rPr b="0" i="1" lang="hu-HU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 .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A h-index inkább az egyén, és nem a folyóiratok hatását próbálja meghatározni.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A h-index a publikációk száma és a rájuk történt hivatkozások közötti egyensúly eredményeként jött létre.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A h-index az egyes tudósok hatását fejezi ki.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rbel"/>
              </a:rPr>
              <a:t>A tárgy teljesítésének követelményei, évközi feladatok</a:t>
            </a: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838995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Az egyes témákhoz megadott szakirodalom feldolgozása és ismertetése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838995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Idézettség-vizsgálatok elvégzése, az eredmény bemutatása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838995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Hirsch Index kiszámítása az elvégzett idézettség-vizsgálatok alapján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838995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Folyóirat impakt faktorának kiszámítása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838995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Egyéb meghatározott mérések, vizsgálatok elvégzése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 txBox="1"/>
          <p:nvPr/>
        </p:nvSpPr>
        <p:spPr>
          <a:xfrm>
            <a:off x="352440" y="1463400"/>
            <a:ext cx="7680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legtöbbet idézett folyóirat, illetve publikáció képviseli a legjobb minőséget,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agfolyóiratok tartalmazzák a legrelevánsabb cikkeket, információkat,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gy adott terület szakcikkeit nem csupán az erre specializálódott folyóiratokban találjuk meg,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gy tudományterület bibliográfiája annál teljesebb, minél inkább figyelembe vesszük a határterületek irodalmát is,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érdemes a kutatást a legfrissebb szakirodalommal kezdeni és a határterületek irodalmában is kutatni.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Kutatásmódszertan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 txBox="1"/>
          <p:nvPr/>
        </p:nvSpPr>
        <p:spPr>
          <a:xfrm>
            <a:off x="394920" y="1196640"/>
            <a:ext cx="849636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 tudományos cikk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rodalomjegyzékének,  hivatkozásainak jellemzői: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514440" indent="-343080">
              <a:lnSpc>
                <a:spcPct val="90000"/>
              </a:lnSpc>
              <a:spcBef>
                <a:spcPts val="601"/>
              </a:spcBef>
              <a:buClr>
                <a:srgbClr val="4a5a7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hivatkozások azt jelzik, hogy minden tudományos eredmény szervesen kapcsolódik a korábbiakhoz,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514440" indent="-343080" algn="just">
              <a:lnSpc>
                <a:spcPct val="9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hivatkozások információátvitelt jelentenek, szálak, amelyek odakötik az új eredményt a korábbi tudományos ismeretanyaghoz,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514440" indent="-343080" algn="just">
              <a:lnSpc>
                <a:spcPct val="9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z idézett publikációk szerzői, címei és megjelenési helyei alapján megállapítható a publikáció tárgya, problémaköre,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514440" indent="-343080" algn="just">
              <a:lnSpc>
                <a:spcPct val="9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hivatkozások és az idézetek rendszere az a kód, amelynek segítségével a szerzők ismétlések nélkül, tömör közleményeket írnak,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514440" indent="-343080" algn="just">
              <a:lnSpc>
                <a:spcPct val="9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publikáció irodalomjegyzékében a szerző saját maga indexeli munkáját, mégpedig annál alaposabban, mennél bővebb az irodalomjegyzék,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514440" indent="-343080" algn="just">
              <a:lnSpc>
                <a:spcPct val="9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hivatkozások jellemzőek az egyes tudományterületekre: pl. a természettudományos cikkek átlagosan 15 hivatkozást tartalmaznak,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514440" indent="-343080" algn="just">
              <a:lnSpc>
                <a:spcPct val="9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z indexelést a szerző végzi el, ő tudja legjobban, milyen források milyen gondolatait használta műve megalkotásához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>
              <a:lnSpc>
                <a:spcPct val="60000"/>
              </a:lnSpc>
              <a:spcBef>
                <a:spcPts val="575"/>
              </a:spcBef>
              <a:buClr>
                <a:srgbClr val="838995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87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dézet, irodalomjegyzék, hivatkozások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 txBox="1"/>
          <p:nvPr/>
        </p:nvSpPr>
        <p:spPr>
          <a:xfrm>
            <a:off x="468360" y="836280"/>
            <a:ext cx="8362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tiszteletadás,</a:t>
            </a:r>
            <a:endParaRPr b="0" lang="en-US" sz="15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rokon témák eredményeinek elismerése,</a:t>
            </a:r>
            <a:endParaRPr b="0" lang="en-US" sz="15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módszerek, berendezések azonosítása,</a:t>
            </a:r>
            <a:endParaRPr b="0" lang="en-US" sz="15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olvasási háttér biztosítása,</a:t>
            </a:r>
            <a:endParaRPr b="0" lang="en-US" sz="15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a szerző saját munkájának helyesbítése,</a:t>
            </a:r>
            <a:endParaRPr b="0" lang="en-US" sz="15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mások munkájának helyesbítése,</a:t>
            </a:r>
            <a:endParaRPr b="0" lang="en-US" sz="15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korábbi munkák kritizálása,</a:t>
            </a:r>
            <a:endParaRPr b="0" lang="en-US" sz="15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állítások, érvek alátámasztása,</a:t>
            </a:r>
            <a:endParaRPr b="0" lang="en-US" sz="15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figyelem felhívása elkövetkező munkákra,</a:t>
            </a:r>
            <a:endParaRPr b="0" lang="en-US" sz="15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figyelem felhívása szűk körben terjesztett, vagy gyengén referált munkákra,</a:t>
            </a:r>
            <a:endParaRPr b="0" lang="en-US" sz="15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adatok, tények hitelességének alátámasztása,</a:t>
            </a:r>
            <a:endParaRPr b="0" lang="en-US" sz="15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eredeti közlemény azonosítása,</a:t>
            </a:r>
            <a:endParaRPr b="0" lang="en-US" sz="15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 algn="just">
              <a:lnSpc>
                <a:spcPct val="10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mások munkájának kétségbevonása,</a:t>
            </a:r>
            <a:endParaRPr b="0" lang="en-US" sz="15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prioritási igények vitatása.</a:t>
            </a:r>
            <a:endParaRPr b="0" lang="en-US" sz="15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68024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hivatkozás lehetséges indokai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 txBox="1"/>
          <p:nvPr/>
        </p:nvSpPr>
        <p:spPr>
          <a:xfrm>
            <a:off x="178920" y="1125360"/>
            <a:ext cx="87138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 algn="just">
              <a:lnSpc>
                <a:spcPct val="10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A megjelent publikációknak kb. 25%-át idézik 10-szer, vagy ennél többször. A tudomány frontjában lévő publikációk ezek között a közlemények között található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 algn="just">
              <a:lnSpc>
                <a:spcPct val="10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Az  együttidézési  módszer alkalmas az egyes  szakterületeken  folyó természettudományos alapkutatási  tevékenység  fejlődési  gócainak  meghatározására,  időbeli  változásának nyomonkövetésére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Együttidézés  =  2  vagy  több  publikáció  egy  későbbi  publikáció  irodalomjegyzékében egyszerre fordul elő, azokat együtt idézik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 algn="just">
              <a:lnSpc>
                <a:spcPct val="10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Az  együttidézett  publikációkat  jellemzi  egy  adott  időtartam  alatt megjelenő, az illető publikációkat együtt idéző közlemények darabszáma = együttidézési szám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 algn="just">
              <a:lnSpc>
                <a:spcPct val="10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Két  publikáció  akkor  is  bibliográfiai  kapcsolatba  kerül,  ha  egy  közös  harmadikra hivatkoznak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 algn="just">
              <a:lnSpc>
                <a:spcPct val="10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Ez hozzásegít az egyes szakterületek fejlődésének nyomon követéséhez. 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900000" y="333360"/>
            <a:ext cx="77724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gyüttidézés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 txBox="1"/>
          <p:nvPr/>
        </p:nvSpPr>
        <p:spPr>
          <a:xfrm>
            <a:off x="324000" y="1341000"/>
            <a:ext cx="8642160" cy="503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1199"/>
              </a:spcBef>
              <a:buClr>
                <a:srgbClr val="83899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Egy tudományterület eredményeit összefoglaló vagy összefoglaló jellegű cikkek rendszerezik és összegzik. Az ezeket közlő folyóiratok átlagos idézettsége meghaladja a csupán kutatási cikkeket közlő folyóiratokét.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algn="just">
              <a:lnSpc>
                <a:spcPct val="90000"/>
              </a:lnSpc>
              <a:spcBef>
                <a:spcPts val="1199"/>
              </a:spcBef>
              <a:buClr>
                <a:srgbClr val="83899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Az SCI évi kb. 570.000 db forrástételéből kb. 30.000 összefoglaló cikk. A sokszor idézett, illetve együtt idézett cikkek halmazaiból nyert klaszterek a tudomány legforróbb pontjai, a kutatás legintenzívebben művelt területei. Az egyes évek eredményeinek összehasonlításából következtethetünk a változásokra. 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algn="just">
              <a:lnSpc>
                <a:spcPct val="90000"/>
              </a:lnSpc>
              <a:spcBef>
                <a:spcPts val="1199"/>
              </a:spcBef>
              <a:buClr>
                <a:srgbClr val="83899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Az Index to Scientific Reviews félévente kiadott kötetei összefoglaló és összefoglaló jellegű publikációk hivatkozási index rendszere, amely tartalmazza a legintenzívebben művelt kutatási tématerületek névjegyzékét, megadja az illető tárgyévben a témával kapcsolatban írt összefoglaló művek bibliográfiáját, továbbá kapcsolatuk erősségét az illető tématerülettel. 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 tudomány legforróbb pontjai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 txBox="1"/>
          <p:nvPr/>
        </p:nvSpPr>
        <p:spPr>
          <a:xfrm>
            <a:off x="395280" y="907560"/>
            <a:ext cx="83628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Times New Roman"/>
              </a:rPr>
              <a:t>A legintenzívebben művelt tématerületek együttidézési klaszteranalízissel kiválogatott alapbibliográfiáit  képező  cikkeit  a  többdimenziós  skálázás alkalmazásával a síkban elhelyezve  egy  térképhez  jutunk,  ahol  a  közlemények  távolsága  jelzi  kapcsolatuk erősségét. Az origóba és környékére a sokoldalúan kapcsolt, alapvető fontosságú cikkek kerülnek.</a:t>
            </a:r>
            <a:r>
              <a:rPr b="0" lang="hu-HU" sz="15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Corbe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Times New Roman"/>
              </a:rPr>
              <a:t>A téma irodalmának tanulmányozását célszerű az itt elhelyezkedő cikkekkel kezdeni. 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Times New Roman"/>
              </a:rPr>
              <a:t>A térképet tárgykör szerint összegyűjtve atlaszokba rendezik. 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ffffff"/>
                </a:solidFill>
                <a:latin typeface="Times New Roman"/>
              </a:rPr>
              <a:t>Az atlasz tartalma: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lnSpc>
                <a:spcPct val="10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Times New Roman"/>
              </a:rPr>
              <a:t>a kutatási front megnevezése, 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lnSpc>
                <a:spcPct val="10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Times New Roman"/>
              </a:rPr>
              <a:t>rövid leírása, 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lnSpc>
                <a:spcPct val="10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Times New Roman"/>
              </a:rPr>
              <a:t>az alapvető közlemények klasztertérképe, 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lnSpc>
                <a:spcPct val="10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Times New Roman"/>
              </a:rPr>
              <a:t>bibliográfiai adatai, 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lnSpc>
                <a:spcPct val="10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Times New Roman"/>
              </a:rPr>
              <a:t>a tárgyévben kapott idézetek száma,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lnSpc>
                <a:spcPct val="10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Times New Roman"/>
              </a:rPr>
              <a:t>az alapbibliográfia cikkeiből a legtöbb közleményt idéző kulcs-cikkek listája, 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lnSpc>
                <a:spcPct val="10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Times New Roman"/>
              </a:rPr>
              <a:t>a cikkben idézett alapcikkek száma.</a:t>
            </a:r>
            <a:r>
              <a:rPr b="0" lang="hu-HU" sz="1300" spc="-1" strike="noStrike">
                <a:solidFill>
                  <a:srgbClr val="ffffff"/>
                </a:solidFill>
                <a:latin typeface="Corbel"/>
              </a:rPr>
              <a:t>  </a:t>
            </a:r>
            <a:endParaRPr b="0" lang="en-US" sz="1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7680600" cy="53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 tudományos kutatás térképei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 txBox="1"/>
          <p:nvPr/>
        </p:nvSpPr>
        <p:spPr>
          <a:xfrm>
            <a:off x="352440" y="1463400"/>
            <a:ext cx="7680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575"/>
              </a:spcBef>
              <a:buClr>
                <a:srgbClr val="838995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Magyarországi vizsgálatok 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(1978 óta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62040" indent="-285840" algn="just">
              <a:lnSpc>
                <a:spcPct val="100000"/>
              </a:lnSpc>
              <a:spcBef>
                <a:spcPts val="374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Az első mérés Magyarországon –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4" marL="89388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Marton János: Magyar publikációk külföldi folyóiratokban. Bibliometriai vizsgálatok az élettudományok területén,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662040" indent="-285840" algn="just">
              <a:lnSpc>
                <a:spcPct val="100000"/>
              </a:lnSpc>
              <a:spcBef>
                <a:spcPts val="374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KLTE TTK,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662040" indent="-285840" algn="just">
              <a:lnSpc>
                <a:spcPct val="100000"/>
              </a:lnSpc>
              <a:spcBef>
                <a:spcPts val="374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MTA Szegedi Biológiai Központ,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662040" indent="-285840" algn="just">
              <a:lnSpc>
                <a:spcPct val="100000"/>
              </a:lnSpc>
              <a:spcBef>
                <a:spcPts val="374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MTA Központi Kémiai Kutatóintézete,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662040" indent="-285840" algn="just">
              <a:lnSpc>
                <a:spcPct val="100000"/>
              </a:lnSpc>
              <a:spcBef>
                <a:spcPts val="374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MTA Állatorvostudományi Kutatóintézet,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662040" indent="-285840" algn="just">
              <a:lnSpc>
                <a:spcPct val="100000"/>
              </a:lnSpc>
              <a:spcBef>
                <a:spcPts val="374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Chinoin Gyógyszer- és Vegyészeti Termékek Gyára Rt. ,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662040" indent="-285840" algn="just">
              <a:lnSpc>
                <a:spcPct val="100000"/>
              </a:lnSpc>
              <a:spcBef>
                <a:spcPts val="374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ma teljesen általános az egyetemeken, az MTA-nál az álláspályázatoknál, és tudományos fokozatok odaítélésénél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662040" indent="-285840" algn="just">
              <a:lnSpc>
                <a:spcPct val="100000"/>
              </a:lnSpc>
              <a:spcBef>
                <a:spcPts val="374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MTMT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tudománymetria Magyarországon</a:t>
            </a:r>
            <a:br>
              <a:rPr sz="2800"/>
            </a:b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vizsgálatok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 txBox="1"/>
          <p:nvPr/>
        </p:nvSpPr>
        <p:spPr>
          <a:xfrm>
            <a:off x="468000" y="980640"/>
            <a:ext cx="821844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fffff"/>
                </a:solidFill>
                <a:latin typeface="Times New Roman"/>
              </a:rPr>
              <a:t>Folyóiratkiadás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ffffff"/>
                </a:solidFill>
                <a:latin typeface="Times New Roman"/>
              </a:rPr>
              <a:t>Scientometrics:</a:t>
            </a:r>
            <a:r>
              <a:rPr b="0" lang="hu-HU" sz="17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An International Journal for all Quantitative Aspects of the Science of</a:t>
            </a:r>
            <a:r>
              <a:rPr b="0" lang="hu-HU" sz="17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Science, Communication in Science and Science Policy</a:t>
            </a:r>
            <a:r>
              <a:rPr b="0" lang="hu-HU" sz="1700" spc="-1" strike="noStrike">
                <a:solidFill>
                  <a:srgbClr val="ffffff"/>
                </a:solidFill>
                <a:latin typeface="Times New Roman"/>
              </a:rPr>
              <a:t> / főszerk. Braun Tibor. Kiadja az</a:t>
            </a: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 Akadémiai Kiadó és a Springer Verlag</a:t>
            </a:r>
            <a:r>
              <a:rPr b="0" lang="hu-HU" sz="1700" spc="-1" strike="noStrike">
                <a:solidFill>
                  <a:srgbClr val="ffffff"/>
                </a:solidFill>
                <a:latin typeface="Times New Roman"/>
              </a:rPr>
              <a:t>. – 1978-tól.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19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Times New Roman"/>
              </a:rPr>
              <a:t>Az angol nyelvű folyóirat a téma vezető folyóirata a világon, több szerkesztője magyar.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Times New Roman"/>
              </a:rPr>
              <a:t>Anyagi okokból megszűnt folyóiratok: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 algn="just">
              <a:lnSpc>
                <a:spcPct val="10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Times New Roman"/>
              </a:rPr>
              <a:t>Kutatás-Fejlesztés, 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 algn="just">
              <a:lnSpc>
                <a:spcPct val="10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Times New Roman"/>
              </a:rPr>
              <a:t>Tudományszervezési Tájékoztató,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 algn="just">
              <a:lnSpc>
                <a:spcPct val="10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Times New Roman"/>
              </a:rPr>
              <a:t>Impakt. 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Times New Roman"/>
              </a:rPr>
              <a:t>Élő folyóirat tudománymetriai profillal: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 algn="just">
              <a:lnSpc>
                <a:spcPct val="100000"/>
              </a:lnSpc>
              <a:spcBef>
                <a:spcPts val="601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ffffff"/>
                </a:solidFill>
                <a:latin typeface="Times New Roman"/>
              </a:rPr>
              <a:t>Magyar Tudomány</a:t>
            </a:r>
            <a:r>
              <a:rPr b="0" lang="hu-HU" sz="17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Times New Roman"/>
              </a:rPr>
              <a:t>Magyarországon rendszeresen és nemzetközi színvonalon művelő öt-hat kutató cikkeit elsősorban nemzetközi folyóiratokban közlik, amelynek alapján hazánk a világ első tíz országa között szerepel az informatikai és könyvtártudományi kutatások területén.</a:t>
            </a:r>
            <a:r>
              <a:rPr b="0" lang="hu-HU" sz="22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7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52440" y="0"/>
            <a:ext cx="7680240" cy="10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tudománymetria Magyarországon</a:t>
            </a:r>
            <a:br>
              <a:rPr sz="3200"/>
            </a:b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kiadványok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iselőadás témák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838995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 tudományos közleményekkel szembeni elvárások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838995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z informetria fogalma és szerepe a tájékoztatásban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838995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Hirsch-index, G-index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838995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z impakt faktor szerepe és ellentmondásai a mai tudományos világban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838995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 u="sng">
                <a:solidFill>
                  <a:srgbClr val="b5740b"/>
                </a:solidFill>
                <a:uFillTx/>
                <a:latin typeface="Arial"/>
                <a:hlinkClick r:id="rId2"/>
              </a:rPr>
              <a:t>www.scimagojr.com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bemutatása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838995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Eigenfactor és Article influence (</a:t>
            </a:r>
            <a:r>
              <a:rPr b="0" lang="hu-HU" sz="1800" spc="-1" strike="noStrike" u="sng">
                <a:solidFill>
                  <a:srgbClr val="b5740b"/>
                </a:solidFill>
                <a:uFillTx/>
                <a:latin typeface="Arial"/>
                <a:hlinkClick r:id="rId3"/>
              </a:rPr>
              <a:t>www.eigenfactor.org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838995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 Google Tudós bemutatása és értékelése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838995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z MTMT bemutatása és értékelése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Tudomány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gazolt ismeretek rendszere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algn="just">
              <a:lnSpc>
                <a:spcPct val="9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lós tárgya van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algn="just">
              <a:lnSpc>
                <a:spcPct val="9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z ismeretek megszerzésére és igazolására módszereket alakít ki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algn="just">
              <a:lnSpc>
                <a:spcPct val="9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örténetileg változik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algn="just">
              <a:lnSpc>
                <a:spcPct val="9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mberi közösségek tudatában él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z emberiségnek a való világról módszeres úton szerzett, igazolt ismereteinek logikus rendszere, a történeti fejlődés adott fokán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 txBox="1"/>
          <p:nvPr/>
        </p:nvSpPr>
        <p:spPr>
          <a:xfrm>
            <a:off x="611280" y="1052280"/>
            <a:ext cx="807552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put: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yagi ráfordítás 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nkaerő 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z alkalmazott kísérleti berendezések értéke, 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z elhasznált vegyszerek mennyisége, 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felhasznált számítógépidő, stb.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utput: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z eredmény, 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lvl="1" marL="719280" indent="-343080" algn="just">
              <a:lnSpc>
                <a:spcPct val="90000"/>
              </a:lnSpc>
              <a:spcBef>
                <a:spcPts val="575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apkutatásnál a rögzített tudományos ismeret 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lvl="1" marL="719280" indent="-343080" algn="just">
              <a:lnSpc>
                <a:spcPct val="90000"/>
              </a:lnSpc>
              <a:spcBef>
                <a:spcPts val="575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ejlesztésnél a termék.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z input és az output minden tényezőjéhez </a:t>
            </a:r>
            <a:r>
              <a:rPr b="1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őségi és mennyiségi jellemzők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artoznak,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lvl="1" marL="719280" indent="-343080">
              <a:lnSpc>
                <a:spcPct val="90000"/>
              </a:lnSpc>
              <a:spcBef>
                <a:spcPts val="374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munkaerő nyelvtudása, 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lvl="1" marL="719280" indent="-343080">
              <a:lnSpc>
                <a:spcPct val="90000"/>
              </a:lnSpc>
              <a:spcBef>
                <a:spcPts val="374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közlemények megjelenési helye, 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lvl="1" marL="719280" indent="-343080">
              <a:lnSpc>
                <a:spcPct val="90000"/>
              </a:lnSpc>
              <a:spcBef>
                <a:spcPts val="374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yelve, 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lvl="1" marL="719280" indent="-343080">
              <a:lnSpc>
                <a:spcPct val="90000"/>
              </a:lnSpc>
              <a:spcBef>
                <a:spcPts val="374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beruházás amortizációja, stb. 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lvl="1" marL="719280" indent="-343080">
              <a:lnSpc>
                <a:spcPct val="5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72400" cy="72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udományos tevékenység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udományos kutatás eszközrendszere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4360" y="169992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71360" indent="0" algn="just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 algn="just">
              <a:lnSpc>
                <a:spcPct val="100000"/>
              </a:lnSpc>
              <a:spcBef>
                <a:spcPts val="400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iss, naprakész ismeretek a világban keletkezett régi és új tudományos információkról,</a:t>
            </a:r>
            <a:endParaRPr b="0" lang="en-US" sz="25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>
              <a:lnSpc>
                <a:spcPct val="60000"/>
              </a:lnSpc>
              <a:spcBef>
                <a:spcPts val="374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hetőség az együttműködésre, vitára,</a:t>
            </a:r>
            <a:endParaRPr b="0" lang="en-US" sz="25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>
              <a:lnSpc>
                <a:spcPct val="60000"/>
              </a:lnSpc>
              <a:spcBef>
                <a:spcPts val="374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zközök, berendezések,</a:t>
            </a:r>
            <a:endParaRPr b="0" lang="en-US" sz="25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orbel"/>
            </a:endParaRPr>
          </a:p>
          <a:p>
            <a:pPr algn="just">
              <a:lnSpc>
                <a:spcPct val="70000"/>
              </a:lnSpc>
              <a:spcBef>
                <a:spcPts val="575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a tudományos közösség leglényegesebb tulajdonsága az interaktivitás.</a:t>
            </a:r>
            <a:endParaRPr b="0" lang="en-US" sz="25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 txBox="1"/>
          <p:nvPr/>
        </p:nvSpPr>
        <p:spPr>
          <a:xfrm>
            <a:off x="179280" y="981000"/>
            <a:ext cx="87854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 algn="just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A tudományos kutatás, mint információs, kommunikációs rendszer folyamata: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kutatás → láthatatlan kollégium: kongresszusok, levelezés, preprintek → tudományos cikk megírása  →folyóirat  szerkesztőség → bírálat,  értékelés → módosítás: végleges  cikk → szerkesztőség →  a cikk megjelenése → terjesztés → értékelés, bírálat → a cikk/kutató tudományos eredményének  befogadása: idézet, bírálat, vita → újabb eredmény. 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A folyamat jellemzői: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19280" indent="-343080" algn="just">
              <a:lnSpc>
                <a:spcPct val="90000"/>
              </a:lnSpc>
              <a:spcBef>
                <a:spcPts val="374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tudományos közösségben folyik minden tevékenység:  kutatás,  terjesztés,  értékelés,  elismerés,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19280" indent="-343080" algn="just">
              <a:lnSpc>
                <a:spcPct val="90000"/>
              </a:lnSpc>
              <a:spcBef>
                <a:spcPts val="374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az értékelés a kutató társaktól és a szakértőktől függ, akik egyben versenytársak, jellemző a kritikai légkör,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19280" indent="-343080" algn="just">
              <a:lnSpc>
                <a:spcPct val="90000"/>
              </a:lnSpc>
              <a:spcBef>
                <a:spcPts val="374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csak az eredetiséget értékelik,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19280" indent="-343080" algn="just">
              <a:lnSpc>
                <a:spcPct val="90000"/>
              </a:lnSpc>
              <a:spcBef>
                <a:spcPts val="374"/>
              </a:spcBef>
              <a:buClr>
                <a:srgbClr val="4a5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akkor válik valaki tulajdonává az általa létrehozott szellemi termék, vagyon, ha közreadja azt, csak a publikálással kerül törvényesen elismert birtokába a tudósnak a saját felfedezése.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63272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18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KOMMUNIKÁCIÓ A TUDOMÁNY LÉNYEGE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30T08:06:35Z</dcterms:created>
  <dc:creator>user</dc:creator>
  <dc:description/>
  <dc:language>en-US</dc:language>
  <cp:lastModifiedBy>vkati</cp:lastModifiedBy>
  <dcterms:modified xsi:type="dcterms:W3CDTF">2013-02-12T10:51:24Z</dcterms:modified>
  <cp:revision>122</cp:revision>
  <dc:subject/>
  <dc:title>TUDOMÁNYMETRIA – POWERPOINT</dc:title>
</cp:coreProperties>
</file>