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90F-1AC6-4E66-A406-C61FC706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C19-2BA4-4ABC-B391-0F3427B8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7EC6BF-35A4-4A7F-8F8B-4D97804B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6DC1D9-BDD2-40F5-AD81-12EED077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BF5BF-DFE9-4A78-A334-2FF34651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E1720-746E-4FCE-A564-1B74A49F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4C8A25-7E73-4EE5-8E37-EA2F2C2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F43DF4-5715-446A-9BCC-D16767BE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95CF8C-3D5D-41CF-ACE6-E3D7ABB1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6A4EE5-33B3-411A-8FAC-B0F6295C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8CF4EF-0D7D-4D8F-B4CB-CE780665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D246F-B053-42F4-9C8C-EE1B9DE1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EA8-375D-4F6F-8BD2-C22B5D43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FAA79-9C40-4825-AC79-C0160ADD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C0B07-6178-42F1-8446-64B674E5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0E9E4-4B56-43D7-A255-E89157C9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64C25-FC86-49ED-9134-20AE1B45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77F27-0BE8-4480-BD88-D4F5F7FD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ACA0C-428F-41D8-B474-5FCBFA95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5E3A6-330C-490D-9F89-C01719F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C851C-57BC-46F9-9F90-7CA0632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EB934-6264-4175-BE2A-8E91A5B9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B9CC0-F281-47DD-AA12-0BA3D52B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1F5-4117-4F67-848B-BB950CCD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39654-5F8B-4A84-A731-89B63BD5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DFB45-B94C-415D-A31D-7ED39492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9FE7F-5C32-46AF-8E0B-28F12C49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BB46E-313A-4834-9E99-F9FF9AB0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DE0EB-C03E-46AA-86BD-DD742407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38060-FD75-41E8-AD7F-5852B2AD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0F223-39FF-4DB1-99AD-61433E12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85944-4F81-4718-A723-376E439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1787D-AED2-4F94-843F-E39C50B4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1E3A2-B7D9-4409-B8B0-6A40261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C36E0-4AA5-43F8-BDFA-EB080F2A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D63AF-BFBD-4597-9C81-ED963B39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F93D2-69CB-4C27-B5F1-6E2D1496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01D5A-451C-43C0-BD59-3EB2CEB7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31A43-18D0-43A0-BBD7-996B858E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498ED-A0DF-4600-A2EC-5DEE522F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2B06E-65E9-4C21-AA4B-195CC28F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3E41F-0984-4156-8DD3-F4A090D2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8A23A-2D70-40BE-99A8-AF70EE8C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97A0C-4032-4C75-A275-D71B967C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FE15C-5597-4422-B210-A6FD05A7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7E2F4-5165-4BD6-BBA0-5DB43750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37781-93C0-472C-AD1F-B1DCCDF1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08325-63DF-4D23-966E-F2F94FE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BA7D8-E94F-4778-AFD3-0EF26EE6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1450A-8D07-42DB-8368-08177D39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C11B2-C101-4E8F-8129-CD598209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A759E-99EE-4861-B8AB-A47FC105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F75B9-65DA-414B-B607-3E16384A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4B7D9-7B0B-4278-AA7C-E845D443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02D00-EE7B-4CD2-BAC6-066C2D06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2E18A-A382-41B7-AFBB-40494C47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62F-E4AD-4270-990E-7B5AA877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A9E9C-DF6D-45D3-A97F-5B70D733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F044A-FD4A-41E5-B4C3-5792F484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EB438-E5E5-48C3-B41F-A9C7E588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BBB06-FBBB-4A55-B107-BE5D73EE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0A13F-7F70-47F7-8379-DCA3EA1A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D1A75-76A1-4E92-943F-C3FC2809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EDC99-A5FA-4B55-9164-9BBC7544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DF16D-1B5A-4E90-9A12-E2CC3ECF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08655-FBFD-4EE9-B6A4-3BD99B48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74D8B-9AC2-4470-A19C-9AA2BC2B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04B-4003-4825-99C8-A281424D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0E4AB-D8F2-4645-A520-07B20D6E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31E8B-D308-4B70-BBF3-7BDE2362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E29B7-B5DB-46F1-A0EB-9FF3C34A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02B24-E57D-415A-8D02-62B6BF6A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D21BA-B5D8-409A-8319-ECC906C5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3F2C7-8FA5-4EC8-AFC1-26FEB611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20EB5-8776-465B-B822-8C0CD46A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B7E41-3B80-4EC3-BEB4-2274F218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93325-A983-4C91-9DCC-BDFCFAE1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8D224-66DE-46F0-9455-A924832D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0B9-71D6-433F-94E3-0AA71BAA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2578A-41F1-43E8-9D87-0C9D263F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4A077-C8CE-4EF4-A167-37BF6BBA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D38CB-1566-4147-B15F-E2292F27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F02A1-CE41-46D5-8A6C-8DA91A9B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B10F67-E3CE-4E27-AE01-D6A3FA78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5BCD1-797A-4AA5-9D19-FCC87D2C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EC772-356C-43CB-BF8D-C19D4AD5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5EBBFB-42C9-4477-BAAD-E04BF5C1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FC0E8-2AD6-4988-97B7-63073D82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4E1EF-A8C5-4CE4-93F7-32F5FBA1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D76-2CCF-494D-873D-3550C17B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139E2-4628-4B72-A378-802DBEDD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9342F-7DD4-45A2-9E9F-DE3E0E81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06A71-1F97-4074-BF78-1D9A8BB9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C563B-A0FC-4F05-9864-DC0F2DFD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7F7C9-29DC-440C-99B0-9F509E76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05851-12ED-4A42-84F2-19E5B495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484E0-C847-41E7-BF34-BFD4FD94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A9C74-0A9C-477D-9A29-FE27DDC5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E9409-C4DB-475C-85A8-219B652E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09E95-BB36-45E8-A925-C99284D5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FBB-A06F-48F0-BA3C-2942F7D8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21918-D4C4-4D1E-9617-94A371E3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BBE62-D2F8-41D3-BF03-21DC6D0B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6EFFA-4E9B-415F-9295-E38D1CD1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4672C-688B-4F39-B128-00B2AABD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B52DA-7EA2-4196-9AD7-D997F811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54B36-1CDD-4625-AC40-8D539687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8CBD9-7571-41E9-B409-EA04285E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3C498-1AE0-45BD-AF7A-56BCBC8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A1B0E-B1F8-404F-8410-6DF3B782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1A3B0-C32C-4038-A995-4384CF61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F5D-9F8E-4E65-8AF5-EBCB28C9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1D02D3-8A4F-4E83-B71E-7A4EB091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9F4EB-0A2A-4BA8-8D83-D9629EE5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46F937-60F7-4777-BE0A-2B33C483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AC859-0955-49E5-941B-D88BEAF4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15A38-C4F4-46B1-8944-589E7A4A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7431B-1827-4DB6-BD9C-21468318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99BD36-F1C7-4DD9-B498-7414ADFF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12FA35-6490-4563-848D-BA590F16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65AC9-0CC0-4B45-96F3-DC922541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15EAC-73C8-49FF-BBBA-E4A3F89D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BBF-69F7-4D65-BD19-08711B4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99DAB-F2B0-4076-A490-1DCF2783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8F8A5-741A-4E1E-AD89-4FD5F2CB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CB968-8234-4890-AC41-0524ABF4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97587-5822-49BD-86AF-A43D2FE0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03D41-B700-49B2-BF23-E9D2689F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B3DDBA-E452-4200-BC2C-841A628F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C9C61-B9E0-44DF-996A-9634817F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EF42B6-C3A9-4B1B-A040-31F5056A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AA347-B9AC-4225-9E7C-B362D076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80B115-CEBA-4EED-B9C1-73D40175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706-B460-42E3-B9C7-0848D2F1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03B4AA-2CB2-4442-9BAC-E6043B21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B9CE76-BA46-42BA-8D90-72A4526D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A033CC-8161-46F4-8B0D-6A58764D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BE782-A166-4A76-A6F4-16ADCC3B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CFF43-7E56-4559-A526-44BFD82A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2825CF-3B05-4004-83B2-12CF9E1D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059BD4-31AC-4971-88C2-C2453443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E9C3FF-492E-41EB-BB52-31BE38FA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CD5F94-59FE-4EA8-81E7-058C6D15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E4B4BB-B862-4167-A361-74400AF0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C407-E32B-40F9-9F29-A841A83D002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1171-46DD-47F7-A4D1-3B83BA478E0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A66A-9406-41A4-B5FB-5C8B079423A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032A-A334-420B-8565-DB4C57AA6C8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5C5A-6E9E-4A6E-A053-A480A47D45C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04FC-41EC-4A86-8F5D-ACC187FEE8A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2CA4-2CF5-4B9D-9ED9-4CCA0E8EAEB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D13B-C5A2-45F4-935E-984FC472CE4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605E-8FC2-4FA8-A824-3B8BA90CAA9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30EC-A378-4C92-ADE3-089BF027A6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Straight Connector 2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9C70-14E2-42BA-B4EE-16324F067C8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Straight Connector 1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EFC9-8592-489A-BC8C-0612B102823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imagojr.com/" TargetMode="External"/><Relationship Id="rId3" Type="http://schemas.openxmlformats.org/officeDocument/2006/relationships/hyperlink" Target="http://www.eigenfactor.org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807732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UDOMÁNYMETRIA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IBLIOMETRIA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09" name="Rectangle 2" descr=""/>
          <p:cNvPicPr/>
          <p:nvPr/>
        </p:nvPicPr>
        <p:blipFill>
          <a:blip r:embed="rId2"/>
          <a:stretch/>
        </p:blipFill>
        <p:spPr>
          <a:xfrm>
            <a:off x="317520" y="542880"/>
            <a:ext cx="8150040" cy="306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25056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mális csatornák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szakkönyve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udományos folyóirato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különlenyomatok.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8389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nformális csatornák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udományos összejövetelek előadásai (kb. 65%-uk jelenik meg írásban is)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jelentések (reportok)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értekezések, disszertáció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preprinte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konferencia anyagok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publikált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redmények  90%-át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a formális kommunikálás előtt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nformális csatornákon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teszik közzé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tudományos kommunikáció eszközei és fejlődésü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átum helye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A69E-0FE2-410B-A0DA-D79A8719D6D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 és az információ viselkedése, mérési módszere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lnSpc>
                <a:spcPct val="7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 fő terméke a tudományos információ, amely a tudományos szakirodalomban ölt teste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lnSpc>
                <a:spcPct val="7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 információból információt állít elő, azaz inputja is, outputja is a tudományos információ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lnSpc>
                <a:spcPct val="7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zakirodalom teszi folyamattá a tudományt, biztosítja az előrehaladást, a tévedések kiküszöbölésé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lnSpc>
                <a:spcPct val="7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 mérhető, mégpedig a szakirodalmon keresztü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9C34-EE69-4A36-9338-7C148EC0BA0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kálj vagy pusztulj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174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özlés már nem eszköz, hanem cé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ublikáció a tudós számára a fennmaradás eszköz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ublikációk révén válik lehetővé a láthatatlan kollégiumok kialakulása és fennmaradás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áthatatlan kollégium: az azonos témában dolgozó tudósok közösség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684360" y="1267920"/>
            <a:ext cx="7680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agjai kommunikációs hálózatot alkotna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utatási eredmények – publikálásukat megelőzve – kéziratok, preprintek formájában eljutnak a közösség tagjaihoz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legtermékenyebb szerzők a kutatócsoportok vezetőivé válnak, így produktivitásuk még inkább nő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ollektíva befolyásos tagjai lehetőséget teremtenek arra, hogy kongresszusok, szimpóziumok, stb. alkalmával összejöhessene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más számára meghívásokat, ösztöndíjakat, stb. eszközölnek ki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láthatatlan intézmény tagjai egymással lassan személyes, majd munkakapcsolatba kerülnek az egyenrangúak véleménye alapján, rangot nyerne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ooperáció ma egyre inkább nemcsak az egyének, hanem intézményeik, országaik együttműködéseiként jelenik meg,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csoporthoz tartozás presztízst jelent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láthatatlan kollégium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gy tudományos publikáció hivatkozásain a lábjegyzet és irodalomjegyzék formájában közölt formális utalásokat értjük, amelyek segítségével egy tudományos eredmény előzményeit ismerhetjük me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6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gy publikációra vonatkozó hivatkozások más publikációknak a szóban forgó munkára való hivatkozásai, amelyek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évén annak tudományos hatását (impaktját) ismerhetjük meg.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70000"/>
              </a:lnSpc>
              <a:spcBef>
                <a:spcPts val="575"/>
              </a:spcBef>
              <a:buClr>
                <a:srgbClr val="8389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udományos hivatkozások indexrendszer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52440" y="1267920"/>
            <a:ext cx="8251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1873-tól – Shepard’s Citation - jogi döntésekben nyújt segítséget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1952-ben – Ch. Leake az orvosi irodalom indexelése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1955. – Eugene Garfield Associates tanácsadó iroda 2 gyógyszergyár 5000 szabadalmát dolgozta fel, és mintegy 30.000 hivatkozást tartalmazott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1959 – Journal of the American Statistical Association – kumulált hivatkozási index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példáját követte az Annals of Mathematical Statistics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1963-tól – </a:t>
            </a:r>
            <a:r>
              <a:rPr b="1" lang="hu-HU" sz="1900" spc="-1" strike="noStrike">
                <a:solidFill>
                  <a:srgbClr val="ffffff"/>
                </a:solidFill>
                <a:latin typeface="Times New Roman"/>
              </a:rPr>
              <a:t>Science Citation Index –</a:t>
            </a: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 613 folyóirat 1961-ben megjelent cikkeit tartalmazta, és ezek 1,4 millió idézetét – ezek 1%-át, amelyeknek valami közük volt a genetikához, számítógép segítségével válogatták le, és külön publikálták Genetcs Citation Index címmel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Az SCI egyre bővítette indexei számát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hivatkozási indexek történeti áttekintés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53964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 számítógéppel  összeállított,  szakirodalmi  keresésre  szolgáló  indexek rendszerében 4, önállóan használható és egymással kombinálható keresési mód áll rendelkezésre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. A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szerzői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vagy forrás index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az első szerző nevének ABC sorrendjében rendszerezve tartalmazza a tárgyidőszakban megjelent mű címét, bibliográfiai adatait és az első szerző munkahelyét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. Az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idézési index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az idézett művek első szerzőinek ABC sorrendjébe rendezve sorolja fel a tárgyidőszakban megjelent mindazon közleményeket, amelyekben a nevezett műre hivatkoznak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3. A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permutált subject index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, a közlemények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címszavainak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párosítása az első szó ABC rendjében. Pl. egy dolgozat, amelynek címe 8 információt hordozó szóból áll, 8x7=56 helyen lesz fellelhető a PSI-ben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4. A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munkahely index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az intézmények nevének ABC sorrendjében.</a:t>
            </a:r>
            <a:r>
              <a:rPr b="0" lang="hu-HU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udományos hivatkozások indexrendszer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52440" y="1463760"/>
            <a:ext cx="82519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zakirodalmi információs keresési igények kielégítésére,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zerzők, cikkek és folyóiratok közötti idézési gyakoriságra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ott szerzők, cikkek és folyóiratok közötti idézeti kapcsolatokra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gyének, intézmények, országok, folyóiratok, tudományterületek, szakterületek és témák idézettségének vizsgálatával jelentőségük, hatásuk, használhatóságuk, eredményességük mérésére,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udományszociológiai és tudománytörténeti vizsgálatokra,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oritási kérdések eldöntésér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lyóiratok és tudományterületek kölcsönhatásának megítélésér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ghatározhatók a legintenzívebben művelt tudományterületek, az ún. forró pontok és a legjelentősebb publikációk.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udományos idézetek indexrendszerének alkalmazás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56840" y="134100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 átlagos kutatói létszám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tudományos fokozattal rendelkező kutatók átlagos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publikációk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tudományos fokozattal rendelkező kutatók arány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publikáló kutatók aránya (évi átlag)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folyóiratcikkek arány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operativitás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átlagos idézettség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 idézetlen publikációk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 idézetlen publikációk arány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sokat idézett publikációk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sokat idézett publikációk arány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kapott idézetek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 idézetek várható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átlagos várható idézettség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latív idézettség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publikációs tevékenység jellemzésére használható mutatószámo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79280" y="1268280"/>
            <a:ext cx="8507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 megjelenő  tudományos  publikációk  25%-át  egyáltalán  nem  idézik, az idézett cikkek átlagos évi  idézettsége  is  csak  1,7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Times New Roman"/>
              </a:rPr>
              <a:t>Ellenvetések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z alacsony színvonalú munka olykor több hivatkozással rendelkezik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z önhivatkozások száma kb. 10%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speciális jellegű cikkek, módszertani cikkek - a világirodalom eddig legtöbbet idézett cikkét O. H. Lowry írta, melyben egy új fehérje-meghatározó módszert közölt 1951-ben - ezt a cikket 1961 és 1975 között 50000-szer idézték, ez a szám több mint ötszöröse a második legtöbbet idézett cikkeknek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mérföldkövet jelentenek a tudomány fejlődésében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szakterületi eltérések miatt nehéz egy egyetem intézeteinek összevetése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reálisan csak azonos szakterületen és/vagy azonos intézeten belül dolgozó kutatók összehasonlításának van reális alapja, és lehet objektív az értékelés.</a:t>
            </a: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vatkozáselemzé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antárgy célj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68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modern információs szakemberek számára elengedhetetlen, hogy magas szinten ismerjék és alkalmazni tudják a mennyiségi és minőségi elemző módszerek széles tárházát, azokat az eljárásokat és törvényeket, amelyek az elmúlt évtizedekben a tudományos folyamatok mérésében a tudománymetria, a publikációk mennyiségi és minőségi vizsgálatában a bibliometria, illetve az elektronikus információk és az adatbázisok értékelésében az informetria területén születtek. A tantárgy célja, hogy megismertesse ezen törvényszerűségek működését, és bevezesse a hallgatókat gyakorlati alkalmazásuk lehetőségeibe. A mennyiségi elemzés alkalmazásában való jártasság egyaránt előfeltétele a könyvtári és tájékoztatási szolgáltatások értékelési kultúrája kialakításának, valamint azon képesség javításának, hogy e szolgáltatások értékét mind a használók, mind a külső támogatók és döntéshozók számára nyilvánvalóvá tegyék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3CF3-8BB6-4699-8423-C5B3B5309D7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dománymetria - bibliometr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 maga is lehet vizsgálat tárgya - tudományta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dománymetria: A tudományokban zajló információs folyamatok mennyiségi (statisztikai) vizsgálat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metria: A publikációk mennyiségi viszonyaival foglalkozó tudományág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925200" y="836280"/>
            <a:ext cx="8218440" cy="54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Célja a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ermelési ággá vált tudomány termékeinek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számbavétel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kezelés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naprakész mérés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összehasonlíthatósága az egyes tudományágak, országok, intézetek, kutatási műhelyek, személyek között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tudományra fordított kiadások mérés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összehasonlíthatósága az időben, a tudomány fejlődése szempontjából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tudomány mérésének eszközei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peer review = szakértői ítélet,</a:t>
            </a: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katalógusok, bibliográfiák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bibliográfiák új típusa – az SCI (Science Citation Index)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új technológia – a számítógép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lkalmazási területei: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könyvtár, tudomány, államvezetés, kutatásirányítás, tudományirányítás, tudománypolitika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erminológiai vita: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tudománymetria – bibliometria – infometria – librometria.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</a:rPr>
              <a:t>Tudománymetr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250560" y="1484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ációáramlás kvantitatív tanulmányozása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sztik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jlett információkeresé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tbányászati techniká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övegbányász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zetközi Társasága: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I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Society for Scientometrics and Informetrics</a:t>
            </a:r>
            <a:r>
              <a:rPr b="0" i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3 óta működik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etr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50560" y="765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z információrobbanás ok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udományba pumpált pénz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ublikáló tudósok számának növekedése – egy tudósra 0,5-1 folyóiratcikk jut évente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udományos támogatást egyre nagyobb mértékben a pályázatokból kapott pénzek fedezi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udósok közti konkurencia-harc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udósok megítélésében (álláspályázatok, tudományos címek, fokozatok, beosztás, fizetés) kiemelkedő szerepet játszik a közlési aktivitás – 1960-as évektől - jelszó: „publikálj, vagy pusztulj!”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z intézmény (kutatóintézet, egyetem) elvárja, hogy a pénzért eredményt szállítson - az intézményi karrierben, a tudományos támogatásokért folyó versenyben jelentős szerepe van a benyújtott publikációk listájána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zponzor akkor látja, hogy méltó helyre juttatta a pénzét, ha nevét minél több jeles folyóiratcikk végén említik meg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ga a tudomány haszonélvezője a publikálás ösztönzésének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tudomány növekedés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ipotézis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(Derek de Solla Price): a tudományos ismeretek növekedése korrelál a publikációk számának a növekedésével. A  folyóiratcikkek számának növekedési ütemét a tudomány mindenkori színvonala határozza meg.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növekedés néhány mennyiségi jellemzőj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xponenciális növekedés 1665 óta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a több mint félmillió élő tudományos folyóirat van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növekedés kétszereződési ideje 5-15 év tudományterülettől függően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elektronikus dokumentumok növekedésének kétszereződési ideje 1-2 év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látható web tartalma 2,5 milliárd dokumentum, ami naponta 7,3 millió oldallal bővül (ez napi 0,1 terrabájttal növeli a meglévő 25-50 terrabájtnyi mennyiséget)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mély web tartalma mintegy 550 milliárd dokumentum, ami újabb napi mintegy 0,1 terrabájttal növeli a mély web mintegy 15 kbájtnyi mennyiségét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egyes tudományágak, tudományterületek növekedési üteme eltérő, országonként is.</a:t>
            </a:r>
            <a:r>
              <a:rPr b="0" lang="hu-HU" sz="16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udományos információ növekedésének mérés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68360" y="98064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Jellemző: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tudomány kortársisága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 kutató életében keletkezik az ismeretek 8/9-ed része, azaz 89,5%-a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inden valaha élt 9 kutató közül 8 kortársunk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tudomány növekedésének üteme: T ~ 15 év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 kutató aktív életkora: ~ 45 év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z ~ 3 kétszerezési idő = a tudományos ismeret 2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= 8-szorosára nő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növekedés hatása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kutatók információgyűjtési, rendszerezési és feldolgozási szokásaira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legfontosabb szakirodalom, a specifikus mag megismerhetősége, továbbadása összefoglaló munkák segítségével történi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re fontosabb a bibliográfiák, szemlék, online információs rendszerek, a gépi szelekciós szakirodalom-figyelés igénybevétel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ntos a legfrissebb összefoglaló munkák használata, bibliográfiák, szemlék, online információs rendszerek használata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 növekedés hatása a tudományos kutatói közösségre és az egyénre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Text Box 4"/>
          <p:cNvSpPr/>
          <p:nvPr/>
        </p:nvSpPr>
        <p:spPr>
          <a:xfrm flipV="1">
            <a:off x="324000" y="4653360"/>
            <a:ext cx="813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Dátum helye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F02-4A2F-445B-BC10-9250D5515A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os információáramlás növekedés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797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os információ hordozóinak számított kiadványok (szakirodalom) szaporodási sebességét a tudomány fejlődésének elért színvonala határozza meg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zakirodalom növekedése exponenciális (egyenlő idők alatt a mérete valamely fix faktorral szorzódik)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exponenciális növekedés egy ponton logisztikussá válik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ia számának helye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406B-D067-4CBF-8E9E-DBE3B385AE2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" descr="LOG"/>
          <p:cNvPicPr/>
          <p:nvPr/>
        </p:nvPicPr>
        <p:blipFill>
          <a:blip r:embed="rId2"/>
          <a:stretch/>
        </p:blipFill>
        <p:spPr>
          <a:xfrm>
            <a:off x="1219320" y="533520"/>
            <a:ext cx="7315200" cy="558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CB1E-551B-4BB9-B66F-CD0B27BBCA3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ankönyvekről szóló publikációk évenkénti alakulás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571" name="Object 9"/>
          <p:cNvGraphicFramePr/>
          <p:nvPr/>
        </p:nvGraphicFramePr>
        <p:xfrm>
          <a:off x="900000" y="1700280"/>
          <a:ext cx="7561440" cy="4332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700280"/>
                    <a:ext cx="756144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6BCF-A8CE-4846-880F-FE9CEA6867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zakirodalom elavulás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akirodalmi felezési idő: Az az időszak, amely alatt a felére csökken egy adott szakirodalmi műre történő hivatkozások szám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lezési idők jelentős szakterületi különbségeket mutatnak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világ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rmészettudományo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olyóirat irodalma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elévülésének felezési ideje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5,9 év.</a:t>
            </a:r>
            <a:r>
              <a:rPr b="0" lang="hu-HU" sz="2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jdonságeffektus: A fiatalabb cikkek több hivatkozást kapnak, mint amennyit tudományosságuk indokoln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Tematik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udománymetria, bibliometria alapelvei, törvényei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informetria fogalma és kapcsolódása a bibliometriához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bibliometriai vizsgálatok módszertan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udományos publikációk minőségi értékelésének alapelvei, módszertan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bibliometriai vizsgálatok helye a mai tudományos életbe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24000" y="126828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tudományos munka minőségét az értékelése és a tudományba való integrációja jelenti = jele az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dézé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folyóiratok presztizse és minősége korrelál  a  cikkeire  történő  hivatkozások számáva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szakmai színvonalat két mennyiségi adat jellemzi (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ugene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Garfield)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milyen mértékben hivatkoznak a folyóiratban megjelent közleményekre = </a:t>
            </a: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impact faktor </a:t>
            </a: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(hatástényező),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milyen gyorsan reagál a tudományos közvélemény a folyóiratokban megjelent publikációra = </a:t>
            </a: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frisseségi mutató</a:t>
            </a: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lyóirat  összidézetszáma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 =  egy  évben  az  általa  közzétett dolgozatok használatának vagy hatásának abszolút mértéke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hatástényező valamely folyóirat egy cikkének átlagos fajlagos  idézettségét  is mutatja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1975  óta  közli  az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SCI 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(Science  Citation  Index)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mellékleteként 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egjelenő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Journal Citation Reports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udományos folyóiratok minőségének mutatói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3D10-DAA8-4AF4-AD0B-AB5196211C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ézettség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00000" y="83664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dézettséget sokan a tudományos jelentőség mutatójának tartják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kt faktor: Folyóiratok cikkeinek idézettsége (a tárgyévben kapott idézetek száma a tárgyévet megelőző két évben megjelent cikkekre, osztva a két év alatt megjelent összes cikk számával). Az impakt faktor és a folyóirat tudományos jelentősége között szignifikáns pozitív korreláció van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issességi mutató: A folyóiratban megjelent cikkek reflexiójának a sebességét méri (a tárgyévben kapott idézetek száma osztva a tárgyévben megjelent cikkek számával)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érdések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az egyes folyóiratok milyen mértékben járulnak hozzá egy tudományterület szakirodalmához,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milyen a kapcsolat a folyóiratok és a cikkek között?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ipotézis: a  cikkek  folyóiratok  szerinti  eloszlása  hasonló  viselkedést  mutat  –  Samuel Climent Bradford (geofizikai és kenéselméleti cikkek bibliográfiája)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 legrelevánsabb  folyóiratokból  indulva  az  egymásra  következő  zónákban  található folyóiratok száma úgy aránylik egymáshoz, mint 1:n:n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 első  zónához  tartozó  folyóiratok az ún. magfolyóiratok az információknak mintegy harmadát szolgáltatják, a másik harmad a határterületekről származik, a harmadik harmad távolabbi folyóiratokban szóródik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681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ffffff"/>
                </a:solidFill>
                <a:latin typeface="Times New Roman"/>
              </a:rPr>
              <a:t>A tudományos szakirodalom szóródása – </a:t>
            </a:r>
            <a:br>
              <a:rPr sz="2900"/>
            </a:br>
            <a:r>
              <a:rPr b="1" lang="hu-HU" sz="2900" spc="-1" strike="noStrike">
                <a:solidFill>
                  <a:srgbClr val="ffffff"/>
                </a:solidFill>
                <a:latin typeface="Times New Roman"/>
              </a:rPr>
              <a:t>a tudomány egyetemessége (Bradford törvénye)</a:t>
            </a:r>
            <a:r>
              <a:rPr b="0" lang="hu-HU" sz="29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C76F-59A9-4A72-9699-F3C571DBCE0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dford törvény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55640" y="1824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y adott témáról szóló cikktermés három azonos nagyságú csoportra osztható úgy, hogy az azokat megjelentető folyóiratok száma a következő arányt mutatja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:  a  :  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z a-t általában 5-nek szokás venni.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első csoportot, a közlemények egy harmadát, tehát a legtöbb témában is jó publikációt megjelentető folyóiratok cikkei alkotják. Ezeket a folyóiratokat az adott téma magfolyóiratainak nevezik. A publikációk következő harmadát tartalmazó folyóiratok számát a magfolyóiratok és egy állandó (a) szorzata adja meg. A téma irodalmának utolsó harmada annyi folyóiratban található meg, mint a magfolyóiratok és az állandó (a) négyzetének szorzata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Dia számának helye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0D55-BAE8-4224-BE00-3002288AE18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7" name="Object 2"/>
          <p:cNvGraphicFramePr/>
          <p:nvPr/>
        </p:nvGraphicFramePr>
        <p:xfrm>
          <a:off x="1066680" y="1219320"/>
          <a:ext cx="7391520" cy="487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8" name="Object 2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19320"/>
                    <a:ext cx="73915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8AF7-3B5A-40D3-8D8D-A83318E9491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erzők és publikációk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168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de vonatkozó törvényt, amely a bibliometria első számszerű felfedezése, Alfred Lotka állította fel 1926-ban. Lotka képlete szerint a szerzők és publikációik viszonyára a fordított négyzetes eloszlás elve érvény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c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az x számú cikkben szereplő szerzők száma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= állandó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ideális értéke 2 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otka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(Alfred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törvénye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(Chemical Abstracts, 1907-1916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minimális teljesítményt nyújtó egycikkes szerzők részaránya 61%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étcikkes szerzők száma negyede az egycikkeseknek: 15,2%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háromcikkeseké pedig egykilencede: 6,75%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Lotka  törvénye  hasonlóságot mutat a jövedelem eloszlására vonatkozó  Paréto (V. I.) törvénnyel. Különbség, hogy egy életpálya alatt megírható közlemények száma felülről korláto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itől függ a kutatók produktivitása?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utató kvalitásától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területen eltöltött időtől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együttműködők számától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utatási terület sajátosságaitól, stb.</a:t>
            </a: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szerzők produktivitás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Dia számának helye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BF39-7F96-4751-9786-543BC402F82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" name="Object 2"/>
          <p:cNvGraphicFramePr/>
          <p:nvPr/>
        </p:nvGraphicFramePr>
        <p:xfrm>
          <a:off x="990720" y="838080"/>
          <a:ext cx="7543800" cy="48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838080"/>
                    <a:ext cx="7543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ársszerzők hatása az egyén produktivitásár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Newton: „ha valamivel is messzebbre láttam másoknál, ez csak azért volt, mert óriások vállain álltam”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Jellemző: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egy kutatói közösségben a kutatók többet produkálnak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nagyobb produktivitás általában magasabb minőséggel jár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Társszerzői multigráfok jellemzői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z információcsere legmagasabb foka az egyes kutatók közötti társszerzőség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társszerzőség dokumentált informális kommunikáció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részgráfok középpontjában a legkommunikatívabb szerzők foglalnak helyet, hozzájuk fut be a legtöbb információ,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legkommunikatívabb szerzők a legproduktívabb és legidézettebb szerzők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Price ezt a folyamatot tekinti a kis tudományból a nagy tudományba való átmenet legjellemzőbb tulajdonságának. Ma a társszerzők relatív aránya egyre nő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539200" y="60134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8389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2917-71CD-413B-A72B-387AB482746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rsch inde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egyes tudósok hatástényezőjének meghatározására rendelkezésre áll a h-index, vagy Hirsch-szám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zt az indexet nemrég Hirsch definiálta mint új, a tudományos tevékenység mérésére alkalmazható módszert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a egy tudós </a:t>
            </a:r>
            <a:r>
              <a:rPr b="0" i="1" lang="hu-HU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cikket publikált, és mindegyikre legkevesebb </a:t>
            </a:r>
            <a:r>
              <a:rPr b="0" i="1" lang="hu-HU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-szer hivatkoztak, akkor az ő h-indexe </a:t>
            </a:r>
            <a:r>
              <a:rPr b="0" i="1" lang="hu-HU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h-index inkább az egyén, és nem a folyóiratok hatását próbálja meghatározni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h-index a publikációk száma és a rájuk történt hivatkozások közötti egyensúly eredményeként jött létre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h-index az egyes tudósok hatását fejezi ki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A tárgy teljesítésének követelményei, évközi feladatok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egyes témákhoz megadott szakirodalom feldolgozása és ismertetés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dézettség-vizsgálatok elvégzése, az eredmény bemutatás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irsch Index kiszámítása az elvégzett idézettség-vizsgálatok alapjá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Folyóirat impakt faktorának kiszámítás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gyéb meghatározott mérések, vizsgálatok elvégzés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legtöbbet idézett folyóirat, illetve publikáció képviseli a legjobb minőséget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gfolyóiratok tartalmazzák a legrelevánsabb cikkeket, információkat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y adott terület szakcikkeit nem csupán az erre specializálódott folyóiratokban találjuk meg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y tudományterület bibliográfiája annál teljesebb, minél inkább figyelembe vesszük a határterületek irodalmát is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rdemes a kutatást a legfrissebb szakirodalommal kezdeni és a határterületek irodalmában is kutatni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utatásmódszerta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94920" y="1196640"/>
            <a:ext cx="849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tudományos cik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rodalomjegyzékének,  hivatkozásainak jellemzői: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hivatkozások azt jelzik, hogy minden tudományos eredmény szervesen kapcsolódik a korábbiakhoz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hivatkozások információátvitelt jelentenek, szálak, amelyek odakötik az új eredményt a korábbi tudományos ismeretanyaghoz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z idézett publikációk szerzői, címei és megjelenési helyei alapján megállapítható a publikáció tárgya, problémaköre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hivatkozások és az idézetek rendszere az a kód, amelynek segítségével a szerzők ismétlések nélkül, tömör közleményeket írna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ublikáció irodalomjegyzékében a szerző saját maga indexeli munkáját, mégpedig annál alaposabban, mennél bővebb az irodalomjegyzé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hivatkozások jellemzőek az egyes tudományterületekre: pl. a természettudományos cikkek átlagosan 15 hivatkozást tartalmazna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z indexelést a szerző végzi el, ő tudja legjobban, milyen források milyen gondolatait használta műve megalkotásához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8389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ézet, irodalomjegyzék, hivatkozáso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68360" y="83628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tiszteletadás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rokon témák eredményeinek elismerése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ódszerek, berendezések azonosít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lvasási háttér biztosít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 szerző saját munkájának helyesbítése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ások munkájának helyesbítése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rábbi munkák kritizál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állítások, érvek alátámaszt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figyelem felhívása elkövetkező munkákr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figyelem felhívása szűk körben terjesztett, vagy gyengén referált munkákr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datok, tények hitelességének alátámaszt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eredeti közlemény azonosít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ások munkájának kétségbevon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ioritási igények vitatása.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680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hivatkozás lehetséges indoka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17892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megjelent publikációknak kb. 25%-át idézik 10-szer, vagy ennél többször. A tudomány frontjában lévő publikációk ezek között a közlemények között található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 együttidézési  módszer alkalmas az egyes  szakterületeken  folyó természettudományos alapkutatási  tevékenység  fejlődési  gócainak  meghatározására,  időbeli  változásának nyomonkövetésér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üttidézés  =  2  vagy  több  publikáció  egy  későbbi  publikáció  irodalomjegyzékében egyszerre fordul elő, azokat együtt idézik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 együttidézett  publikációkat  jellemzi  egy  adott  időtartam  alatt megjelenő, az illető publikációkat együtt idéző közlemények darabszáma = együttidézési szám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Két  publikáció  akkor  is  bibliográfiai  kapcsolatba  kerül,  ha  egy  közös  harmadikra hivatkoznak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z hozzásegít az egyes szakterületek fejlődésének nyomon követéséhez.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gyüttidézé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24000" y="1341000"/>
            <a:ext cx="864216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Egy tudományterület eredményeit összefoglaló vagy összefoglaló jellegű cikkek rendszerezik és összegzik. Az ezeket közlő folyóiratok átlagos idézettsége meghaladja a csupán kutatási cikkeket közlő folyóiratokét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z SCI évi kb. 570.000 db forrástételéből kb. 30.000 összefoglaló cikk. A sokszor idézett, illetve együtt idézett cikkek halmazaiból nyert klaszterek a tudomány legforróbb pontjai, a kutatás legintenzívebben művelt területei. Az egyes évek eredményeinek összehasonlításából következtethetünk a változásokra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z Index to Scientific Reviews félévente kiadott kötetei összefoglaló és összefoglaló jellegű publikációk hivatkozási index rendszere, amely tartalmazza a legintenzívebben művelt kutatási tématerületek névjegyzékét, megadja az illető tárgyévben a témával kapcsolatban írt összefoglaló művek bibliográfiáját, továbbá kapcsolatuk erősségét az illető tématerülettel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tudomány legforróbb pontja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95280" y="907560"/>
            <a:ext cx="8362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legintenzívebben művelt tématerületek együttidézési klaszteranalízissel kiválogatott alapbibliográfiáit  képező  cikkeit  a  többdimenziós  skálázás alkalmazásával a síkban elhelyezve  egy  térképhez  jutunk,  ahol  a  közlemények  távolsága  jelzi  kapcsolatuk erősségét. Az origóba és környékére a sokoldalúan kapcsolt, alapvető fontosságú cikkek kerülnek.</a:t>
            </a:r>
            <a:r>
              <a:rPr b="0" lang="hu-H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téma irodalmának tanulmányozását célszerű az itt elhelyezkedő cikkekkel kezdeni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térképet tárgykör szerint összegyűjtve atlaszokba rendezik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Az atlasz tartalma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kutatási front megnevezése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rövid leírása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z alapvető közlemények klasztertérképe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bibliográfiai adatai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tárgyévben kapott idézetek száma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z alapbibliográfia cikkeiből a legtöbb közleményt idéző kulcs-cikkek listája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cikkben idézett alapcikkek száma.</a:t>
            </a:r>
            <a:r>
              <a:rPr b="0" lang="hu-HU" sz="13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680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udományos kutatás térképe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8389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agyarországi vizsgálatok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(1978 ót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első mérés Magyarországon –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8938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arton János: Magyar publikációk külföldi folyóiratokban. Bibliometriai vizsgálatok az élettudományok területén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KLTE TT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TA Szegedi Biológiai Központ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TA Központi Kémiai Kutatóintézete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TA Állatorvostudományi Kutatóintézet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Chinoin Gyógyszer- és Vegyészeti Termékek Gyára Rt. 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a teljesen általános az egyetemeken, az MTA-nál az álláspályázatoknál, és tudományos fokozatok odaítéléséné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TM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tudománymetria Magyarországon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izsgálato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468000" y="980640"/>
            <a:ext cx="8218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ffff"/>
                </a:solidFill>
                <a:latin typeface="Times New Roman"/>
              </a:rPr>
              <a:t>Folyóiratkiadás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Times New Roman"/>
              </a:rPr>
              <a:t>Scientometrics:</a:t>
            </a: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An International Journal for all Quantitative Aspects of the Science of</a:t>
            </a: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cience, Communication in Science and Science Policy</a:t>
            </a: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 / főszerk. Braun Tibor. Kiadja az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 Akadémiai Kiadó és a Springer Verlag</a:t>
            </a: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. – 1978-tól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z angol nyelvű folyóirat a téma vezető folyóirata a világon, több szerkesztője magyar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nyagi okokból megszűnt folyóiratok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Kutatás-Fejlesztés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Tudományszervezési Tájékoztató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Impakt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Élő folyóirat tudománymetriai profillal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Times New Roman"/>
              </a:rPr>
              <a:t>Magyar Tudomány</a:t>
            </a: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Magyarországon rendszeresen és nemzetközi színvonalon művelő öt-hat kutató cikkeit elsősorban nemzetközi folyóiratokban közlik, amelynek alapján hazánk a világ első tíz országa között szerepel az informatikai és könyvtártudományi kutatások területén.</a:t>
            </a:r>
            <a:r>
              <a:rPr b="0" lang="hu-HU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2440" y="0"/>
            <a:ext cx="76802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tudománymetria Magyarországon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iadványo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selőadás témák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udományos közleményekkel szembeni elvárások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informetria fogalma és szerepe a tájékoztatásba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Hirsch-index, G-index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impakt faktor szerepe és ellentmondásai a mai tudományos világba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b5740b"/>
                </a:solidFill>
                <a:uFillTx/>
                <a:latin typeface="Arial"/>
                <a:hlinkClick r:id="rId2"/>
              </a:rPr>
              <a:t>www.scimagojr.com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bemutatás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igenfactor és Article influence (</a:t>
            </a:r>
            <a:r>
              <a:rPr b="0" lang="hu-HU" sz="1800" spc="-1" strike="noStrike" u="sng">
                <a:solidFill>
                  <a:srgbClr val="b5740b"/>
                </a:solidFill>
                <a:uFillTx/>
                <a:latin typeface="Arial"/>
                <a:hlinkClick r:id="rId3"/>
              </a:rPr>
              <a:t>www.eigenfactor.org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Google Tudós bemutatása és értékelés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MTMT bemutatása és értékelés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Tudomány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gazolt ismeretek rendszer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ós tárgya va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z ismeretek megszerzésére és igazolására módszereket alakít ki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örténetileg változik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eri közösségek tudatában é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z emberiségnek a való világról módszeres úton szerzett, igazolt ismereteinek logikus rendszere, a történeti fejlődés adott foká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611280" y="1052280"/>
            <a:ext cx="8075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: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agi ráfordítás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nkaerő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alkalmazott kísérleti berendezések értéke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elhasznált vegyszerek mennyisége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lhasznált számítógépidő, stb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: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eredmény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575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apkutatásnál a rögzített tudományos ismeret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575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jlesztésnél a termék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nput és az output minden tényezőjéhez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őségi és mennyiségi jellemzők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artoznak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unkaerő nyelvtudása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özlemények megjelenési helye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yelve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eruházás amortizációja, stb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os tevékenység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os kutatás eszközrendszer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1360" indent="0" algn="just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 algn="just">
              <a:lnSpc>
                <a:spcPct val="100000"/>
              </a:lnSpc>
              <a:spcBef>
                <a:spcPts val="400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iss, naprakész ismeretek a világban keletkezett régi és új tudományos információkról,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lnSpc>
                <a:spcPct val="6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hetőség az együttműködésre, vitára,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lnSpc>
                <a:spcPct val="6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zközök, berendezések,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7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 tudományos közösség leglényegesebb tulajdonsága az interaktivitás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tudományos kutatás, mint információs, kommunikációs rendszer folyamata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kutatás → láthatatlan kollégium: kongresszusok, levelezés, preprintek → tudományos cikk megírása  →folyóirat  szerkesztőség → bírálat,  értékelés → módosítás: végleges  cikk → szerkesztőség →  a cikk megjelenése → terjesztés → értékelés, bírálat → a cikk/kutató tudományos eredményének  befogadása: idézet, bírálat, vita → újabb eredmény.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folyamat jellemzői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udományos közösségben folyik minden tevékenység:  kutatás,  terjesztés,  értékelés,  elismerés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értékelés a kutató társaktól és a szakértőktől függ, akik egyben versenytársak, jellemző a kritikai légkör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csak az eredetiséget értékeli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kkor válik valaki tulajdonává az általa létrehozott szellemi termék, vagyon, ha közreadja azt, csak a publikálással kerül törvényesen elismert birtokába a tudósnak a saját felfedezése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KOMMUNIKÁCIÓ A TUDOMÁNY LÉNYEG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08:06:35Z</dcterms:created>
  <dc:creator>user</dc:creator>
  <dc:description/>
  <dc:language>en-US</dc:language>
  <cp:lastModifiedBy>vkati</cp:lastModifiedBy>
  <dcterms:modified xsi:type="dcterms:W3CDTF">2013-02-12T10:51:24Z</dcterms:modified>
  <cp:revision>122</cp:revision>
  <dc:subject/>
  <dc:title>TUDOMÁNYMETRIA – POWERPOINT</dc:title>
</cp:coreProperties>
</file>